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BADC-15B9-4C2F-93BF-CC3EF9BF3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1C17-82E7-483E-AD4C-8D7B53D76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3AFA-F6FA-4329-AF2D-6807ACDB7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CC8F-BB20-43CB-9757-D15DFB380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0FF7-CB63-4C80-ACD7-9B7A9822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955BF-8D78-4CD9-B8A2-8B3A1A53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3BC86-4E32-42BC-90F8-20DC18AB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D0EC6-9CD3-478C-8936-75901A1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4621D-C53F-415E-83ED-BB29637D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D620-2746-4D7B-8983-7EDD6303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36582-4A71-4078-A4F6-3583591D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D5B2-DCB7-4665-A8A4-6432FC032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F2EF9-5754-4175-BA5F-58DC5DBA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46AC5-23CE-452F-87E4-DE08DBC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BFFD-8205-4ACB-BA83-3A48B80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26F88-AB5D-4FFD-BA1F-343E6BE3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5A58-6DC0-4C3F-9EE7-C0283A6D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B11B-293C-48D9-8A50-C98A0B3A6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2DBE-2C59-4807-97D9-98A1D3DE9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67EC-32B1-41FB-ABA6-525CEDDE3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3FEE-1157-429F-AA2E-3BCA2354A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1B0C-93B0-43A6-9194-5A20A6B7E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8746-5A5C-45AF-BB01-266E5BF7B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7621-9FB3-4409-955C-552E76432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E875-BE64-416F-9FBE-EA12DFEFA91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7CFE-E005-4DB8-B0C2-2B29C4008C02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74A6-C8BE-4DAC-9BCC-D0642F32DE1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741C-6266-44DB-B202-45DA3A8521D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Histó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D99-B5CA-46D1-981C-FD951A43552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D8A4-EB09-46F0-AFD9-5726B578AA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EE2-55D7-44B5-854D-71761D0411E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F313-F211-4F52-A470-53EBEF4BE72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D874-D181-43E2-8A1A-469444C648A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729-047E-432A-B869-D35F8BCCAAA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234B-493F-4C9F-AFE6-D14B3DF5FB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85C-FCAE-4F87-BD57-CBADADE8C63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F44C-0A93-4317-8551-F6CA69A634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iva (si influ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as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Tecnolog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a M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r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7FE-2DB7-427B-A987-E10A98A61D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E7C7-A4A8-498D-BF9F-AC8E2BA2268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EB85-6033-4341-8DD8-C57373DAAB0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A5A0-2B59-4E6A-9688-457018DC677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72BB-5C7D-443E-B12F-FCA3B6D1077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4BED-7169-4F65-8FFC-D39F2D355C0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E70-9833-43B1-9655-C5C18F7E5C8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sidera errores con distribución n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 desv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B2C7-9400-4F4D-BEF6-4565211AEBA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24D1-304E-412E-93EB-D5C2E2A189E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DE05-96E7-47FE-9B06-D0ABF0F4D78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461F-617D-409D-A791-D947A436D56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0A73-7EE5-425F-B649-6934FF0D4EB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2A0-B8FB-4583-9B52-18422A58A97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A76-B49D-482F-8167-45587023123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CE20-AE41-40D7-9F9B-09F16D8DC66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8CC5-FF89-446C-998B-4103A071622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22DE-D7BE-4B0A-9FB4-76D4678ECDF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53C0-AD30-40BB-B740-DCC9B44EECF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22EF-25AE-48C5-8538-C317F18462C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1AF-C02A-4E98-A1CB-DF0BCB089DC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37B9-A30F-4484-A71E-0B66E176119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5AA-576F-4F4E-BA75-EAC42C05513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, Modelos Causales y Simul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6A7F-DFE1-4A75-9F24-E2851921DBC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F38A-1F72-413C-975E-55434AB5599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6E5-4744-4903-9977-30AFCF254C3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82B-6715-40EB-A077-81DBE5869F6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Maritza</cp:lastModifiedBy>
  <cp:lastPrinted>2002-03-21T07:38:08Z</cp:lastPrinted>
  <dcterms:modified xsi:type="dcterms:W3CDTF">2010-08-30T19:01:03Z</dcterms:modified>
  <cp:revision>163</cp:revision>
  <dc:subject/>
  <dc:title>Comercio Electrónico</dc:title>
</cp:coreProperties>
</file>