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26D6-3577-4DB2-96D0-F1FE5ED1A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12A6-CE64-4C72-A8D9-7F2900188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44E4-21D6-432B-8D6F-796A5B6EA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76FEE-1313-411E-9766-3FC29ED3C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85BC-80C6-4304-8AD7-9180235E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D222C-143B-4DA1-ABAA-694A866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E3E0-941E-44C8-ACC9-681A400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18958-449D-406A-8769-5C57FAB0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1BE84-DBC0-4B84-98C6-CB2C65FB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1AE1-58EF-44EB-BA8F-39BEB47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26FE9-60D7-498F-8989-DC20F9C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2872-F266-42B1-A8D9-917D04FC5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2941-A04E-4D59-835E-F4FF7C4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619BD-24D4-423A-AA7B-FDD8EE7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6156-FF80-485C-BF48-C2F0C46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B10A0-35CE-4AAE-995A-F708505A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B1D5C-48E4-4323-B73D-B5316114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085A-BEA8-472F-B250-BD55847EB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7388-30C1-4551-9B9C-824EBD68F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D118-EC65-40B0-8BA5-5022EB93A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B9AB-883B-4DEF-B821-DE4D3639E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237A-187A-4F53-BA91-86F8DDB53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93F9-8B8D-4497-9FA8-E8C7C5EA7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DD8D-A951-41FD-B732-67ACD1F15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A7E8-8B5F-4F5F-B7A9-9CEA1E9E702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498-3E8E-4FC0-BFF7-5D6FC68BD915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05B-75FB-4D99-9528-4FE6DBF9E1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E5F-1C31-4267-AB9F-DA7B17616D0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Histó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53C-2677-4723-A7C2-91DF5B134F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1C5-275B-496C-B0BB-03610A7EDF7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0A3-2957-4A34-ACFE-91740EBA78C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C30-8220-4D0F-B3CC-ABC231DD5C0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26F-0CA7-413C-99F2-7E86FFD4BC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ACCE-16E9-4AB9-9584-F14E7FAA48D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1B0-3384-4384-B618-DA3ACF1E94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9905-4D8E-4381-91A1-A1099117E8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BA7E-D47E-4F05-9CDA-831071390C6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iva (si influ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as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Tecnolog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a M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357E-E228-4B8B-BA57-963CF21A3B8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8A17-C063-4E89-A23F-901C5F8F9F2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B45-BA56-4C51-A43A-ECE31DD506E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848-4BAA-4204-975F-0C6161ABE5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C471-7D3E-41AF-9CE1-09107C3CAA4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8C5-D3AC-4397-B6F0-508CA8B9A60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306-E49B-4079-830D-8A58B3AE95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sidera errores con distribución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 desv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68D-7B0F-49AD-9323-9B6132AC7F9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13C-9C4E-44B0-B82D-33867BF11CF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A64C-68BB-4738-A74F-9B90B038835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3CA1-161B-4FA1-A865-1D129B32EB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F84F-FF4E-45F1-B6CB-52A99446CB0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FAC-AC22-4CB9-88BD-464A37336B7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840F-F0AD-462E-BB2D-B374604259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E81B-B5CA-4118-B870-EC9DE91D032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718-D7B2-4236-9534-7C4F0FF64FC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97AA-BA7A-4DB2-AFDF-49FE234AD3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B3A-AD73-4BAD-ADC7-5BC0156F04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3A1-16AF-40F4-9551-14BAAEC255F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573-E493-479E-AA05-17631566226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4A28-8DE7-4FBB-A190-0EBDD4568D4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64EA-58FC-49C8-B90B-A49D57C9B35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, Modelos Causales y Simu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542D-B57E-49B3-A505-D40F53C07C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25B3-728C-4F37-A70F-829DFF336F5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EDD2-FFC0-42F9-AC19-B58E86AE7A7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D4A-F0FA-43B2-81CE-3DDFB66E9A8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2-03-21T07:38:08Z</cp:lastPrinted>
  <dcterms:modified xsi:type="dcterms:W3CDTF">2010-08-30T19:01:03Z</dcterms:modified>
  <cp:revision>163</cp:revision>
  <dc:subject/>
  <dc:title>Comercio Electrónico</dc:title>
</cp:coreProperties>
</file>