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39D1-6DF4-468C-9A81-1280E0879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EA37-3173-4682-A844-214709245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AB8A-ABFB-47D0-B143-0390B3DEB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E361-8619-4FE8-8EB5-2238B0BA6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7D638-7B12-4304-97A9-26774711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7331-27D4-4D5F-A40F-6664502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AA823-878B-4204-814A-AC1CDF58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45C24-75AA-40FF-9D94-D1D67DC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C759-8E61-42FF-AA05-0188F5DC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47027-EA1F-476B-9569-6390A84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7A84B-BD8A-4B00-BFA2-B7F9E5F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5BB4-D5D8-4A5C-B48C-DA4D4CA51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252AD-D87E-4F3D-83B8-31D57269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31BE4-A0DA-409C-94C6-8FA11B3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15490-0A35-42C7-AD5E-A9817A66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91CF-A955-497A-9DB3-10FAB905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E96D5-DBBF-4DCA-B6B2-3CF92C4D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B4DE-9900-4F1D-B181-E05F255CF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6AAA-D908-4FBB-A810-8B50C6A9C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A9A0-298E-4E71-8750-FBD35C7DC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2718-4741-433B-B7FA-EA36B0D7D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BC61-7688-4717-8CDD-134BDBD7D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BCBA-BC13-4B1A-BD87-5B3AA8098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60F9-1C10-4274-98FC-94706E31E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35B1-267D-4C46-9130-FD0C11B8A2C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1: La Función de Operaciones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9C3-6CDD-4F78-B4EF-F8209093AEFF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: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7453-F2C9-48FF-AEF6-16D29569EE5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5C5-AA26-457C-8946-D040683834E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Histór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05E-B266-4562-9562-044FEAE58B7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H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50F9-AF26-4160-A486-6595B45D965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3A9-D736-4300-AD97-F01BDBBC02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3D43-EEBF-4972-B023-BF4661B5723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048-D538-44AA-AD7C-C63D0BF418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22BE-E5EF-43BF-B0A3-78C2316475B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6D9-EDF6-4D0B-A966-CF910BBA91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BEF-B9EB-4187-A4DC-E24B92D9304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1981080" y="3200400"/>
                <a:ext cx="38862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7917-64FA-44B2-9519-5FFC24D263E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relev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iva (si influ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as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Tecnolog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a M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88CF-8B73-43D7-9CDD-4C57A1DBC7B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AC6E-8B10-4BC6-B337-BFABDEB688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240-5322-451A-A5FE-3717C75088C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71A9-C427-4EA1-AE6C-DE8B2B2F08F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79FD-9600-4ACF-8A7C-63A100AD6DD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252C-190E-4882-BC09-F97EA862AB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2E8F-A41C-4A89-B83E-87974D819BB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sidera errores con distribución n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 desv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518-AE8A-45C0-A2BE-55EA328DA06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ajusta    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|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| &gt; 3,75xMA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res desviaciones standard), entonces existen sospechas de valor extre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un enfoque aproximado      corresponde a 1,25xMAD, para una función norm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581280" y="321300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486400" y="424188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29E9-F2BA-491E-8D76-E1AD3DB732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0ED-AE29-4D5E-90A7-37A0D0F756E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E52-5AA0-4AD5-B7A9-CAC47E2CB81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DE15-82BD-4D65-9751-5D789577049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1293-4102-4CC1-9B92-AFF241D0C3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ABE-5A9A-4CFB-86E2-5D9EE38A200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2F3D-316C-42AF-8D5E-BFC3D9D271C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C92-EF1A-40E7-A690-AB3CE2D7E75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5393-C094-4B7F-988F-9508291F99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8572-12B0-4A67-B1EA-DB986122E00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Modelos de Insumo (Leontieff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ben el flujo de un sector de la economía a otro para predecir los insumos que se necesitan para producir los productos que requiere otro sec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costo muy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 exact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ébile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de la construcción afectan las de cem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8A4-0901-4E09-ABE1-E0E6729C474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CA59-46AD-4363-8AB8-7BBFCCCDD4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x-Jenkins es una serie de tiempo autocorrelacionada que exige 60 datos (60 mes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04AB-AD04-494B-8E53-26C8A731053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A8A2-0A78-4E17-A54C-2AD8C6D98BC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, Modelos Causales y Simul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EFC-E002-4582-8798-786E75E10DD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EE01-5609-429B-9A56-702744E126D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F23-7F11-455B-996A-3A7CEC0DAB5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ABD8-EF36-4132-B816-BF360262E90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Maritza</cp:lastModifiedBy>
  <cp:lastPrinted>2002-03-21T07:38:08Z</cp:lastPrinted>
  <dcterms:modified xsi:type="dcterms:W3CDTF">2010-08-30T19:01:03Z</dcterms:modified>
  <cp:revision>163</cp:revision>
  <dc:subject/>
  <dc:title>Comercio Electrónico</dc:title>
</cp:coreProperties>
</file>