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F9FD-F67F-4E94-8D03-EBE05C9B2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4878-43EE-4FAA-8155-B2793563E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0455-B700-4712-BDB3-BC74CAE26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F0AF-FA87-4C33-B4AE-F41F3FC3D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143D3-7869-4792-8416-E1B0327A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211B6-C36A-4B48-A8EF-848920CB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13C27-29D2-4781-A6E1-98A44394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FCA0A-BA5D-43A0-8562-4769D8AC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224C2-C507-4BE7-A951-04765629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F57CF-BAE2-48B2-820A-0809014B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A5D96-3472-4928-B076-C84AF15A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07E6-3403-4C3F-9EEF-F965455BD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2C836-1F85-49C7-98A7-B533893E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B6AAC-21C7-4910-9A5E-EBDCFBA0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62DC5-7148-497F-B6D0-520447DB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04CB0-3B64-420F-B662-8711EDDC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A9CD0-5EA8-4EF5-8AAC-7C935C7C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7212-153B-4AF3-A25E-1437AB6CF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DFC6-9E6A-4E0C-A6F6-D6BC9CDD6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5BB4-99EC-4566-8DB6-823C31DE9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03CB-3D42-4047-82F6-7A86215D1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B198-E118-49F2-BBDA-4B2C291E7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055D-F383-444C-B4AA-0F3707CDF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C05E-D755-4E0F-A8B3-E7AC57EC1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7D81-9B84-4DD1-925A-10748E8A30B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E79D-FAED-49E1-9E97-6796D98DAC6C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: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205D-3853-48C4-A153-C53EE84E992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7D7E-BB3C-445A-B0DC-C0EE7EE2571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Histó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0840-46C4-4B5F-868D-95F2F332087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H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4371-C5C4-47F7-AA2D-D4F32523FAE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6A3B-2E04-4557-B0C6-D463C5FF4B7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A1AE-EF89-4445-A9E0-F00FB91AF5E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5B8E-4FF2-4CE3-8246-311A1F8C7CE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52AD-AFC7-4BFB-B0D7-7E7F82219E9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09F8-EC31-454C-97CC-4D26A71194B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7834-A064-4ABC-B8C0-36B571EEFF1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981080" y="3200400"/>
                <a:ext cx="38862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531-F2F7-46A0-B213-6DF8633E9A9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relev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iva (si influy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as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s Tecnolog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a M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r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4E24-B8CC-4310-B577-C8EC5A0C802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86A2-66FE-47C4-A545-010C9104E81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4CB0-6452-4591-AFD3-8C02DE4AC5A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7E96-CC81-4EAD-B9BA-54E4164C9F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0773-60B3-4C75-B128-34D96B4F5EA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92C6-227C-482D-83E7-4A660BECC16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9B0C-043D-479F-8FAD-C81FF8C8E90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sidera errores con distribución norm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 desv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6200-E39B-4F6F-8B71-1E95E3C0E68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ajusta    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|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| &gt; 3,75xMA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res desviaciones standard), entonces existen sospechas de valor extre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un enfoque aproximado      corresponde a 1,25xMAD, para una función norm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581280" y="321300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486400" y="4241880"/>
                <a:ext cx="304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AEFD-93EC-4D32-AB79-2B4326FA3EC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27C8-F64A-46F1-8686-9AA5BD3832E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0FE3-2B68-419F-8198-33102749C1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3221-C59F-4D6F-A311-696535E5333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6990-27EB-477C-925D-9EF5FB46FBD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973E-5F9F-473E-B609-68D29373685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ABD9-F777-4EA5-BEA6-7A26B2EB1A8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CAEA-8A45-4581-B748-2EAA31C6BD7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527-FB9B-4978-B96E-C7734DEB90D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D8E2-E54A-42B7-BB5B-BA36B2082C9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Modelos de Insumo (Leontieff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ben el flujo de un sector de la economía a otro para predecir los insumos que se necesitan para producir los productos que requiere otro s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costo muy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 exactit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ébile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de la construcción afectan las de cem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E685-CE16-444F-B115-0D218D65F6F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DD2-F5B3-41BE-935A-8DA53D8F622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x-Jenkins es una serie de tiempo autocorrelacionada que exige 60 datos (60 mes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2C69-EC2F-480E-BBD9-CA33C5491AA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D964-44D5-4EDD-A848-6DC8175F413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, Modelos Causales y Simul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883F-3EF5-4340-B376-01864166BF2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13A4-BA2B-48B5-8517-4DCC92BFD71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D18D-97CB-470B-B322-45050E7EB52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F2A0-E68C-4708-8B4E-4015603F9C4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Maritza</cp:lastModifiedBy>
  <cp:lastPrinted>2002-03-21T07:38:08Z</cp:lastPrinted>
  <dcterms:modified xsi:type="dcterms:W3CDTF">2010-08-30T19:01:03Z</dcterms:modified>
  <cp:revision>163</cp:revision>
  <dc:subject/>
  <dc:title>Comercio Electrónico</dc:title>
</cp:coreProperties>
</file>