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BFB99-F703-4FDC-B5D6-90388B8E2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15B6-A344-4A8D-91F1-76AC637C4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974F9-8CAA-4355-B9D5-711BD0096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AEB4-49AC-4001-AF58-BCEC0B037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E93BD-23D7-4FA7-A450-768617E9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549B1-FF98-4EC2-9065-2B5BF198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807F6-9B7D-4865-939E-28579246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D0BA7-2BD4-43F1-B2AB-54574747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1E364-6EC8-4609-9094-ECE5EB72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25454-40CF-47F9-B510-3A9998DA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E251A-ED94-4326-9CD9-AEA5D456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F332-A4CC-4ADE-9E36-E235483B9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AB912-9F0F-4CA8-AD76-3355FCDD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A8E39-E8F5-4AD2-BC26-9F33A35C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E7D60-4D81-4F15-A253-88BC4527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23B02-0498-477B-A897-E5B537F3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FCEA9-8AAC-461D-820D-82209996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2428-4700-4061-9A43-A63C1B898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84A7C-01F8-4A9F-BF09-164E7F46A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8A19E-4D4B-4105-9025-9AA8D9D66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8AAC-E5DF-4361-895F-6F1D4D95C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2B12-2130-476F-A042-C070C4778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6B81-FF1B-401B-9EA0-AD8EE8D24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954C-3948-4F38-8772-6E263CB70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2696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6868-BAFD-4FA8-8CB5-90FFBC90A71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9F73-F030-4A49-A7A1-4F548EC542A1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720E7-9623-455E-A46B-EC1F20517B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CAF44-2A2C-40DD-926D-A256754EA7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DD95E-B3E9-47C1-956D-A62B0B6D12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0392-1A64-47B1-A15D-702F51B629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81EE-0864-4B97-83DE-31456B758E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5BAFC-1832-4A63-ADD2-2BE633F65E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43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B3E4-969A-4D63-A02F-0508CB1828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 de la relación entre los distintos niveles: Fábrica de Zap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a acce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an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se hace mañana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necesario que exista consistencia ent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757B-1104-4D71-81F8-744810B5D3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F2FF-31C4-4C99-998A-DC64806FBA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7AC0-1EE6-4D0C-A67A-61FA92C4C9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7CB8-4974-4A82-8E53-327904AD27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Comida Rápida        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2C24-4054-4E62-A95B-7FCDD17201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338D-0861-4B0D-8F07-D792D145EE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que tener en cuenta que 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962E-5CC3-4079-BFE2-7E526054A1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1E03-44BA-45BB-BAAA-C02FE09F23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y en algunos casos a nivel de toda la cadena de agregación de val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20E2-3DA3-4D57-B7CB-5A93914368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08E04-54EF-4213-89AA-B4552A0740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1382-83E9-40BE-A2DD-70A5FBD102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2269-FFE6-43AE-93F6-B9DF15E85B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ti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$100.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B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8% con probabilidad 0.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 con probabilidad 0.5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% con probabilidad 0.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maximizar el retorno esperado, elegir B (10,2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riesgo, elegir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305A-8C1E-4E25-9B0A-6C7976C735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o estaría dispuesto a pagar por información adicional (IPC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ólo vale si se nos dice 8%, me cambio de B a A con una ganancia de $2.000 con probabilidad 0.2, es decir con un valor de $400 (2.000*0.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formación sólo vale en la medida que mejo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75C9-3A21-47A7-9776-A4056EDFFA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F2AF-AECB-40C9-9FCD-EC09EE4B7B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artesanal de comienzos de sig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en línea (Ford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ser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flex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digma hasta 197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CC13-9B7D-4505-8126-C19989A428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B136-DAA0-4B4C-BC98-7D0D094396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en la 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 en la respue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muchos casos uso de Sistemas Computacionales y 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B628-9AC3-464D-ACAE-2C2C14B0FF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aradigmas de Ho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8F02-E63C-412E-ADBF-51F25740B7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eva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cada vez un componente más importante de la econom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 negocio tiene componentes de SERVICIO  y componentes MANUFACTURERAS (pocas excepcion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ONTINUO DE LAS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05120" y="5029200"/>
            <a:ext cx="6618600" cy="1069200"/>
            <a:chOff x="1905120" y="5029200"/>
            <a:chExt cx="6618600" cy="1069200"/>
          </a:xfrm>
        </p:grpSpPr>
        <p:sp>
          <p:nvSpPr>
            <p:cNvPr id="121" name=""/>
            <p:cNvSpPr/>
            <p:nvPr/>
          </p:nvSpPr>
          <p:spPr>
            <a:xfrm>
              <a:off x="1905120" y="502920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Manufactura P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5800" y="502920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ervicios Pu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21240" y="5638680"/>
              <a:ext cx="30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Operaciones Mix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562720"/>
              <a:ext cx="6324120" cy="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27433-B431-4AE5-97D1-2890DB4CE9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liente es parte integral del proceso de negocios (Una radio se puede fabricar sin el cliente, en cambio un corte de pelo no se puede realizar sin és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intang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se pueden almacen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cupan una dimensión temporal: Se producen en el mismo momento en que se entregan a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elen ser más intensivos en mano de o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8A249-58E6-49F7-A7F7-AEE4DABBD3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dii</cp:lastModifiedBy>
  <cp:lastPrinted>2001-04-12T20:51:56Z</cp:lastPrinted>
  <dcterms:modified xsi:type="dcterms:W3CDTF">2004-03-08T15:30:05Z</dcterms:modified>
  <cp:revision>155</cp:revision>
  <dc:subject/>
  <dc:title>Comercio Electrónico</dc:title>
</cp:coreProperties>
</file>