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E0739-B4E6-4A03-97C6-67B869B19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BFED-0812-4966-A7F0-51C3A7455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C86C-D959-414E-98FB-AC3E731D29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B4F97-4CCF-49B6-92E9-7EF1310D5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56E80-7BE2-4906-A758-DDC2A92F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EC63B-5A48-4281-9E06-E84C1820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EA2DB-DA8F-4D78-A7D6-E1EC0A8B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E1F3FF-3522-4C02-9C62-AC8714FA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D1A75-FAA3-4A14-B613-FE3F62D7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D68A5-9F75-4AFE-98EB-253EEFBC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4A177-F068-48AB-97BB-974537F3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3D09-F902-428E-9A0A-ABF8A100A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8CD6D-1F97-4B6A-9BBD-E007C866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024E1-EC8D-45DD-99EC-99D4A95F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81B92-ADBB-448C-9EED-0CE25DA1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48720-673D-4469-9F2B-03F242365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15381-937D-4954-AA31-76F36559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60974-B31C-4AAE-8D48-08B5AD9F8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04EC-9C85-4F91-A662-FDF6DE2F6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CFFB-9AED-4CBF-88AE-03833BB92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347A-6DEE-41DC-86E2-A25BE03B7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D6EE-F581-42F9-9392-38277BC1F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EEB4-318A-49C1-97CE-66DC98425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3189-A82F-4D32-BABE-62E4B28F6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926960" y="6276600"/>
            <a:ext cx="3733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B028-B76D-4C39-A7B2-40EE7F3A1D27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7294-DD28-496F-BC0C-F2B76D094B74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342900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: La Función de Oper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blecer políticas administrativas y desarrollar recursos necesarios para satisfacer requerimientos consistentes con metas específ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nir metas, recursos necesarios y políticas básicas para el éx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 para asegurar la obtención y uso  eficiente de recursos para cumplir o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ción agregada (anual), decisiones de producción, personal, inventario, marketing, finanza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7D7D6-03D6-4D74-9BAD-21DD934FF8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lacionadas a tareas específicas, a lo que se hace día a d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4B64B-E4F2-4DE7-8E77-67D426C50A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6201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9BB97-0EB9-4C71-9BBF-D32AB6594C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conceptos de largo, mediano y corto plazo son relativos al período que toma cada ciclo del negocio. La magnitud de éstos cambia según la indust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Forest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Electrónica de Consum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dustria de Retail (Supermercados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factor “Incertidumbre” está presente en toda decisión y puede llegar a ser muy importante. Además varía según el nivel de decis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D7BD8-661C-44DD-A2E0-B095DC4E6C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estratég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tipo de electrodomésticos fabricaremos y comercializaremo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Dónde ubicaremos nuestros restaurant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tác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roducir en los próximos 12 meses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 personal contrataremos para la temporada de ventas alta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a materia prima importada necesitamos para el próximo perío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B7A0-5E24-469F-915C-EABCC99DEF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l es el número de camiones necesarios para transportar fruta en la siguiente temporad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siones operativ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ignación de trabajos a maquinaria en fábricas (¿Qué hacer, y en qué máquinas, las próximas 2 horas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edidos de repuestos y materias pri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vehículos (¿Qué camiones despachamos durante la próxima hora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gramación diaria de producción de leche y queso en una planta (¿Cuánto producir hoy?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C94F-7C2D-4666-B15F-22562AA66D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gregación y desagregación de información y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600" y="3047760"/>
            <a:ext cx="7229160" cy="2925720"/>
            <a:chOff x="1371600" y="3047760"/>
            <a:chExt cx="7229160" cy="2925720"/>
          </a:xfrm>
        </p:grpSpPr>
        <p:grpSp>
          <p:nvGrpSpPr>
            <p:cNvPr id="143" name=""/>
            <p:cNvGrpSpPr/>
            <p:nvPr/>
          </p:nvGrpSpPr>
          <p:grpSpPr>
            <a:xfrm>
              <a:off x="1846080" y="3047760"/>
              <a:ext cx="6308640" cy="2925720"/>
              <a:chOff x="1846080" y="3047760"/>
              <a:chExt cx="6308640" cy="29257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4131720" y="3048120"/>
                <a:ext cx="1554120" cy="2651040"/>
                <a:chOff x="4131720" y="3048120"/>
                <a:chExt cx="1554120" cy="26510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131720" y="304812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ESTRATEG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131720" y="405360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TACTIC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31720" y="5059440"/>
                  <a:ext cx="155412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Tahoma"/>
                    </a:rPr>
                    <a:t>NIVEL OPERATIV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497120" y="36874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497120" y="469332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320080" y="368784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320080" y="4693680"/>
                  <a:ext cx="0" cy="36540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2302920" y="323064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Larg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302920" y="405360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Median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302920" y="5242320"/>
                <a:ext cx="146268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orto Plaz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76012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76012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876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0876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60520" y="3048120"/>
                <a:ext cx="182844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Objetiv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Cliente - Produc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3400" y="4053600"/>
                <a:ext cx="1554120" cy="63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Uso Eficiente de Recurs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9080" y="5059440"/>
                <a:ext cx="2102760" cy="9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600" spc="-1" strike="noStrike">
                    <a:solidFill>
                      <a:srgbClr val="000000"/>
                    </a:solidFill>
                    <a:latin typeface="Tahoma"/>
                  </a:rPr>
                  <a:t>Acciones sobre recursos, productos y agent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6417360" y="36874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417360" y="469332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240320" y="368784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240320" y="4693680"/>
                <a:ext cx="0" cy="36540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1846080" y="3047760"/>
                <a:ext cx="0" cy="274284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154720" y="3048120"/>
                <a:ext cx="0" cy="26514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 rot="16200000">
              <a:off x="655920" y="4259520"/>
              <a:ext cx="179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INFORMAC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18000">
              <a:off x="7787160" y="4188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Tahoma"/>
                </a:rPr>
                <a:t>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EFBEE-1F19-4FF8-8F31-99FE3F4305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Niveles de 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 de la relación entre los distintos niveles: Fábrica de Zap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Estratég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a acce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acidad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Táct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an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ivel Operativ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se hace mañana.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necesario que exista consistencia ent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AB68A-27B0-447E-B66D-60F0EBFF39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de Electrodomésticos (Manufactur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mercados queremos “atacar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btener ideas de lo que el mercado necesita y su potencial demand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l produc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e implementar la forma de fabricar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cidir si se necesitarán nuevas instalaciones, de qué características y en qué lug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F159-50B2-4320-99BD-E3282D4AFA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producción, hacer planes sobre requerimientos para los próximos doce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mana a semana programar todos los procesos para cumplir con los pla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 a día “apagar los incendios” que se produzc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cer llegar los pedidos a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los requerimientos de servicios en garantía y de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A1161-06D7-4D33-BFBC-EF13F7F858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Qué es la Gestión de Opera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o de los conceptos, métodos y herramientas necesarias para enfrentar y resolver los problemas relacionados a la producción de BIENE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encuentra al centro de toda organización producti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empresa tiene algo que vender o proveer (satisfacer una  necesidad) y esto debe ser produci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F668-A480-4335-A9D7-03D91EE32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 Industria Comida Rápida         (Servicio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el mercado que se quiere atac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qué tipo de comidas ofrecer y cuál será el “tamaño” del merc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los distintos menú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 cómo se preparará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as instalaciones: cuántos restaurantes tendremos y dón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los recursos financieros apropi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4F8AA-F9F9-4288-8867-237069AD92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los equipos y tecnología que necesitarem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a en funcionamiento, hacer planes sobre los requerimientos para los próximos me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ía a día, coordinar todo, controlarlo todo y cumplir con la atención adecuada a nuestr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ntener abastecidos a los diversos locales desde nuestras bodegas centr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reclamos y sugerenc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DE31-088A-439E-8332-1D5A81CF96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Hay que tener en cuenta que existen decisiones que son comunes para manufacturas y servic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udiar mercados y su tamaño: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ar productos y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ensar en instalaciones, equipos, tecnología y financia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ificar” para los próximos meses o perío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olver los problemas de “logística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0A48-753F-4BA5-A328-D92A5A3114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 Tip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egurar la calidad de los productos y servic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tender adecuadamente  a los clientes, en la venta y postven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9A8D5-0E32-4F2E-A2A0-803C1D6B00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Gestión de Operaciones abarca todos los temas anteriores, aunque algunos parezcan de otros ámbi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se orienta a analizar y administrar las operaciones en forma integral y global a nivel de toda la empresa (y en algunos casos a nivel de toda la cadena de agregación de valor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F055C-88F8-42B0-A8A6-92A722D84D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visión moderna va entonces mucho más allá de la tradicional “producción manufacturera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ólo teniendo en cuenta lo anterior se puede lograr la EXCELENC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93583-877E-49E2-986F-8166DB6E8A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todologí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 Definición del Problema (¿Qué tipo de decisión es?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 Gener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 Evalua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 Selección de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 Imple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1DAA-E8FE-4C80-B1AF-1AC3F476CD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riterios de elección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sto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a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Flexibilidad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Tahoma"/>
              </a:rPr>
              <a:t>Conceptos importantes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Trade-off o intercambi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Múltiples objetivos (institucionales vs personales)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Riesgo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ahoma"/>
              </a:rPr>
              <a:t>BNA, crecimiento, prestigio, porcentaje de mercado, et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CC25-6E2E-49F1-A0B7-F6B120A047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nvertir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$100.00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ternativa B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 8% con probabilidad 0.2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0% con probabilidad 0.5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2% con probabilidad 0.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maximizar el retorno esperado, elegir B (10,2%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quiere minimizar el riesgo, elegir 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A363A-09EA-4459-9335-1F8F3C922F5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3399"/>
                </a:solidFill>
                <a:latin typeface="Tahoma"/>
              </a:rPr>
              <a:t>Proceso de Toma de Decisiones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o estaría dispuesto a pagar por información adicional (IPC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ólo vale si se nos dice 8%, me cambio de B a A con una ganancia de $2.000 con probabilidad 0.2, es decir con un valor de $400 (2.000*0.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información sólo vale en la medida que mejor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7815-45D4-4472-9766-08EE799CA37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152000" y="2819520"/>
            <a:ext cx="4596480" cy="2189520"/>
            <a:chOff x="1152000" y="2819520"/>
            <a:chExt cx="4596480" cy="2189520"/>
          </a:xfrm>
        </p:grpSpPr>
        <p:sp>
          <p:nvSpPr>
            <p:cNvPr id="104" name=""/>
            <p:cNvSpPr/>
            <p:nvPr/>
          </p:nvSpPr>
          <p:spPr>
            <a:xfrm>
              <a:off x="1152000" y="2819520"/>
              <a:ext cx="153108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INSUM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no de O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Materi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ergí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91120" y="2819520"/>
              <a:ext cx="1557360" cy="2189520"/>
            </a:xfrm>
            <a:prstGeom prst="rect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PRODUCTO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3200" y="3505320"/>
              <a:ext cx="1371600" cy="76176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Proces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629400" y="3962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SERVICI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1676520"/>
            <a:ext cx="1905120" cy="21895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BIE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elul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ue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Zap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r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523880"/>
            <a:ext cx="2209680" cy="480060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CCAA-ED1A-448B-870E-C80D50BA4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artesanal de comienzos de sig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ción en línea (Ford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ndarizad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siv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ara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ser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fici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flexi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digma hasta 197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9A172-C312-45AD-8E79-0891205194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volución Japones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 que no aporta valor agregado es desperdic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nventari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ranspor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iezas falla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lexibilidad: ajuste rápido a la de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bicicletas en Jap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so Aserrader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: cumplir con las expectativa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ean Manufacturing, Total Quality y Just in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4E99-0D3D-483A-9C33-0D324BD997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n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en la Gest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Flexibilidad en la respues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muchos casos uso de Sistemas Computacionales y Modelos Matemát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B1C9B-CCAF-4F47-A5E9-BD7912EE0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os Paradigmas de Ho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lidad Total y Mejoramiento Continu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 Ajustada (Lean Produc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Just in Time (JI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ingenier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ptimización integral de la cadena de agregación de valor (Suma Positi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integrado para la calidad y la manufactur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, CAM, CAE, C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s de apoyo a la toma de decisiones (MRP, ERP, etc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8E8E4-DCB3-4065-AB11-369B05A336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levanc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cada vez un componente más importante de la economí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odo negocio tiene componentes de SERVICIO  y componentes MANUFACTURERAS (pocas excepcione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ONTINUO DE LAS OPERACI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905120" y="5029200"/>
            <a:ext cx="6618600" cy="1069200"/>
            <a:chOff x="1905120" y="5029200"/>
            <a:chExt cx="6618600" cy="1069200"/>
          </a:xfrm>
        </p:grpSpPr>
        <p:sp>
          <p:nvSpPr>
            <p:cNvPr id="121" name=""/>
            <p:cNvSpPr/>
            <p:nvPr/>
          </p:nvSpPr>
          <p:spPr>
            <a:xfrm>
              <a:off x="1905120" y="5029200"/>
              <a:ext cx="2590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Manufactura P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5800" y="502920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Servicios Pur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21240" y="5638680"/>
              <a:ext cx="30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Operaciones Mix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5562720"/>
              <a:ext cx="6324120" cy="0"/>
            </a:xfrm>
            <a:prstGeom prst="line">
              <a:avLst/>
            </a:prstGeom>
            <a:ln w="507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86BB-1DC0-408C-A100-67F07674EF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ervic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cliente es parte integral del proceso de negocios (Una radio se puede fabricar sin el cliente, en cambio un corte de pelo no se puede realizar sin é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servicios son intangi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se pueden almacen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Ocupan una dimensión temporal: Se producen en el mismo momento en que se entregan al cl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elen ser más intensivos en mano de o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: La Función de Operaciones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DFC9-A8DC-45B6-B751-E72821F684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6T14:21:15Z</dcterms:created>
  <dc:creator>Dpto. Ingeniería Industrial</dc:creator>
  <dc:description/>
  <dc:language>en-US</dc:language>
  <cp:lastModifiedBy>dii</cp:lastModifiedBy>
  <cp:lastPrinted>2001-04-12T20:51:56Z</cp:lastPrinted>
  <dcterms:modified xsi:type="dcterms:W3CDTF">2004-03-08T15:30:05Z</dcterms:modified>
  <cp:revision>155</cp:revision>
  <dc:subject/>
  <dc:title>Comercio Electrónico</dc:title>
</cp:coreProperties>
</file>