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87F06-7CE4-4BDF-B61E-54E8B79E8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21CF1-39BA-45A1-B3D7-CAEEEC0E6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9F176-056D-46D4-9767-DF1CE5130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EA98D-90B9-4759-92DE-7DCE4AC52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D12EF-E309-4645-BCED-E034D9A3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6214D-541A-401A-B855-6A12A9DF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D709B-9B9E-4136-BFD4-191732E9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02349-CD7B-4BA6-ABF3-40EC84DD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6E605-A289-49C7-A896-FC10528A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A359C-11A7-421C-B08F-43A40F2B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11202-E6E9-4389-979B-FCDD1BBA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9D6D7-E043-4313-BD1E-BD530F1C8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F4A62-37A6-4849-8E71-4DC78B70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229FA-6832-4064-9D86-74654032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910E3-E413-46A7-A1C8-18DB4EAE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5D631-4C0C-4609-97A4-1CEAC5EB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B11E1-D899-46BA-BB64-F12D707F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3C3A5-1F8A-4553-AC58-A30B88D5A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DCE85-1693-430C-9CFB-E9E6060E9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692A8-AB05-4ADD-B2C9-83E1AC90F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0EB58-2E49-47D4-A1A4-55B62CD4DA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978B2-A7C2-4177-A92B-B48AEE06F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82891-1E2E-445E-BD02-3AB4CB115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B7478-EB81-4530-8CED-D173B73E7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92696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E0CE-089B-449C-BEFF-99A3EAEFA91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1299-F24F-43A8-A112-24BAC0EFBC63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42900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1: La Función de Ope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blecer políticas administrativas y desarrollar recursos necesarios para satisfacer requerimientos consistentes con metas específ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nir metas, recursos necesarios y políticas básicas para el éxi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para asegurar la obtención y uso  eficiente de recursos para cumplir obje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ción agregada (anual), decisiones de producción, personal, inventario, marketing, finanza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0E064-BDC4-4DE1-8511-2BEF1A2F3A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adas a tareas específicas, a lo que se hace día a d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DE8C7-E273-4E68-AE10-260A9C07DD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62012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E6907-095E-46CC-875E-C9B91026E3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conceptos de largo, mediano y corto plazo son relativos al período que toma cada ciclo del negocio. La magnitud de éstos cambia según la indust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Electrónica de Consum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de Retail (Supermercado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factor “Incertidumbre” está presente en toda decisión y puede llegar a ser muy importante. Además varía según el nivel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F2F03-9DF2-4FA3-BB27-D98C4C04C4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tipo de electrodomésticos fabricaremos y comercializaremo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ónde ubicaremos nuestros restaurant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roducir en los próximos 12 mese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ersonal contrataremos para la temporada de ventas alta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a materia prima importada necesitamos para el próximo perío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F7776-E5BE-44EE-A3E2-4CD4C30BE8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l es el número de camiones necesarios para transportar fruta en la siguiente tempora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trabajos a maquinaria en fábricas (¿Qué hacer, y en qué máquinas, las próximas 2 horas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didos de repuestos y materias pri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vehículos (¿Qué camiones despachamos durante la próxima hora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producción de leche y queso en una planta (¿Cuánto producir hoy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597E7-4957-400A-8B90-76CDFC99D1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gregación y desagregación de información y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371600" y="3047760"/>
            <a:ext cx="7229160" cy="2925720"/>
            <a:chOff x="1371600" y="3047760"/>
            <a:chExt cx="7229160" cy="2925720"/>
          </a:xfrm>
        </p:grpSpPr>
        <p:grpSp>
          <p:nvGrpSpPr>
            <p:cNvPr id="143" name=""/>
            <p:cNvGrpSpPr/>
            <p:nvPr/>
          </p:nvGrpSpPr>
          <p:grpSpPr>
            <a:xfrm>
              <a:off x="1846080" y="3047760"/>
              <a:ext cx="6308640" cy="2925720"/>
              <a:chOff x="1846080" y="3047760"/>
              <a:chExt cx="6308640" cy="292572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4131720" y="3048120"/>
                <a:ext cx="1554120" cy="2651040"/>
                <a:chOff x="4131720" y="3048120"/>
                <a:chExt cx="1554120" cy="26510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131720" y="304812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ESTRATEG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131720" y="405360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TACT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131720" y="505944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OPERATIV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497120" y="36874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4497120" y="469332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320080" y="368784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320080" y="46936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2302920" y="323064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Larg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302920" y="405360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Median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02920" y="524232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ort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76012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276012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30876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30876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60520" y="3048120"/>
                <a:ext cx="182844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Objetiv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liente - Produc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143400" y="4053600"/>
                <a:ext cx="155412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Uso Eficiente de Recurs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69080" y="5059440"/>
                <a:ext cx="2102760" cy="9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Acciones sobre recursos, productos y ag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641736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641736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24032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24032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1846080" y="3047760"/>
                <a:ext cx="0" cy="274284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154720" y="3048120"/>
                <a:ext cx="0" cy="26514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 rot="16200000">
              <a:off x="655920" y="4259520"/>
              <a:ext cx="179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INFORMA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18000">
              <a:off x="7787160" y="4188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DEC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5DCA2-7AC8-43FA-877D-5C194402CE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 de la relación entre los distintos niveles: Fábrica de Zapa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Estratég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rcado a acce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ción anu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se hace mañana.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necesario que exista consistencia entre las decis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6F1F1-E5B7-4C85-8319-772DDB2E2C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 Industria de Electrodomésticos (Manufactur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mercados queremos “atacar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tener ideas de lo que el mercado necesita y su potencial demand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l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 implementar la forma de fabricar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dir si se necesitarán nuevas instalaciones, de qué características y en qué lug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29367-CFAE-499F-ABB0-187F6632F3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producción, hacer planes sobre requerimientos para los próximos doce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mana a semana programar todos los procesos para cumplir con los pla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 a día “apagar los incendios” que se produzc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cer llegar los pedidos a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los requerimientos de servicios en garantía y de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E5460-5BC9-49C4-8AD8-1E27DE5859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Qué es la Gestión de Operacion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o de los conceptos, métodos y herramientas necesarias para enfrentar y resolver los problemas relacionados a la producción de BIENE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encuentra al centro de toda organización producti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empresa tiene algo que vender o proveer (satisfacer una  necesidad) y esto debe ser produc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749FF-A673-4D5C-9E73-7C74C49B11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 Industria Comida Rápida         (Servici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el mercado que se quiere atac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tipo de comidas ofrecer y cuál será el “tamaño” d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los distintos menú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r cómo se preparará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as instalaciones: cuántos restaurantes tendremos y dón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6A529-B23A-4B53-B1EE-B9D9999647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os equipos y tecnología que necesitare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funcionamiento, hacer planes sobre los requerimientos para los próximos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a día, coordinar todo, controlarlo todo y cumplir con la atención adecuada a nuestr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tener abastecidos a los diversos locales desde nuestras bodegas centr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reclamos y sugerenc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25409-5F38-44BB-85D0-40B6D7AC30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Hay que tener en cuenta que existen decisiones que son comunes para manufacturas y servic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ar mercados y su tamaño: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productos y 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instalaciones, equipos, tecnología y financia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r” para los próximos meses o perío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olver los problemas de “logística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6A319-3427-4B62-A9BC-6A6651A904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dministrar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gurar la calidad de los producto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adecuadamente  a los clientes, en la venta y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667B2-C9E8-4443-BCB9-8063272F74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Gestión de Operaciones abarca todos los temas anteriores, aunque algunos parezcan de otros ámbi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visión moderna se orienta a analizar y administrar las operaciones en forma integral y global a nivel de toda la empresa (y en algunos casos a nivel de toda la cadena de agregación de valor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44221-E511-4B2F-96C1-E33EF6D9EE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visión moderna va entonces mucho más allá de la tradicional “producción manufacturera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ólo teniendo en cuenta lo anterior se puede lograr la EXCELEN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D8F52-EB6F-465A-AE3D-66871318AF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 Definición del Problema (¿Qué tipo de decisión es?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 Gener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 Evalu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 Selec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 Imple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1039A-F7F3-4160-A2FC-E68F33745F8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riterios de elección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a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nfia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Flexi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onceptos importantes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Trade-off o intercambi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Múltiples objetivos (institucionales vs personales)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Riesg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BNA, crecimiento, prestigio, porcentaje de mercado, etc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7B054-C0A5-4F34-8C7C-E2B5B8814B6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vertir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$100.00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ternativa 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ternativa B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8% con probabilidad 0.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0% con probabilidad 0.5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2% con probabilidad 0.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maximizar el retorno esperado, elegir B (10,2%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quiere minimizar el riesgo, elegir 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7684D-43A5-4E90-ACB2-1C3C4D08EDE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to estaría dispuesto a pagar por información adicional (IPC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ólo vale si se nos dice 8%, me cambio de B a A con una ganancia de $2.000 con probabilidad 0.2, es decir con un valor de $400 (2.000*0.2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nformación sólo vale en la medida que mejore las decis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DCEF1-47CA-4CE0-A9E0-C4F9AC05C96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52000" y="2819520"/>
            <a:ext cx="4596480" cy="2189520"/>
            <a:chOff x="1152000" y="2819520"/>
            <a:chExt cx="4596480" cy="2189520"/>
          </a:xfrm>
        </p:grpSpPr>
        <p:sp>
          <p:nvSpPr>
            <p:cNvPr id="104" name=""/>
            <p:cNvSpPr/>
            <p:nvPr/>
          </p:nvSpPr>
          <p:spPr>
            <a:xfrm>
              <a:off x="1152000" y="2819520"/>
              <a:ext cx="153108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INSUM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no de O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nergí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91120" y="2819520"/>
              <a:ext cx="155736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PRODUCT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Bie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3505320"/>
              <a:ext cx="1371600" cy="76176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629400" y="3962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SERVICI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rr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1676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BIE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elul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ue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Zap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ru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1523880"/>
            <a:ext cx="2209680" cy="48006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BFB49-33C1-4C3B-A876-FCC8A991A5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ducción artesanal de comienzos de sig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ducción en línea (Ford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ndariz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siv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seri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fic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co flex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digma hasta 197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FB1A8-309A-4F4F-99F2-2613807A08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volución Japones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 que no aporta valor agregado es desperdici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po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iezas falla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exibilidad: ajuste rápido a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so bicicletas en Jap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so Aserrad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idad: cumplir con las expectativas de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an Manufacturing, Total Quality y Just in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3921A-A8F4-4230-AFCA-F4C09CDC64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n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en la Gest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lexibilidad en la respues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muchos casos uso de Sistemas Computacionales y Modelos Matemá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2D269-27E2-450D-962B-25C92DE5EE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unos Paradigmas de Ho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idad Total y Mejoramiento Continu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 Ajustada (Lean Produc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Just in Time (JI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ingenier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 integral de la cadena de agregación de valor (Suma Positiv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o integrado para la calidad y la manufactura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, CAM, CAE, CI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apoyo a la toma de decisiones (MRP, ERP, etc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5C462-6660-4ECE-A146-1B1CF1D408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v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leva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servicios son cada vez un componente más importante de la econom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odo negocio tiene componentes de SERVICIO  y componentes MANUFACTURERAS (pocas excepcion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CONTINUO DE LAS OPERA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905120" y="5029200"/>
            <a:ext cx="6618600" cy="1069200"/>
            <a:chOff x="1905120" y="5029200"/>
            <a:chExt cx="6618600" cy="1069200"/>
          </a:xfrm>
        </p:grpSpPr>
        <p:sp>
          <p:nvSpPr>
            <p:cNvPr id="121" name=""/>
            <p:cNvSpPr/>
            <p:nvPr/>
          </p:nvSpPr>
          <p:spPr>
            <a:xfrm>
              <a:off x="1905120" y="502920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Manufactura Pu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75800" y="5029200"/>
              <a:ext cx="23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Servicios Pu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21240" y="5638680"/>
              <a:ext cx="30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Operaciones Mix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57400" y="5562720"/>
              <a:ext cx="6324120" cy="0"/>
            </a:xfrm>
            <a:prstGeom prst="line">
              <a:avLst/>
            </a:prstGeom>
            <a:ln w="507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77C75-2207-47E4-A4E9-EEF88BFC8C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v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cliente es parte integral del proceso de negocios (Una radio se puede fabricar sin el cliente, en cambio un corte de pelo no se puede realizar sin és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servicios son intangi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se pueden almacen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cupan una dimensión temporal: Se producen en el mismo momento en que se entregan al cl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elen ser más intensivos en mano de ob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6DE52-FEBA-41FC-9EC5-279447FD9D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dii</cp:lastModifiedBy>
  <cp:lastPrinted>2001-04-12T20:51:56Z</cp:lastPrinted>
  <dcterms:modified xsi:type="dcterms:W3CDTF">2004-03-08T15:30:05Z</dcterms:modified>
  <cp:revision>155</cp:revision>
  <dc:subject/>
  <dc:title>Comercio Electrónico</dc:title>
</cp:coreProperties>
</file>