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2ED64-3E80-43A2-837C-3CF43DC64E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0E05C-5FCD-4F1B-AFF3-ACCE6952C4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B1756-8A6A-49C7-A305-7FFD918D9C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8BDBF-E2C1-4839-8C55-96D08D5A89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7221FE-B83F-4870-8CCA-854CB3B80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B95CCA-471D-40CB-93BB-AB4A6BEF2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F3C150-E5D0-4432-855E-8ED78F915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70950D-7CF9-4F26-84C0-F171D2D36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23FA1C-A03A-4642-9D6D-EA3C7DCEA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E74A36-65F0-46B9-B350-C9844B0CC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6F09B2-FB11-4B63-961D-F02A5338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32600-73E7-4EF4-B679-6498F5E02C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80DE74-4C8F-40F0-8B33-1CA9CB032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89F367-AF8B-40CA-85BB-7F6867796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AE0728-C7F9-4FA7-BBD9-AC5D114EB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9EBA2B-5E65-498E-9D33-37EE19F25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4766AE-5C78-4A76-A970-5D69A0168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C66FC-ED42-492A-8EAA-33C8918B22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29F53-33F8-4FD7-AAD7-2BF779940C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BA6A0-408E-4F7F-91E4-2614FC1F67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8047F-E754-4277-BB53-AA7218AB21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09F30-7CD8-4016-8C1F-3C71235727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070BC-1345-4C45-A772-A046D672FB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00796-621D-421E-8500-F2559521B0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523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5232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0746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07460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00188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54468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33524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 rot="21562800">
            <a:off x="4926960" y="6276600"/>
            <a:ext cx="3733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C41E8-4B3A-4EC8-B59C-1A12DB352394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C585C-4550-48B5-9142-77F0D2500D7C}" type="slidenum"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20570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Gestión de Oper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3429000"/>
            <a:ext cx="716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Capítulo 1: La Función de Oper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Niveles de Deci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cisiones estratégic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tablecer políticas administrativas y desarrollar recursos necesarios para satisfacer requerimientos consistentes con metas específic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finir metas, recursos necesarios y políticas básicas para el éxi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cisiones táctic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ceso para asegurar la obtención y uso  eficiente de recursos para cumplir objetiv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lanificación agregada (anual), decisiones de producción, personal, inventario, marketing, finanzas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E4E80-7203-4FBB-9BEA-032FA8AA683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Niveles de Deci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cisiones operativ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lacionadas a tareas específicas, a lo que se hace día a dí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EF244-8EE6-41F4-ABA8-9C1265371CE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Niveles de Deci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838080" y="2438280"/>
            <a:ext cx="7620120" cy="324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8F9F8-D5F0-434B-893E-6E93B78079F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Niveles de Deci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os conceptos de largo, mediano y corto plazo son relativos al período que toma cada ciclo del negocio. La magnitud de éstos cambia según la industr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dustria Foresta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dustria Electrónica de Consum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dustria de Retail (Supermercados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factor “Incertidumbre” está presente en toda decisión y puede llegar a ser muy importante. Además varía según el nivel de decis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C0D74-5783-4818-8068-1E02581E340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Niveles de Deci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cisiones estratég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Qué tipo de electrodomésticos fabricaremos y comercializaremo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Dónde ubicaremos nuestros restaurante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cisiones tác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Cuánto producir en los próximos 12 meses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Cuánto personal contrataremos para la temporada de ventas alta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Cuánta materia prima importada necesitamos para el próximo período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6FB1F-D848-48BA-B177-831475FE0C8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Niveles de Deci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Cuál es el número de camiones necesarios para transportar fruta en la siguiente temporada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cisiones operativ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signación de trabajos a maquinaria en fábricas (¿Qué hacer, y en qué máquinas, las próximas 2 horas?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edidos de repuestos y materias prim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gramación diaria de vehículos (¿Qué camiones despachamos durante la próxima hora?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gramación diaria de producción de leche y queso en una planta (¿Cuánto producir hoy?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44C7F-AA1A-4C98-977A-1F60F3C3D0E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Niveles de Deci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gregación y desagregación de información y decision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1371600" y="3047760"/>
            <a:ext cx="7229160" cy="2925720"/>
            <a:chOff x="1371600" y="3047760"/>
            <a:chExt cx="7229160" cy="2925720"/>
          </a:xfrm>
        </p:grpSpPr>
        <p:grpSp>
          <p:nvGrpSpPr>
            <p:cNvPr id="143" name=""/>
            <p:cNvGrpSpPr/>
            <p:nvPr/>
          </p:nvGrpSpPr>
          <p:grpSpPr>
            <a:xfrm>
              <a:off x="1846080" y="3047760"/>
              <a:ext cx="6308640" cy="2925720"/>
              <a:chOff x="1846080" y="3047760"/>
              <a:chExt cx="6308640" cy="2925720"/>
            </a:xfrm>
          </p:grpSpPr>
          <p:grpSp>
            <p:nvGrpSpPr>
              <p:cNvPr id="144" name=""/>
              <p:cNvGrpSpPr/>
              <p:nvPr/>
            </p:nvGrpSpPr>
            <p:grpSpPr>
              <a:xfrm>
                <a:off x="4131720" y="3048120"/>
                <a:ext cx="1554120" cy="2651040"/>
                <a:chOff x="4131720" y="3048120"/>
                <a:chExt cx="1554120" cy="265104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4131720" y="3048120"/>
                  <a:ext cx="1554120" cy="639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ahoma"/>
                    </a:rPr>
                    <a:t>NIVEL ESTRATEGIC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4131720" y="4053600"/>
                  <a:ext cx="1554120" cy="639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ahoma"/>
                    </a:rPr>
                    <a:t>NIVEL TACTIC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4131720" y="5059440"/>
                  <a:ext cx="1554120" cy="639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ahoma"/>
                    </a:rPr>
                    <a:t>NIVEL OPERATIV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flipV="1">
                  <a:off x="4497120" y="3687480"/>
                  <a:ext cx="0" cy="36540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V="1">
                  <a:off x="4497120" y="4693320"/>
                  <a:ext cx="0" cy="36540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5320080" y="3687840"/>
                  <a:ext cx="0" cy="36540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5320080" y="4693680"/>
                  <a:ext cx="0" cy="36540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2" name=""/>
              <p:cNvSpPr/>
              <p:nvPr/>
            </p:nvSpPr>
            <p:spPr>
              <a:xfrm>
                <a:off x="2302920" y="3230640"/>
                <a:ext cx="1462680" cy="63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Largo Plaz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302920" y="4053600"/>
                <a:ext cx="1462680" cy="63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Mediano Plaz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302920" y="5242320"/>
                <a:ext cx="1462680" cy="63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Corto Plaz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V="1">
                <a:off x="2760120" y="3687480"/>
                <a:ext cx="0" cy="3654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V="1">
                <a:off x="2760120" y="4693320"/>
                <a:ext cx="0" cy="3654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308760" y="3687840"/>
                <a:ext cx="0" cy="3654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308760" y="4693680"/>
                <a:ext cx="0" cy="3654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960520" y="3048120"/>
                <a:ext cx="1828440" cy="63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Objetiv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Cliente - Product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143400" y="4053600"/>
                <a:ext cx="1554120" cy="63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Uso Eficiente de Recurs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869080" y="5059440"/>
                <a:ext cx="2102760" cy="91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Acciones sobre recursos, productos y agent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V="1">
                <a:off x="6417360" y="3687480"/>
                <a:ext cx="0" cy="3654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6417360" y="4693320"/>
                <a:ext cx="0" cy="3654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240320" y="3687840"/>
                <a:ext cx="0" cy="3654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7240320" y="4693680"/>
                <a:ext cx="0" cy="3654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1846080" y="3047760"/>
                <a:ext cx="0" cy="2742840"/>
              </a:xfrm>
              <a:prstGeom prst="line">
                <a:avLst/>
              </a:prstGeom>
              <a:ln w="3168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154720" y="3048120"/>
                <a:ext cx="0" cy="2651400"/>
              </a:xfrm>
              <a:prstGeom prst="line">
                <a:avLst/>
              </a:prstGeom>
              <a:ln w="3168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8" name=""/>
            <p:cNvSpPr/>
            <p:nvPr/>
          </p:nvSpPr>
          <p:spPr>
            <a:xfrm rot="16200000">
              <a:off x="655920" y="4259520"/>
              <a:ext cx="179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333399"/>
                  </a:solidFill>
                  <a:latin typeface="Tahoma"/>
                </a:rPr>
                <a:t>INFORMAC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5418000">
              <a:off x="7787160" y="4188600"/>
              <a:ext cx="125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333399"/>
                  </a:solidFill>
                  <a:latin typeface="Tahoma"/>
                </a:rPr>
                <a:t>DECI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8BDC8-796F-4023-942C-38176F048F2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Niveles de Deci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jemplo de la relación entre los distintos niveles: Fábrica de Zapat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ivel Estratégico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ercado a acced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pacidad de Produc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ivel Táctic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ducción anu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ivel Operativ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Qué se hace mañana.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necesario que exista consistencia entre las decisio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9B95D-915E-4BE3-986A-6434733D363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Decisiones Ti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so Industria de Electrodomésticos (Manufactura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ensar en qué mercados queremos “atacar”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Obtener ideas de lo que el mercado necesita y su potencial demand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iseñar el produc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iseñar e implementar la forma de fabricarl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cidir si se necesitarán nuevas instalaciones, de qué características y en qué lug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veer los recursos financieros apropia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BC24A-63E3-4677-8FD4-A1501BCAF3C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Decisiones Ti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Ya en producción, hacer planes sobre requerimientos para los próximos doce me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mana a semana programar todos los procesos para cumplir con los pla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ía  a día “apagar los incendios” que se produzca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Hacer llegar los pedidos a los clien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tender los requerimientos de servicios en garantía y de postven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5CA96-0BA9-46B2-BE81-841137CCBF4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¿Qué es la Gestión de Operacion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tudio de los conceptos, métodos y herramientas necesarias para enfrentar y resolver los problemas relacionados a la producción de BIENES y SERVICI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encuentra al centro de toda organización productiv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da empresa tiene algo que vender o proveer (satisfacer una  necesidad) y esto debe ser producid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C0760-0A89-432B-8A32-CAC463EBD8C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Decisiones Ti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so Industria Comida Rápida         (Servicio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ensar en el mercado que se quiere atac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ensar en qué tipo de comidas ofrecer y cuál será el “tamaño” del mercad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iseñar los distintos menú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er cómo se preparará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ensar en las instalaciones: cuántos restaurantes tendremos y dón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veer los recursos financieros apropia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EA91F-7BDA-48E8-B89A-AF315FFBB30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Decisiones Ti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ensar en los equipos y tecnología que necesitarem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Ya en funcionamiento, hacer planes sobre los requerimientos para los próximos me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ía a día, coordinar todo, controlarlo todo y cumplir con la atención adecuada a nuestros clien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antener abastecidos a los diversos locales desde nuestras bodegas centra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tender reclamos y sugerenci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4D075-2B6A-4E6E-9D85-4A29DFCAB4E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Decisiones Ti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Hay que tener en cuenta que existen decisiones que son comunes para manufacturas y servici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tudiar mercados y su tamaño: deman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iseñar productos y proces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ensar en instalaciones, equipos, tecnología y financiamien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lanificar” para los próximos meses o perío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solver los problemas de “logística”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40EC5-0153-4081-B1D6-D10C53663AF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Decisiones Ti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dministrar inventari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segurar la calidad de los productos y servici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tender adecuadamente  a los clientes, en la venta y postven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60F32-CD33-458C-B0D6-55A43CB8F16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a Gestión de Operaciones abarca todos los temas anteriores, aunque algunos parezcan de otros ámbit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a visión moderna se orienta a analizar y administrar las operaciones en forma integral y global a nivel de toda la empresa (y en algunos casos a nivel de toda la cadena de agregación de valor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2BA9A-B5A6-47A4-97A5-D7A7389D87B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a visión moderna va entonces mucho más allá de la tradicional “producción manufacturera”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ólo teniendo en cuenta lo anterior se puede lograr la EXCELENCI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1BFB8-79B5-4D42-878B-6D549C75281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3399"/>
                </a:solidFill>
                <a:latin typeface="Tahoma"/>
              </a:rPr>
              <a:t>Proceso de Toma de Decisiones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etodologí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. Definición del Problema (¿Qué tipo de decisión es?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2. Generación de Alternativ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3. Evaluación de Alternativ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4. Selección de Alternativ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5. Implement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BD28F-392D-40D1-8F0D-686887E04D9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3399"/>
                </a:solidFill>
                <a:latin typeface="Tahoma"/>
              </a:rPr>
              <a:t>Proceso de Toma de Decisiones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Tahoma"/>
              </a:rPr>
              <a:t>Criterios de elección: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Costos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Calidad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Confiabilidad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Flexibilidad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Tahoma"/>
              </a:rPr>
              <a:t>Conceptos importantes: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Trade-off o intercambio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Múltiples objetivos (institucionales vs personales)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Riesgo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BNA, crecimiento, prestigio, porcentaje de mercado, etc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9CFB2-CFDD-410B-B63F-D3BFC0CD5E3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3399"/>
                </a:solidFill>
                <a:latin typeface="Tahoma"/>
              </a:rPr>
              <a:t>Proceso de Toma de Decisiones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nvertir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$100.000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lternativa A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lternativa B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8% con probabilidad 0.2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0% con probabilidad 0.5.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2% con probabilidad 0.3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ara maximizar el retorno esperado, elegir B (10,2%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 se quiere minimizar el riesgo, elegir 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8C646-6F33-4C64-B2BE-09E8DC2F6D6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3399"/>
                </a:solidFill>
                <a:latin typeface="Tahoma"/>
              </a:rPr>
              <a:t>Proceso de Toma de Decisiones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¿Cuánto estaría dispuesto a pagar por información adicional (IPC)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ólo vale si se nos dice 8%, me cambio de B a A con una ganancia de $2.000 con probabilidad 0.2, es decir con un valor de $400 (2.000*0.2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información sólo vale en la medida que mejore las decisio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C817D-B44F-4AB7-A7B7-B07D4C00494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152000" y="2819520"/>
            <a:ext cx="4596480" cy="2189520"/>
            <a:chOff x="1152000" y="2819520"/>
            <a:chExt cx="4596480" cy="2189520"/>
          </a:xfrm>
        </p:grpSpPr>
        <p:sp>
          <p:nvSpPr>
            <p:cNvPr id="104" name=""/>
            <p:cNvSpPr/>
            <p:nvPr/>
          </p:nvSpPr>
          <p:spPr>
            <a:xfrm>
              <a:off x="1152000" y="2819520"/>
              <a:ext cx="1531080" cy="2189520"/>
            </a:xfrm>
            <a:prstGeom prst="rect">
              <a:avLst/>
            </a:prstGeom>
            <a:noFill/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INSUMOS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Mano de O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Materia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Energí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Inform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191120" y="2819520"/>
              <a:ext cx="1557360" cy="2189520"/>
            </a:xfrm>
            <a:prstGeom prst="rect">
              <a:avLst/>
            </a:prstGeom>
            <a:noFill/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PRODUCTOS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Bien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Servici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743200" y="3505320"/>
              <a:ext cx="1371600" cy="761760"/>
            </a:xfrm>
            <a:custGeom>
              <a:avLst/>
              <a:gdLst>
                <a:gd name="textAreaLeft" fmla="*/ 214200 w 1371600"/>
                <a:gd name="textAreaRight" fmla="*/ 1200240 w 1371600"/>
                <a:gd name="textAreaTop" fmla="*/ 190440 h 761760"/>
                <a:gd name="textAreaBottom" fmla="*/ 57132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Proces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6629400" y="3962520"/>
            <a:ext cx="1905120" cy="218952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Arial"/>
              </a:rPr>
              <a:t>SERVICI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Edu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Salu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orr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Transpor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omunica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629400" y="1676520"/>
            <a:ext cx="1905120" cy="218952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Arial"/>
              </a:rPr>
              <a:t>BIEN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elulo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ue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iner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Zapa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Fru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477120" y="1523880"/>
            <a:ext cx="2209680" cy="480060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B2AB2-55B8-43AF-8672-99C078293A9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Antecede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ducción artesanal de comienzos de sigl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ducción en línea (Ford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duc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tandariza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siv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ara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ces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n seri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ficien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co flexi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aradigma hasta 1970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EB045-A0DE-49D1-A520-7858A43EDD1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Antecede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Revolución Japones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o que no aporta valor agregado es desperdici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ventari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ranspor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iezas fallad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lexibilidad: ajuste rápido a la deman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so bicicletas en Jap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so Aserrader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lidad: cumplir con las expectativas de los clien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ean Manufacturing, Total Quality y Just in Ti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DA0F7-8E16-4175-812D-7AC9F96D38A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Antecede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mponen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lidad en la Gest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Flexibilidad en la respues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n muchos casos uso de Sistemas Computacionales y Modelos Matemáti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46EAF-C162-4EEC-B0C1-AA0EDFF454D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Antecede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lgunos Paradigmas de Ho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lidad Total y Mejoramiento Continu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ducción Ajustada (Lean Productio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Just in Time (JIT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ingenierí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Optimización integral de la cadena de agregación de valor (Suma Positiva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iseño integrado para la calidad y la manufacturabilid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D, CAM, CAE, CI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stemas de apoyo a la toma de decisiones (MRP, ERP, etc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66558-CADD-4FFE-954C-5BF5F90A2EF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vici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Relevanci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os servicios son cada vez un componente más importante de la economí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odo negocio tiene componentes de SERVICIO  y componentes MANUFACTURERAS (pocas excepcione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CONTINUO DE LAS OPERACION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905120" y="5029200"/>
            <a:ext cx="6618600" cy="1069200"/>
            <a:chOff x="1905120" y="5029200"/>
            <a:chExt cx="6618600" cy="1069200"/>
          </a:xfrm>
        </p:grpSpPr>
        <p:sp>
          <p:nvSpPr>
            <p:cNvPr id="121" name=""/>
            <p:cNvSpPr/>
            <p:nvPr/>
          </p:nvSpPr>
          <p:spPr>
            <a:xfrm>
              <a:off x="1905120" y="5029200"/>
              <a:ext cx="2590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Manufactura Pur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175800" y="5029200"/>
              <a:ext cx="23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Servicios Pur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621240" y="5638680"/>
              <a:ext cx="30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Operaciones Mixt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57400" y="5562720"/>
              <a:ext cx="6324120" cy="0"/>
            </a:xfrm>
            <a:prstGeom prst="line">
              <a:avLst/>
            </a:prstGeom>
            <a:ln w="507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A23B1-C988-43E0-BCAE-D559BF139D2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vici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cliente es parte integral del proceso de negocios (Una radio se puede fabricar sin el cliente, en cambio un corte de pelo no se puede realizar sin ést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os servicios son intangib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o se pueden almacen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Ocupan una dimensión temporal: Se producen en el mismo momento en que se entregan al clie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uelen ser más intensivos en mano de obr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4542C-243A-4AD8-9B50-7B7A59C2A8B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6T14:21:15Z</dcterms:created>
  <dc:creator>Dpto. Ingeniería Industrial</dc:creator>
  <dc:description/>
  <dc:language>en-US</dc:language>
  <cp:lastModifiedBy>dii</cp:lastModifiedBy>
  <cp:lastPrinted>2001-04-12T20:51:56Z</cp:lastPrinted>
  <dcterms:modified xsi:type="dcterms:W3CDTF">2004-03-08T15:30:05Z</dcterms:modified>
  <cp:revision>155</cp:revision>
  <dc:subject/>
  <dc:title>Comercio Electrónico</dc:title>
</cp:coreProperties>
</file>