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92D73-C926-410B-AB9C-E84D929A9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38817-DB63-46E6-8527-0789F065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293D3-9778-43BE-9A38-890196F6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AC082-F87B-440D-A3C2-6EEF8C47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AEC42-2D22-4994-B23E-BD6224CD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0088C-2B21-4349-B91E-8F115644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09269-6213-4535-AEAF-D40B1CF0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C26EE-8629-4EBE-9FBD-187A2A78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AD461-8EF7-409B-A03B-98A8A385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A1556-10A6-4F61-A206-F5C0AC35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39492-D006-4657-8327-78CD1A297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EFABC-6E83-4EEC-BD14-8D7B5517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2508-F5BA-47A3-8A8A-22B175435B59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lvl="4" marL="175860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iclo de maduración = Ciclo económico  +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    Ciclo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nera cuentas de activo circula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 activo fijo genera muchos ciclos de madur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24" name="Group 20"/>
          <p:cNvGrpSpPr/>
          <p:nvPr/>
        </p:nvGrpSpPr>
        <p:grpSpPr>
          <a:xfrm>
            <a:off x="4857840" y="4038480"/>
            <a:ext cx="3787560" cy="2261160"/>
            <a:chOff x="4857840" y="4038480"/>
            <a:chExt cx="3787560" cy="2261160"/>
          </a:xfrm>
        </p:grpSpPr>
        <p:sp>
          <p:nvSpPr>
            <p:cNvPr id="125" name="Arc 4"/>
            <p:cNvSpPr/>
            <p:nvPr/>
          </p:nvSpPr>
          <p:spPr>
            <a:xfrm>
              <a:off x="5537160" y="4100760"/>
              <a:ext cx="1184040" cy="10432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1043280"/>
                <a:gd name="textAreaBottom" fmla="*/ 1043280 h 1043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</a:path>
                <a:path stroke="0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6" name="Arc 5"/>
            <p:cNvSpPr/>
            <p:nvPr/>
          </p:nvSpPr>
          <p:spPr>
            <a:xfrm rot="10800000">
              <a:off x="5524560" y="5152680"/>
              <a:ext cx="1184040" cy="10432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1043280"/>
                <a:gd name="textAreaBottom" fmla="*/ 1043280 h 1043280"/>
              </a:gdLst>
              <a:ahLst/>
              <a:rect l="textAreaLeft" t="textAreaTop" r="textAreaRight" b="textAreaBottom"/>
              <a:pathLst>
                <a:path fill="none" w="21644" h="21600">
                  <a:moveTo>
                    <a:pt x="0" y="0"/>
                  </a:moveTo>
                  <a:cubicBezTo>
                    <a:pt x="14" y="0"/>
                    <a:pt x="29" y="-1"/>
                    <a:pt x="44" y="0"/>
                  </a:cubicBezTo>
                  <a:cubicBezTo>
                    <a:pt x="11955" y="0"/>
                    <a:pt x="21619" y="9643"/>
                    <a:pt x="21643" y="21555"/>
                  </a:cubicBezTo>
                </a:path>
                <a:path stroke="0" w="21644" h="21600">
                  <a:moveTo>
                    <a:pt x="0" y="0"/>
                  </a:moveTo>
                  <a:cubicBezTo>
                    <a:pt x="14" y="0"/>
                    <a:pt x="29" y="-1"/>
                    <a:pt x="44" y="0"/>
                  </a:cubicBezTo>
                  <a:cubicBezTo>
                    <a:pt x="11955" y="0"/>
                    <a:pt x="21619" y="9643"/>
                    <a:pt x="21643" y="21555"/>
                  </a:cubicBezTo>
                  <a:lnTo>
                    <a:pt x="44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7" name="Arc 6"/>
            <p:cNvSpPr/>
            <p:nvPr/>
          </p:nvSpPr>
          <p:spPr>
            <a:xfrm rot="10800000">
              <a:off x="6728040" y="5152680"/>
              <a:ext cx="1184040" cy="10432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1043280"/>
                <a:gd name="textAreaBottom" fmla="*/ 1043280 h 1043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</a:path>
                <a:path stroke="0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8" name="Arc 7"/>
            <p:cNvSpPr/>
            <p:nvPr/>
          </p:nvSpPr>
          <p:spPr>
            <a:xfrm rot="10800000">
              <a:off x="6657480" y="4523400"/>
              <a:ext cx="1254600" cy="609480"/>
            </a:xfrm>
            <a:custGeom>
              <a:avLst/>
              <a:gdLst>
                <a:gd name="textAreaLeft" fmla="*/ 0 w 1254600"/>
                <a:gd name="textAreaRight" fmla="*/ 1254960 w 12546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558" y="21599"/>
                  </a:moveTo>
                  <a:cubicBezTo>
                    <a:pt x="9645" y="21576"/>
                    <a:pt x="0" y="11912"/>
                    <a:pt x="0" y="0"/>
                  </a:cubicBezTo>
                </a:path>
                <a:path stroke="0" w="21600" h="21600">
                  <a:moveTo>
                    <a:pt x="21558" y="21599"/>
                  </a:moveTo>
                  <a:cubicBezTo>
                    <a:pt x="9645" y="21576"/>
                    <a:pt x="0" y="11912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9" name="Line 8"/>
            <p:cNvSpPr/>
            <p:nvPr/>
          </p:nvSpPr>
          <p:spPr>
            <a:xfrm>
              <a:off x="6645600" y="4469760"/>
              <a:ext cx="0" cy="10728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0" name="Line 9"/>
            <p:cNvSpPr/>
            <p:nvPr/>
          </p:nvSpPr>
          <p:spPr>
            <a:xfrm flipH="1">
              <a:off x="5512680" y="4770720"/>
              <a:ext cx="1605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1" name="Line 10"/>
            <p:cNvSpPr/>
            <p:nvPr/>
          </p:nvSpPr>
          <p:spPr>
            <a:xfrm>
              <a:off x="6294600" y="6077880"/>
              <a:ext cx="0" cy="105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2" name="Line 11"/>
            <p:cNvSpPr/>
            <p:nvPr/>
          </p:nvSpPr>
          <p:spPr>
            <a:xfrm>
              <a:off x="7488720" y="5891400"/>
              <a:ext cx="0" cy="1069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3" name="Line 12"/>
            <p:cNvSpPr/>
            <p:nvPr/>
          </p:nvSpPr>
          <p:spPr>
            <a:xfrm>
              <a:off x="7418160" y="4594320"/>
              <a:ext cx="0" cy="105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4" name="Line 13"/>
            <p:cNvSpPr/>
            <p:nvPr/>
          </p:nvSpPr>
          <p:spPr>
            <a:xfrm>
              <a:off x="6716160" y="4038480"/>
              <a:ext cx="0" cy="105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5" name="Rectangle 14"/>
            <p:cNvSpPr/>
            <p:nvPr/>
          </p:nvSpPr>
          <p:spPr>
            <a:xfrm>
              <a:off x="6685560" y="4269960"/>
              <a:ext cx="43164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Stock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6" name="Rectangle 15"/>
            <p:cNvSpPr/>
            <p:nvPr/>
          </p:nvSpPr>
          <p:spPr>
            <a:xfrm>
              <a:off x="7855560" y="4826160"/>
              <a:ext cx="78984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Fabricación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7" name="Rectangle 16"/>
            <p:cNvSpPr/>
            <p:nvPr/>
          </p:nvSpPr>
          <p:spPr>
            <a:xfrm>
              <a:off x="6450120" y="5940720"/>
              <a:ext cx="6541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Stock 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Producto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8" name="Rectangle 17"/>
            <p:cNvSpPr/>
            <p:nvPr/>
          </p:nvSpPr>
          <p:spPr>
            <a:xfrm>
              <a:off x="6460200" y="4579200"/>
              <a:ext cx="70452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M. Primas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9" name="Rectangle 18"/>
            <p:cNvSpPr/>
            <p:nvPr/>
          </p:nvSpPr>
          <p:spPr>
            <a:xfrm>
              <a:off x="4857840" y="5259960"/>
              <a:ext cx="45468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Venta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Rectangle 19"/>
            <p:cNvSpPr/>
            <p:nvPr/>
          </p:nvSpPr>
          <p:spPr>
            <a:xfrm>
              <a:off x="5199480" y="4085640"/>
              <a:ext cx="58248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Activo Fijo : su permanencia material en la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       empresa es superior a un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       período de maduración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Material : Activo tangible, corpóreo, visible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Funcional :Todo el activo que tiene que ver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    con el giro de la empresa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Fijo Material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odo el activo que no tiene que ver con el giro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ino o transitori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sicamente activo funcional que aún no entra en oper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emplo :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821240" indent="-34632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dificio en Construc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821240" indent="-34632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ntrato por una máquina nueva que se está pagando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uncional - Extrafuncional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nónimo de operacional - no opera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introduce esta distinción para guardar coherencia con las clasificaciones del estado de resultad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s funcionales generan Resultado Operacional y extrafuncionales generan Resultado No Operacional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mite calcular correctamente indicadores de Gest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13280" indent="-4132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13280" indent="-4132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Fijo Inmater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8424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aloración por apreciación indirec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alores volátil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sualmente no son aceptados como garantía creditici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arc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tent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6000"/>
          </a:bodyPr>
          <a:p>
            <a:pPr marL="216000" indent="-2160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216000" indent="-216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17600" indent="-2005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00120" indent="-181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activo que genera el ciclo de madur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417600" indent="-2005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00120" indent="-181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que no genera el ciclo de madur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779040" indent="-177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emplo : Bono de próximo vencimien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417600" indent="-2005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00120" indent="-181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que se genera debido a la estructura de pasivo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779040" indent="-177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emplo : Garantía en efectivo por un préstamo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ilosofí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cuentas no se ordenan de acuerdo a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cuentas se ordenan de acuerdo con su función en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a misma cuenta puede tener dos clasificaciones al mismo tiemp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Ejemplo: Una empresa compra un terreno y sólo utiliza a la mitad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parte utilizada :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ctivo fijo, material,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        funcional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eguntamos a la gerencia por el destino del resto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o edificaremos en el futuro : Activo fijo, material, interin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á a la venta : Activo circulante, materi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o vamos a plantar : Activo fijo, extrafuncional,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materi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tro Ejemplo : Una empresa constructora tiene un 30% de las acciones de una empresa distribuidora de materiales.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clasifico estas acciones en mi balance de gestión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268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tro Ejemplo : Una empresa constructora tiene un 30% de las acciones de una empresa distribuidora de materiales.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clasifico estas acciones en mi balance de gestión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empresa constructora usa su posición en el directorio de la segunda empresa para conseguir precios más bara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lasificación : Activo Fijo, Funcional, Inmateri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520" y="-2289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visar los conceptos fundamentales del análisis financiero de balances y estados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sarrollar destrezas en el cálculo e interpretación de indicadores de la gestión financiera de una empresa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tregar una metodología para la planificación financiera de corto plaz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cepto :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ctr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“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Toda obligación reconocida con un tercero”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incipio de Ordenamiento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Pasivos se agruparán según su plazo de vencimient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319320" indent="-319320" algn="ctr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19320" indent="-319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lazo de Vencimiento “ Muy Largo o no conocido” (no exigible) :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atrimonio (capital propio)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Reserva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19320" indent="-319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lazo de Vencimiento conocido (exigible) 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Largo Plazo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Corto Plazo (pasivo circulante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18840" y="5886360"/>
            <a:ext cx="7882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 : La clasificación Corto/Largo plazo depende del ciclo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duración  del negocio, pero habitualmente se usa 1 año como límite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149480" y="2527200"/>
            <a:ext cx="6692760" cy="38736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Line 5"/>
          <p:cNvSpPr/>
          <p:nvPr/>
        </p:nvSpPr>
        <p:spPr>
          <a:xfrm>
            <a:off x="1149480" y="2666880"/>
            <a:ext cx="66927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Line 6"/>
          <p:cNvSpPr/>
          <p:nvPr/>
        </p:nvSpPr>
        <p:spPr>
          <a:xfrm>
            <a:off x="4495680" y="2514600"/>
            <a:ext cx="0" cy="3873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2323440" y="211932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5756760" y="211932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525680" y="3186000"/>
            <a:ext cx="25329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Activo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Activo 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. Resultado (pérdida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4. Ctas. Contraparti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5. Ctas. de Ord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941720" y="3262320"/>
            <a:ext cx="30085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Exigible (Deuda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Patrimonio (Cap.Propio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. Resultado (beneficios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4. Ctas. Contraparti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5. Ctas. de Ord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181080" y="-17172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OTA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l sistema americano (utilizado en Chile) ordena el activo de mas a menos líquidos y el pasivo de mas a menos exigible (como en cuadro anterior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l sistema francés (utilizado en Europa), ordena al revé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S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ASIV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 Fijo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apital Propi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 Circulante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el curso se usarán ambos indistintamente (estamos globalizados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ratamiento del Resultad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ciedades Anónimas Abiertas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ividendos de a lo menos el 30% de la utilidad líquida del ejercici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hay pérdidas acumuladas, las utilidades del ejercicio se destinan primero a absorverl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diferencia entre utilidades y dividendos puede ser traspasadas a Reservas Voluntari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3000"/>
          </a:bodyPr>
          <a:p>
            <a:pPr marL="154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54800" indent="-154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ratamiento del Resultado, ¿ qué hacer como analista ?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pérdidas se reducen del Capital Propio (regularización de la pérdida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los beneficios son antes de impuestos, debo pagarl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hay Reservas Obligatorias, debo dotarl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cidir Dividendos/Reservas Voluntari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9051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uentas de Contrapartida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tienen vitalidad propia. Pero detallan cuentas del giro de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uan compensando cuentas del activo y pasivo (“Existen ssi existe su otra cara”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s cuentas pueden aparecer o bien puede reducirse la cuenta fundamental a su “ valor neto “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jemplo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empresa hace una ampliación de capital de 100 millones, desembolsándose sólo 80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 cuenta de Contrapartid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ciones no pagadas  20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nco                         80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Social          100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n cuenta  de Contrapartid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nco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80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Social Neto  80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uentas de Orden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tienen vitalidad propi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entas que no afectan actualmente el Balanc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el futuro pueden llegar a afectarl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 : Un empleado guarda en la caja fuerte joyas propias por una valor de 300 Millones 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65760" indent="-383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Joyas en Custodia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00   Custodia de Joyas 300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JO: Test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lternativa múltipl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Una gran empresa consultora tiene un departamento con oficinas desocupadas y las arrienda a un bufett de abogados que no trabajan para la consultora. Este activo es: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1. Fijo 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2. Circulante 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3. Interin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4. Fijo 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5.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-2289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STRUCTURA DE BALANCE DE GEST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2895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El proceso de orden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básic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Principios de orden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621360" y="1719360"/>
            <a:ext cx="790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Tahoma"/>
              </a:rPr>
              <a:t>Tema 1. Introducción - Ordenamiento 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Tahoma"/>
              </a:rPr>
              <a:t>del</a:t>
            </a: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4d4d4d"/>
                </a:solidFill>
                <a:latin typeface="Tahoma"/>
              </a:rPr>
              <a:t>Balance.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STRUCTURA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BALANCE DE GEST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El proceso de orden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Porqué ordenar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emento de armonía dentro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so previo a la interpret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emento de análisis inter-empres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xistencia de tres balanc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Gest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acienda - SII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Bancos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1. El proceso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 Cómo ordenar el balance 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comienza con un balance desordenad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definen criterios de agrupación de masas patrimonial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ordenan las grandes cuentas en base a los criterios de orde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2. Esquema básic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.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Fij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ateri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materi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5040360" y="2438280"/>
            <a:ext cx="2503440" cy="1303560"/>
          </a:xfrm>
          <a:prstGeom prst="rect">
            <a:avLst/>
          </a:prstGeom>
          <a:ln w="0">
            <a:noFill/>
          </a:ln>
        </p:spPr>
      </p:pic>
      <p:pic>
        <p:nvPicPr>
          <p:cNvPr id="99" name="Object 3" descr=""/>
          <p:cNvPicPr/>
          <p:nvPr/>
        </p:nvPicPr>
        <p:blipFill>
          <a:blip r:embed="rId2"/>
          <a:stretch/>
        </p:blipFill>
        <p:spPr>
          <a:xfrm>
            <a:off x="5783400" y="4343400"/>
            <a:ext cx="1455480" cy="13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2. Esquema básic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.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apital Propi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pital Soci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serv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Corto Plaz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Largo Plaz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ciclo de maduración del negoci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04" name="Group 20"/>
          <p:cNvGrpSpPr/>
          <p:nvPr/>
        </p:nvGrpSpPr>
        <p:grpSpPr>
          <a:xfrm>
            <a:off x="3071880" y="3108240"/>
            <a:ext cx="5172120" cy="3368520"/>
            <a:chOff x="3071880" y="3108240"/>
            <a:chExt cx="5172120" cy="3368520"/>
          </a:xfrm>
        </p:grpSpPr>
        <p:sp>
          <p:nvSpPr>
            <p:cNvPr id="105" name="Arc 4"/>
            <p:cNvSpPr/>
            <p:nvPr/>
          </p:nvSpPr>
          <p:spPr>
            <a:xfrm>
              <a:off x="3922560" y="3198600"/>
              <a:ext cx="1484640" cy="1484280"/>
            </a:xfrm>
            <a:custGeom>
              <a:avLst/>
              <a:gdLst>
                <a:gd name="textAreaLeft" fmla="*/ 0 w 1484640"/>
                <a:gd name="textAreaRight" fmla="*/ 1485000 w 148464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</a:path>
                <a:path stroke="0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06" name="Arc 5"/>
            <p:cNvSpPr/>
            <p:nvPr/>
          </p:nvSpPr>
          <p:spPr>
            <a:xfrm rot="10800000">
              <a:off x="3916080" y="4687200"/>
              <a:ext cx="1484280" cy="1484280"/>
            </a:xfrm>
            <a:custGeom>
              <a:avLst/>
              <a:gdLst>
                <a:gd name="textAreaLeft" fmla="*/ 0 w 1484280"/>
                <a:gd name="textAreaRight" fmla="*/ 1484640 w 148428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fill="none" w="21623" h="21600">
                  <a:moveTo>
                    <a:pt x="0" y="0"/>
                  </a:moveTo>
                  <a:cubicBezTo>
                    <a:pt x="7" y="0"/>
                    <a:pt x="15" y="-1"/>
                    <a:pt x="23" y="0"/>
                  </a:cubicBezTo>
                  <a:cubicBezTo>
                    <a:pt x="11943" y="0"/>
                    <a:pt x="21610" y="9656"/>
                    <a:pt x="21622" y="21577"/>
                  </a:cubicBezTo>
                </a:path>
                <a:path stroke="0" w="21623" h="21600">
                  <a:moveTo>
                    <a:pt x="0" y="0"/>
                  </a:moveTo>
                  <a:cubicBezTo>
                    <a:pt x="7" y="0"/>
                    <a:pt x="15" y="-1"/>
                    <a:pt x="23" y="0"/>
                  </a:cubicBezTo>
                  <a:cubicBezTo>
                    <a:pt x="11943" y="0"/>
                    <a:pt x="21610" y="9656"/>
                    <a:pt x="21622" y="21577"/>
                  </a:cubicBezTo>
                  <a:lnTo>
                    <a:pt x="23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07" name="Arc 6"/>
            <p:cNvSpPr/>
            <p:nvPr/>
          </p:nvSpPr>
          <p:spPr>
            <a:xfrm rot="10800000">
              <a:off x="5412960" y="4687200"/>
              <a:ext cx="1484280" cy="1484280"/>
            </a:xfrm>
            <a:custGeom>
              <a:avLst/>
              <a:gdLst>
                <a:gd name="textAreaLeft" fmla="*/ 0 w 1484280"/>
                <a:gd name="textAreaRight" fmla="*/ 1484640 w 148428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</a:path>
                <a:path stroke="0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08" name="Arc 7"/>
            <p:cNvSpPr/>
            <p:nvPr/>
          </p:nvSpPr>
          <p:spPr>
            <a:xfrm rot="10800000">
              <a:off x="5325840" y="3803040"/>
              <a:ext cx="1571400" cy="870120"/>
            </a:xfrm>
            <a:custGeom>
              <a:avLst/>
              <a:gdLst>
                <a:gd name="textAreaLeft" fmla="*/ 0 w 1571400"/>
                <a:gd name="textAreaRight" fmla="*/ 1571760 w 1571400"/>
                <a:gd name="textAreaTop" fmla="*/ 0 h 870120"/>
                <a:gd name="textAreaBottom" fmla="*/ 870480 h 870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578" y="21599"/>
                  </a:moveTo>
                  <a:cubicBezTo>
                    <a:pt x="9657" y="21587"/>
                    <a:pt x="0" y="11920"/>
                    <a:pt x="0" y="0"/>
                  </a:cubicBezTo>
                </a:path>
                <a:path stroke="0" w="21600" h="21600">
                  <a:moveTo>
                    <a:pt x="21578" y="21599"/>
                  </a:moveTo>
                  <a:cubicBezTo>
                    <a:pt x="9657" y="21587"/>
                    <a:pt x="0" y="11920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09" name="Line 8"/>
            <p:cNvSpPr/>
            <p:nvPr/>
          </p:nvSpPr>
          <p:spPr>
            <a:xfrm>
              <a:off x="5318280" y="3722400"/>
              <a:ext cx="0" cy="1620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0" name="Line 9"/>
            <p:cNvSpPr/>
            <p:nvPr/>
          </p:nvSpPr>
          <p:spPr>
            <a:xfrm flipH="1">
              <a:off x="3908520" y="4154400"/>
              <a:ext cx="188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1" name="Line 10"/>
            <p:cNvSpPr/>
            <p:nvPr/>
          </p:nvSpPr>
          <p:spPr>
            <a:xfrm>
              <a:off x="4879800" y="6000480"/>
              <a:ext cx="0" cy="163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2" name="Line 11"/>
            <p:cNvSpPr/>
            <p:nvPr/>
          </p:nvSpPr>
          <p:spPr>
            <a:xfrm>
              <a:off x="6369120" y="5738400"/>
              <a:ext cx="0" cy="1620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3" name="Line 12"/>
            <p:cNvSpPr/>
            <p:nvPr/>
          </p:nvSpPr>
          <p:spPr>
            <a:xfrm>
              <a:off x="6281640" y="3897000"/>
              <a:ext cx="0" cy="163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4" name="Line 13"/>
            <p:cNvSpPr/>
            <p:nvPr/>
          </p:nvSpPr>
          <p:spPr>
            <a:xfrm>
              <a:off x="5405400" y="3108240"/>
              <a:ext cx="0" cy="163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5" name="Rectangle 14"/>
            <p:cNvSpPr/>
            <p:nvPr/>
          </p:nvSpPr>
          <p:spPr>
            <a:xfrm>
              <a:off x="5357880" y="3457440"/>
              <a:ext cx="79056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6" name="Rectangle 15"/>
            <p:cNvSpPr/>
            <p:nvPr/>
          </p:nvSpPr>
          <p:spPr>
            <a:xfrm>
              <a:off x="6802560" y="4246200"/>
              <a:ext cx="144144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abricación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7" name="Rectangle 16"/>
            <p:cNvSpPr/>
            <p:nvPr/>
          </p:nvSpPr>
          <p:spPr>
            <a:xfrm>
              <a:off x="5043240" y="5822640"/>
              <a:ext cx="119772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roduct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8" name="Rectangle 17"/>
            <p:cNvSpPr/>
            <p:nvPr/>
          </p:nvSpPr>
          <p:spPr>
            <a:xfrm>
              <a:off x="5063400" y="3895560"/>
              <a:ext cx="128448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M. Prima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9" name="Rectangle 18"/>
            <p:cNvSpPr/>
            <p:nvPr/>
          </p:nvSpPr>
          <p:spPr>
            <a:xfrm>
              <a:off x="3071880" y="4858920"/>
              <a:ext cx="83196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Venta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0" name="Rectangle 19"/>
            <p:cNvSpPr/>
            <p:nvPr/>
          </p:nvSpPr>
          <p:spPr>
            <a:xfrm>
              <a:off x="3492720" y="3193920"/>
              <a:ext cx="106956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21" name="Rectangle 21"/>
          <p:cNvSpPr/>
          <p:nvPr/>
        </p:nvSpPr>
        <p:spPr>
          <a:xfrm>
            <a:off x="-91800" y="4854600"/>
            <a:ext cx="31334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clo Económico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opio+Fabricación+Ven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clo Financiero 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eríodo entre Ventas-Pag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Eduardo Contreras Villablanca</cp:lastModifiedBy>
  <cp:lastPrinted>2002-11-13T13:47:55Z</cp:lastPrinted>
  <dcterms:modified xsi:type="dcterms:W3CDTF">2011-10-12T15:12:58Z</dcterms:modified>
  <cp:revision>362</cp:revision>
  <dc:subject/>
  <dc:title>Formulación de Proyectos</dc:title>
</cp:coreProperties>
</file>