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9D52B-0C33-48BA-A70D-98E74419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9650A-331E-4C6C-A527-1408ACE7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0B74A-033A-4B15-80D1-6D7A0B4D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88738-0515-40ED-94B9-E5FCF342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4C6CA-1792-44E4-8E7B-2B4A1D6E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02893-D1CE-4F94-867C-50F9AC9B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2B3C2-B1C1-48C5-84F6-D09F2721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9AF14-0D72-4616-9EEC-CA029B8E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03FEE-BDFA-45CF-A7BD-447E16F5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BFE82-B3C1-41E0-A60E-452AA859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730E2-B2C6-4A90-A483-12B0D9B9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9E4DC-3483-462F-9C80-533BE00D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3212-01CB-46E7-84E2-AAEACE8E103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4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5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98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99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4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5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6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7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1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1-10-12T15:12:58Z</dcterms:modified>
  <cp:revision>362</cp:revision>
  <dc:subject/>
  <dc:title>Formulación de Proyectos</dc:title>
</cp:coreProperties>
</file>