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AB4DE-C895-4BD9-B565-6C428DEE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72CAD-C5AB-45B1-86C4-8E0A08F5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A7EBB-91CD-4FF7-B83A-EF699B25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6361C-0A90-496B-BD9A-44CD6D2A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1EF71-CC05-4E08-AFF2-63BBF0FD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EC017-2176-4016-A73D-BC84268B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86F1B-43D8-4627-BA34-2E5C5316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2E190-7207-4162-BE24-DE6B5D6B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8985F-BCBB-4067-B160-72E342AA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7AA46-907A-4C26-AF16-15268AA8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81EA7-0D0D-465F-A310-A030B7B7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2B3DA-7B90-4FDE-912F-AD18DB9A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4863-A37B-4C1B-BC67-1C146B5F3B3C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icro (empres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para funcionar requier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obtener esos activos require pagar por ellos,i.e., financiarl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teoría financiera nos entrega modelos y herramientas de apoyo para decisiones como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cuales activos inverti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uanto invertir en cada 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ómo conseguir los fondos necesarios para esas inversion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éxito de las decisiones anteriores se mide por la contribución de estas al mayor o menor VALOR de la empres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acro (mercado financier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ga herramientas para el análisis del flujo ahorro-inversión: Transferencia de recursos desde oferentes de capital (ahorrantes) a demandantes de capital (inversionist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ienta y permite diseñar políticas para incidir en la asignación de recursos entre empresas y sect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r como intermediario entre las operaciones de la empresa y el mercado de capita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tar flujos de Tesorería desde los inversionistas (ahorrantes) para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vertir dichos flujos en activos necesarios para la operación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onar los rendimientos que generan los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invirtiendo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tribuyendo a los inversioni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64080" y="3359160"/>
            <a:ext cx="1511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68920" y="3408480"/>
            <a:ext cx="111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Ger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016760" y="2901960"/>
            <a:ext cx="15112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23400" y="3027240"/>
            <a:ext cx="1162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erc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996840" y="2901960"/>
            <a:ext cx="1511280" cy="20448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190160" y="3027240"/>
            <a:ext cx="1123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175000" y="3429000"/>
            <a:ext cx="18414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954680" y="2104920"/>
            <a:ext cx="217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recur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 venta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2"/>
          <p:cNvSpPr/>
          <p:nvPr/>
        </p:nvSpPr>
        <p:spPr>
          <a:xfrm flipH="1">
            <a:off x="2507760" y="3429000"/>
            <a:ext cx="11559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357280" y="2257560"/>
            <a:ext cx="1890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cursos 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ones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2521080" y="4343400"/>
            <a:ext cx="105408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449800" y="4543560"/>
            <a:ext cx="1729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nd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tenido en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Arc 16"/>
          <p:cNvSpPr/>
          <p:nvPr/>
        </p:nvSpPr>
        <p:spPr>
          <a:xfrm>
            <a:off x="5181480" y="4038480"/>
            <a:ext cx="374760" cy="222480"/>
          </a:xfrm>
          <a:custGeom>
            <a:avLst/>
            <a:gdLst>
              <a:gd name="textAreaLeft" fmla="*/ 0 w 374760"/>
              <a:gd name="textAreaRight" fmla="*/ 375120 w 374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Arc 17"/>
          <p:cNvSpPr/>
          <p:nvPr/>
        </p:nvSpPr>
        <p:spPr>
          <a:xfrm>
            <a:off x="5181480" y="37418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622120" y="3857760"/>
            <a:ext cx="144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187960" y="4419720"/>
            <a:ext cx="18162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5041440" y="4772160"/>
            <a:ext cx="1848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tribució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 inversionis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28600" y="1600200"/>
            <a:ext cx="8686800" cy="5257800"/>
            <a:chOff x="228600" y="1600200"/>
            <a:chExt cx="8686800" cy="5257800"/>
          </a:xfrm>
        </p:grpSpPr>
        <p:sp>
          <p:nvSpPr>
            <p:cNvPr id="113" name="AutoShape 3"/>
            <p:cNvSpPr/>
            <p:nvPr/>
          </p:nvSpPr>
          <p:spPr>
            <a:xfrm>
              <a:off x="228600" y="1600200"/>
              <a:ext cx="8686800" cy="52578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3365640" y="1665360"/>
              <a:ext cx="24717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506040" y="1679400"/>
              <a:ext cx="240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ESTADO DE RESULTADO (M$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971960" y="212256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501048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Times New Roman"/>
                </a:rPr>
                <a:t>200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7454880" y="212256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749484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00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314280" y="2344680"/>
              <a:ext cx="1754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431280" y="235728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Ingres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4379760" y="2330280"/>
              <a:ext cx="801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482720" y="23446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,824,75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5972040" y="2344680"/>
              <a:ext cx="482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605736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6873840" y="23446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6965640" y="2357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,323,86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8381880" y="2344680"/>
              <a:ext cx="480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846540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314280" y="2565360"/>
              <a:ext cx="1544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408240" y="2579760"/>
              <a:ext cx="1482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st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4329000" y="2565360"/>
              <a:ext cx="852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424400" y="25797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,159,43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6072120" y="256536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615528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64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6813720" y="2565360"/>
              <a:ext cx="777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6901200" y="2579760"/>
              <a:ext cx="71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,283,90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8493120" y="256536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857592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314280" y="2787480"/>
              <a:ext cx="24465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454680" y="2801880"/>
              <a:ext cx="237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MARGEN DE CONTRIBU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4514760" y="278748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614120" y="28018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665,3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6046920" y="2787480"/>
              <a:ext cx="407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612864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3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6873840" y="27874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6965640" y="28018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,039,96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8467560" y="278748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855108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5021280" y="300996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5099760" y="3024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314280" y="3232080"/>
              <a:ext cx="2397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427680" y="3244680"/>
              <a:ext cx="233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de Administración y Venta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4465800" y="323208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4560480" y="32446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50,8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6072120" y="323208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615528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6935760" y="323208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024680" y="324468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868,16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493120" y="323208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857592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314280" y="3452760"/>
              <a:ext cx="1828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25880" y="346716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Depreciación del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651200" y="3452760"/>
              <a:ext cx="530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4738680" y="34671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,16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6157800" y="3452760"/>
              <a:ext cx="284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623916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7023240" y="34527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7108560" y="34671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7,06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8567640" y="3452760"/>
              <a:ext cx="282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864900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314280" y="3675240"/>
              <a:ext cx="2371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64"/>
            <p:cNvSpPr/>
            <p:nvPr/>
          </p:nvSpPr>
          <p:spPr>
            <a:xfrm>
              <a:off x="450000" y="3689280"/>
              <a:ext cx="230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Rectangle 65"/>
            <p:cNvSpPr/>
            <p:nvPr/>
          </p:nvSpPr>
          <p:spPr>
            <a:xfrm>
              <a:off x="4514760" y="3675240"/>
              <a:ext cx="679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614120" y="3689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311,3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6046920" y="367524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612864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6873840" y="3675240"/>
              <a:ext cx="73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6965640" y="3689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,124,7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8467560" y="367524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855108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021280" y="38973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099760" y="39117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314280" y="4119480"/>
              <a:ext cx="1322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415440" y="4132440"/>
              <a:ext cx="125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Financiero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6" name="Rectangle 77"/>
            <p:cNvSpPr/>
            <p:nvPr/>
          </p:nvSpPr>
          <p:spPr>
            <a:xfrm>
              <a:off x="4552920" y="4119480"/>
              <a:ext cx="628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7" name="Rectangle 78"/>
            <p:cNvSpPr/>
            <p:nvPr/>
          </p:nvSpPr>
          <p:spPr>
            <a:xfrm>
              <a:off x="4644360" y="413244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87,17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8" name="Rectangle 79"/>
            <p:cNvSpPr/>
            <p:nvPr/>
          </p:nvSpPr>
          <p:spPr>
            <a:xfrm>
              <a:off x="6072120" y="4119480"/>
              <a:ext cx="370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9" name="Rectangle 80"/>
            <p:cNvSpPr/>
            <p:nvPr/>
          </p:nvSpPr>
          <p:spPr>
            <a:xfrm>
              <a:off x="6155280" y="41324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0" name="Rectangle 81"/>
            <p:cNvSpPr/>
            <p:nvPr/>
          </p:nvSpPr>
          <p:spPr>
            <a:xfrm>
              <a:off x="6935760" y="4119480"/>
              <a:ext cx="6685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1" name="Rectangle 82"/>
            <p:cNvSpPr/>
            <p:nvPr/>
          </p:nvSpPr>
          <p:spPr>
            <a:xfrm>
              <a:off x="7024680" y="413244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135,8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Rectangle 83"/>
            <p:cNvSpPr/>
            <p:nvPr/>
          </p:nvSpPr>
          <p:spPr>
            <a:xfrm>
              <a:off x="8567640" y="411948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Rectangle 84"/>
            <p:cNvSpPr/>
            <p:nvPr/>
          </p:nvSpPr>
          <p:spPr>
            <a:xfrm>
              <a:off x="8649000" y="41324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85"/>
            <p:cNvSpPr/>
            <p:nvPr/>
          </p:nvSpPr>
          <p:spPr>
            <a:xfrm>
              <a:off x="339840" y="4340160"/>
              <a:ext cx="19508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5" name="Rectangle 86"/>
            <p:cNvSpPr/>
            <p:nvPr/>
          </p:nvSpPr>
          <p:spPr>
            <a:xfrm>
              <a:off x="407160" y="4354560"/>
              <a:ext cx="142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tereses y reajustes (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6" name="Rectangle 87"/>
            <p:cNvSpPr/>
            <p:nvPr/>
          </p:nvSpPr>
          <p:spPr>
            <a:xfrm>
              <a:off x="1818360" y="43545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leasing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2282040" y="43545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8" name="Rectangle 89"/>
            <p:cNvSpPr/>
            <p:nvPr/>
          </p:nvSpPr>
          <p:spPr>
            <a:xfrm>
              <a:off x="5021280" y="4340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9" name="Rectangle 90"/>
            <p:cNvSpPr/>
            <p:nvPr/>
          </p:nvSpPr>
          <p:spPr>
            <a:xfrm>
              <a:off x="5099760" y="4354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0" name="Rectangle 91"/>
            <p:cNvSpPr/>
            <p:nvPr/>
          </p:nvSpPr>
          <p:spPr>
            <a:xfrm>
              <a:off x="6157800" y="43401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1" name="Rectangle 92"/>
            <p:cNvSpPr/>
            <p:nvPr/>
          </p:nvSpPr>
          <p:spPr>
            <a:xfrm>
              <a:off x="623916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7023240" y="4340160"/>
              <a:ext cx="568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94"/>
            <p:cNvSpPr/>
            <p:nvPr/>
          </p:nvSpPr>
          <p:spPr>
            <a:xfrm>
              <a:off x="7108560" y="43545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2,45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95"/>
            <p:cNvSpPr/>
            <p:nvPr/>
          </p:nvSpPr>
          <p:spPr>
            <a:xfrm>
              <a:off x="8567640" y="43401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96"/>
            <p:cNvSpPr/>
            <p:nvPr/>
          </p:nvSpPr>
          <p:spPr>
            <a:xfrm>
              <a:off x="864900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7"/>
            <p:cNvSpPr/>
            <p:nvPr/>
          </p:nvSpPr>
          <p:spPr>
            <a:xfrm>
              <a:off x="314280" y="4562640"/>
              <a:ext cx="20764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98"/>
            <p:cNvSpPr/>
            <p:nvPr/>
          </p:nvSpPr>
          <p:spPr>
            <a:xfrm>
              <a:off x="416880" y="4576680"/>
              <a:ext cx="200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4700520" y="4562640"/>
              <a:ext cx="480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00"/>
            <p:cNvSpPr/>
            <p:nvPr/>
          </p:nvSpPr>
          <p:spPr>
            <a:xfrm>
              <a:off x="4784040" y="45766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,35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01"/>
            <p:cNvSpPr/>
            <p:nvPr/>
          </p:nvSpPr>
          <p:spPr>
            <a:xfrm>
              <a:off x="6157800" y="4562640"/>
              <a:ext cx="2844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02"/>
            <p:cNvSpPr/>
            <p:nvPr/>
          </p:nvSpPr>
          <p:spPr>
            <a:xfrm>
              <a:off x="623916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03"/>
            <p:cNvSpPr/>
            <p:nvPr/>
          </p:nvSpPr>
          <p:spPr>
            <a:xfrm>
              <a:off x="7157880" y="4562640"/>
              <a:ext cx="43344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04"/>
            <p:cNvSpPr/>
            <p:nvPr/>
          </p:nvSpPr>
          <p:spPr>
            <a:xfrm>
              <a:off x="7238880" y="45766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,11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05"/>
            <p:cNvSpPr/>
            <p:nvPr/>
          </p:nvSpPr>
          <p:spPr>
            <a:xfrm>
              <a:off x="8567640" y="4562640"/>
              <a:ext cx="282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6"/>
            <p:cNvSpPr/>
            <p:nvPr/>
          </p:nvSpPr>
          <p:spPr>
            <a:xfrm>
              <a:off x="864900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07"/>
            <p:cNvSpPr/>
            <p:nvPr/>
          </p:nvSpPr>
          <p:spPr>
            <a:xfrm>
              <a:off x="314280" y="4784760"/>
              <a:ext cx="20383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08"/>
            <p:cNvSpPr/>
            <p:nvPr/>
          </p:nvSpPr>
          <p:spPr>
            <a:xfrm>
              <a:off x="416880" y="4799160"/>
              <a:ext cx="197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E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09"/>
            <p:cNvSpPr/>
            <p:nvPr/>
          </p:nvSpPr>
          <p:spPr>
            <a:xfrm>
              <a:off x="4465800" y="478476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110"/>
            <p:cNvSpPr/>
            <p:nvPr/>
          </p:nvSpPr>
          <p:spPr>
            <a:xfrm>
              <a:off x="4560480" y="47991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17,42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111"/>
            <p:cNvSpPr/>
            <p:nvPr/>
          </p:nvSpPr>
          <p:spPr>
            <a:xfrm>
              <a:off x="6157800" y="47847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112"/>
            <p:cNvSpPr/>
            <p:nvPr/>
          </p:nvSpPr>
          <p:spPr>
            <a:xfrm>
              <a:off x="623916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113"/>
            <p:cNvSpPr/>
            <p:nvPr/>
          </p:nvSpPr>
          <p:spPr>
            <a:xfrm>
              <a:off x="7454880" y="4784760"/>
              <a:ext cx="149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114"/>
            <p:cNvSpPr/>
            <p:nvPr/>
          </p:nvSpPr>
          <p:spPr>
            <a:xfrm>
              <a:off x="7532280" y="4799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115"/>
            <p:cNvSpPr/>
            <p:nvPr/>
          </p:nvSpPr>
          <p:spPr>
            <a:xfrm>
              <a:off x="8567640" y="47847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116"/>
            <p:cNvSpPr/>
            <p:nvPr/>
          </p:nvSpPr>
          <p:spPr>
            <a:xfrm>
              <a:off x="864900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117"/>
            <p:cNvSpPr/>
            <p:nvPr/>
          </p:nvSpPr>
          <p:spPr>
            <a:xfrm>
              <a:off x="314280" y="5019840"/>
              <a:ext cx="15210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118"/>
            <p:cNvSpPr/>
            <p:nvPr/>
          </p:nvSpPr>
          <p:spPr>
            <a:xfrm>
              <a:off x="417960" y="5019840"/>
              <a:ext cx="1450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rrección Monetari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19"/>
            <p:cNvSpPr/>
            <p:nvPr/>
          </p:nvSpPr>
          <p:spPr>
            <a:xfrm>
              <a:off x="4613400" y="50054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120"/>
            <p:cNvSpPr/>
            <p:nvPr/>
          </p:nvSpPr>
          <p:spPr>
            <a:xfrm>
              <a:off x="4702680" y="501984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49,13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121"/>
            <p:cNvSpPr/>
            <p:nvPr/>
          </p:nvSpPr>
          <p:spPr>
            <a:xfrm>
              <a:off x="7023240" y="50198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122"/>
            <p:cNvSpPr/>
            <p:nvPr/>
          </p:nvSpPr>
          <p:spPr>
            <a:xfrm>
              <a:off x="7108560" y="501984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7,8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123"/>
            <p:cNvSpPr/>
            <p:nvPr/>
          </p:nvSpPr>
          <p:spPr>
            <a:xfrm>
              <a:off x="314280" y="5227560"/>
              <a:ext cx="2656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124"/>
            <p:cNvSpPr/>
            <p:nvPr/>
          </p:nvSpPr>
          <p:spPr>
            <a:xfrm>
              <a:off x="460800" y="5241960"/>
              <a:ext cx="258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N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125"/>
            <p:cNvSpPr/>
            <p:nvPr/>
          </p:nvSpPr>
          <p:spPr>
            <a:xfrm>
              <a:off x="4465800" y="5227560"/>
              <a:ext cx="728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126"/>
            <p:cNvSpPr/>
            <p:nvPr/>
          </p:nvSpPr>
          <p:spPr>
            <a:xfrm>
              <a:off x="4566960" y="52419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-153,11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127"/>
            <p:cNvSpPr/>
            <p:nvPr/>
          </p:nvSpPr>
          <p:spPr>
            <a:xfrm>
              <a:off x="6083280" y="5227560"/>
              <a:ext cx="371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128"/>
            <p:cNvSpPr/>
            <p:nvPr/>
          </p:nvSpPr>
          <p:spPr>
            <a:xfrm>
              <a:off x="616788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129"/>
            <p:cNvSpPr/>
            <p:nvPr/>
          </p:nvSpPr>
          <p:spPr>
            <a:xfrm>
              <a:off x="6935760" y="522756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130"/>
            <p:cNvSpPr/>
            <p:nvPr/>
          </p:nvSpPr>
          <p:spPr>
            <a:xfrm>
              <a:off x="7024680" y="524196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201,0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131"/>
            <p:cNvSpPr/>
            <p:nvPr/>
          </p:nvSpPr>
          <p:spPr>
            <a:xfrm>
              <a:off x="8493120" y="5227560"/>
              <a:ext cx="369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132"/>
            <p:cNvSpPr/>
            <p:nvPr/>
          </p:nvSpPr>
          <p:spPr>
            <a:xfrm>
              <a:off x="857592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5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33"/>
            <p:cNvSpPr/>
            <p:nvPr/>
          </p:nvSpPr>
          <p:spPr>
            <a:xfrm>
              <a:off x="5021280" y="54500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134"/>
            <p:cNvSpPr/>
            <p:nvPr/>
          </p:nvSpPr>
          <p:spPr>
            <a:xfrm>
              <a:off x="5099760" y="5464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135"/>
            <p:cNvSpPr/>
            <p:nvPr/>
          </p:nvSpPr>
          <p:spPr>
            <a:xfrm>
              <a:off x="5021280" y="5672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136"/>
            <p:cNvSpPr/>
            <p:nvPr/>
          </p:nvSpPr>
          <p:spPr>
            <a:xfrm>
              <a:off x="5099760" y="5686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37"/>
            <p:cNvSpPr/>
            <p:nvPr/>
          </p:nvSpPr>
          <p:spPr>
            <a:xfrm>
              <a:off x="314280" y="5907240"/>
              <a:ext cx="24843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138"/>
            <p:cNvSpPr/>
            <p:nvPr/>
          </p:nvSpPr>
          <p:spPr>
            <a:xfrm>
              <a:off x="446400" y="5907240"/>
              <a:ext cx="240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RESULTADO ANTES DE IMPTO.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139"/>
            <p:cNvSpPr/>
            <p:nvPr/>
          </p:nvSpPr>
          <p:spPr>
            <a:xfrm>
              <a:off x="4514760" y="5892840"/>
              <a:ext cx="666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140"/>
            <p:cNvSpPr/>
            <p:nvPr/>
          </p:nvSpPr>
          <p:spPr>
            <a:xfrm>
              <a:off x="4607640" y="5907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158,22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141"/>
            <p:cNvSpPr/>
            <p:nvPr/>
          </p:nvSpPr>
          <p:spPr>
            <a:xfrm>
              <a:off x="6157800" y="590724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142"/>
            <p:cNvSpPr/>
            <p:nvPr/>
          </p:nvSpPr>
          <p:spPr>
            <a:xfrm>
              <a:off x="6239160" y="59072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143"/>
            <p:cNvSpPr/>
            <p:nvPr/>
          </p:nvSpPr>
          <p:spPr>
            <a:xfrm>
              <a:off x="6997680" y="590724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144"/>
            <p:cNvSpPr/>
            <p:nvPr/>
          </p:nvSpPr>
          <p:spPr>
            <a:xfrm>
              <a:off x="7083000" y="590724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23,7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145"/>
            <p:cNvSpPr/>
            <p:nvPr/>
          </p:nvSpPr>
          <p:spPr>
            <a:xfrm>
              <a:off x="8493120" y="5907240"/>
              <a:ext cx="3571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146"/>
            <p:cNvSpPr/>
            <p:nvPr/>
          </p:nvSpPr>
          <p:spPr>
            <a:xfrm>
              <a:off x="8575920" y="59072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147"/>
            <p:cNvSpPr/>
            <p:nvPr/>
          </p:nvSpPr>
          <p:spPr>
            <a:xfrm>
              <a:off x="314280" y="6127920"/>
              <a:ext cx="1371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148"/>
            <p:cNvSpPr/>
            <p:nvPr/>
          </p:nvSpPr>
          <p:spPr>
            <a:xfrm>
              <a:off x="406440" y="6141960"/>
              <a:ext cx="1312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mpuesto a la Rent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149"/>
            <p:cNvSpPr/>
            <p:nvPr/>
          </p:nvSpPr>
          <p:spPr>
            <a:xfrm>
              <a:off x="4613400" y="61149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150"/>
            <p:cNvSpPr/>
            <p:nvPr/>
          </p:nvSpPr>
          <p:spPr>
            <a:xfrm>
              <a:off x="4702680" y="61293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3,73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151"/>
            <p:cNvSpPr/>
            <p:nvPr/>
          </p:nvSpPr>
          <p:spPr>
            <a:xfrm>
              <a:off x="6157800" y="612792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152"/>
            <p:cNvSpPr/>
            <p:nvPr/>
          </p:nvSpPr>
          <p:spPr>
            <a:xfrm>
              <a:off x="623916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153"/>
            <p:cNvSpPr/>
            <p:nvPr/>
          </p:nvSpPr>
          <p:spPr>
            <a:xfrm>
              <a:off x="6997680" y="612792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154"/>
            <p:cNvSpPr/>
            <p:nvPr/>
          </p:nvSpPr>
          <p:spPr>
            <a:xfrm>
              <a:off x="7083000" y="6141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31,58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155"/>
            <p:cNvSpPr/>
            <p:nvPr/>
          </p:nvSpPr>
          <p:spPr>
            <a:xfrm>
              <a:off x="8567640" y="6127920"/>
              <a:ext cx="282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156"/>
            <p:cNvSpPr/>
            <p:nvPr/>
          </p:nvSpPr>
          <p:spPr>
            <a:xfrm>
              <a:off x="864900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157"/>
            <p:cNvSpPr/>
            <p:nvPr/>
          </p:nvSpPr>
          <p:spPr>
            <a:xfrm>
              <a:off x="5021280" y="63374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158"/>
            <p:cNvSpPr/>
            <p:nvPr/>
          </p:nvSpPr>
          <p:spPr>
            <a:xfrm>
              <a:off x="5099760" y="6351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159"/>
            <p:cNvSpPr/>
            <p:nvPr/>
          </p:nvSpPr>
          <p:spPr>
            <a:xfrm>
              <a:off x="314280" y="6559560"/>
              <a:ext cx="2755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160"/>
            <p:cNvSpPr/>
            <p:nvPr/>
          </p:nvSpPr>
          <p:spPr>
            <a:xfrm>
              <a:off x="457920" y="6573960"/>
              <a:ext cx="267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UTILIDAD (PÉRDIDA)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161"/>
            <p:cNvSpPr/>
            <p:nvPr/>
          </p:nvSpPr>
          <p:spPr>
            <a:xfrm>
              <a:off x="4514760" y="655956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162"/>
            <p:cNvSpPr/>
            <p:nvPr/>
          </p:nvSpPr>
          <p:spPr>
            <a:xfrm>
              <a:off x="4614120" y="65739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34,487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163"/>
            <p:cNvSpPr/>
            <p:nvPr/>
          </p:nvSpPr>
          <p:spPr>
            <a:xfrm>
              <a:off x="6134040" y="6559560"/>
              <a:ext cx="320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164"/>
            <p:cNvSpPr/>
            <p:nvPr/>
          </p:nvSpPr>
          <p:spPr>
            <a:xfrm>
              <a:off x="6213600" y="65739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165"/>
            <p:cNvSpPr/>
            <p:nvPr/>
          </p:nvSpPr>
          <p:spPr>
            <a:xfrm>
              <a:off x="6997680" y="655956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166"/>
            <p:cNvSpPr/>
            <p:nvPr/>
          </p:nvSpPr>
          <p:spPr>
            <a:xfrm>
              <a:off x="7083000" y="6573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92,1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167"/>
            <p:cNvSpPr/>
            <p:nvPr/>
          </p:nvSpPr>
          <p:spPr>
            <a:xfrm>
              <a:off x="8467560" y="655956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168"/>
            <p:cNvSpPr/>
            <p:nvPr/>
          </p:nvSpPr>
          <p:spPr>
            <a:xfrm>
              <a:off x="8551080" y="65739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169"/>
            <p:cNvSpPr/>
            <p:nvPr/>
          </p:nvSpPr>
          <p:spPr>
            <a:xfrm>
              <a:off x="264960" y="1625760"/>
              <a:ext cx="38160" cy="5181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170"/>
            <p:cNvSpPr/>
            <p:nvPr/>
          </p:nvSpPr>
          <p:spPr>
            <a:xfrm>
              <a:off x="8801280" y="1665360"/>
              <a:ext cx="37800" cy="5141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171"/>
            <p:cNvSpPr/>
            <p:nvPr/>
          </p:nvSpPr>
          <p:spPr>
            <a:xfrm>
              <a:off x="3835440" y="2122560"/>
              <a:ext cx="2520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172"/>
            <p:cNvSpPr/>
            <p:nvPr/>
          </p:nvSpPr>
          <p:spPr>
            <a:xfrm>
              <a:off x="6392880" y="2122560"/>
              <a:ext cx="2556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173"/>
            <p:cNvSpPr/>
            <p:nvPr/>
          </p:nvSpPr>
          <p:spPr>
            <a:xfrm>
              <a:off x="303120" y="16257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303120" y="20829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Rectangle 175"/>
            <p:cNvSpPr/>
            <p:nvPr/>
          </p:nvSpPr>
          <p:spPr>
            <a:xfrm>
              <a:off x="303120" y="676764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684080" y="1738440"/>
            <a:ext cx="562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ASIFICACION  DE INSTRUMEN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BALANC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2216160" y="3054240"/>
            <a:ext cx="3263760" cy="3264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3809880" y="3054240"/>
            <a:ext cx="0" cy="32641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2216160" y="426708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3816360" y="464832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2554920" y="3262320"/>
            <a:ext cx="833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2411640" y="45576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960000" y="356724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4281120" y="5091120"/>
            <a:ext cx="88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u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6599520" y="3567240"/>
            <a:ext cx="112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6827400" y="5319720"/>
            <a:ext cx="51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R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7" name="Line 14"/>
          <p:cNvSpPr/>
          <p:nvPr/>
        </p:nvSpPr>
        <p:spPr>
          <a:xfrm flipH="1">
            <a:off x="5708160" y="3886200"/>
            <a:ext cx="6987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8" name="Line 15"/>
          <p:cNvSpPr/>
          <p:nvPr/>
        </p:nvSpPr>
        <p:spPr>
          <a:xfrm flipH="1">
            <a:off x="5708520" y="5562720"/>
            <a:ext cx="77472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09T14:06:50Z</dcterms:modified>
  <cp:revision>363</cp:revision>
  <dc:subject/>
  <dc:title>Formulación de Proyectos</dc:title>
</cp:coreProperties>
</file>