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24AD9-4AEF-4F8A-83E9-A12ABD46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58A64-CD71-4D82-A7C6-6E15FFEA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C47D7-688A-400E-9CFF-4C32EBF3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551E8-6B31-48E6-B429-676CB198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59A01-4D18-4C02-9EB9-433643E4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68FF0-B641-4747-AE88-BF216A59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27996-BD66-41C2-B041-9039EE90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9BFE0-8D5A-498A-B83E-FE41E99E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94C6A-9F1D-4F1E-B3D3-A54A3AF3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B1124-D76C-4903-91F5-FCAA759A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71A79-F1CC-48AA-A676-7A922984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63B07-4218-476D-9292-9973E8C8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83C7-3C3E-467E-A6C8-07116947F48A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3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8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9T14:06:50Z</dcterms:modified>
  <cp:revision>363</cp:revision>
  <dc:subject/>
  <dc:title>Formulación de Proyectos</dc:title>
</cp:coreProperties>
</file>