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E9D91-01D9-4431-940D-AA7174CF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9C0D6-BD43-437F-86B5-FA5DDB09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3DE59-A224-4237-9C0F-AD3DF8E3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D0302-EF54-40C6-A4E2-3AED6343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DB6BA-0941-4227-9FE2-041F13F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C971C-F3F6-4633-B1E4-1148327F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6858A-468E-489E-871C-852DEC34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13F70-8954-4996-B8B9-249BC78F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670D7-59DE-4F33-9E1D-A0843A9D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1C2DB-3E5C-4F62-9853-D127E696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A114D-0C41-489D-B404-D307CB05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5D761-4CB3-4B60-AA05-049D9C888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AC29-D270-41E4-97B9-52F8B944A1F9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icro (empres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para funcionar requiere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ra obtener esos activos require pagar por ellos,i.e., financiarl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teoría financiera nos entrega modelos y herramientas de apoyo para decisiones como: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cuales activos inverti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uanto invertir en cada activ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ómo conseguir los fondos necesarios para esas inversion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Que son y para que sirven las finanz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éxito de las decisiones anteriores se mide por la contribución de estas al mayor o menor VALOR de la empresa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 nivel macro (mercado financier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ntrega herramientas para el análisis del flujo ahorro-inversión: Transferencia de recursos desde oferentes de capital (ahorrantes) a demandantes de capital (inversionista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rienta y permite diseñar políticas para incidir en la asignación de recursos entre empresas y sect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r como intermediario entre las operaciones de la empresa y el mercado de capitale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tar flujos de Tesorería desde los inversionistas (ahorrantes) para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Invertir dichos flujos en activos necesarios para la operación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onar los rendimientos que generan los act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invirtiendo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tribuyendo a los inversionista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areas del administrador financier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664080" y="3359160"/>
            <a:ext cx="1511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868920" y="3408480"/>
            <a:ext cx="1117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Gere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7016760" y="2901960"/>
            <a:ext cx="15112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23400" y="3027240"/>
            <a:ext cx="11628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erc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996840" y="2901960"/>
            <a:ext cx="1511280" cy="20448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1190160" y="3027240"/>
            <a:ext cx="112320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mpres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5175000" y="3429000"/>
            <a:ext cx="18414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4954680" y="2104920"/>
            <a:ext cx="21747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t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recurs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r venta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Line 12"/>
          <p:cNvSpPr/>
          <p:nvPr/>
        </p:nvSpPr>
        <p:spPr>
          <a:xfrm flipH="1">
            <a:off x="2507760" y="3429000"/>
            <a:ext cx="11559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357280" y="2257560"/>
            <a:ext cx="1890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cursos 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ones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2521080" y="4343400"/>
            <a:ext cx="105408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2449800" y="4543560"/>
            <a:ext cx="1729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nd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btenido en l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peración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Eª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Arc 16"/>
          <p:cNvSpPr/>
          <p:nvPr/>
        </p:nvSpPr>
        <p:spPr>
          <a:xfrm>
            <a:off x="5181480" y="4038480"/>
            <a:ext cx="374760" cy="222480"/>
          </a:xfrm>
          <a:custGeom>
            <a:avLst/>
            <a:gdLst>
              <a:gd name="textAreaLeft" fmla="*/ 0 w 374760"/>
              <a:gd name="textAreaRight" fmla="*/ 375120 w 3747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Arc 17"/>
          <p:cNvSpPr/>
          <p:nvPr/>
        </p:nvSpPr>
        <p:spPr>
          <a:xfrm>
            <a:off x="5181480" y="37418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5622120" y="3857760"/>
            <a:ext cx="144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187960" y="4419720"/>
            <a:ext cx="181620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5041440" y="4772160"/>
            <a:ext cx="1848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tribució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 inversionis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228600" y="1600200"/>
            <a:ext cx="8686800" cy="5257800"/>
            <a:chOff x="228600" y="1600200"/>
            <a:chExt cx="8686800" cy="5257800"/>
          </a:xfrm>
        </p:grpSpPr>
        <p:sp>
          <p:nvSpPr>
            <p:cNvPr id="113" name="AutoShape 3"/>
            <p:cNvSpPr/>
            <p:nvPr/>
          </p:nvSpPr>
          <p:spPr>
            <a:xfrm>
              <a:off x="228600" y="1600200"/>
              <a:ext cx="8686800" cy="52578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3365640" y="1665360"/>
              <a:ext cx="24717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506040" y="1679400"/>
              <a:ext cx="2401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ESTADO DE RESULTADO (M$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4971960" y="212256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8"/>
            <p:cNvSpPr/>
            <p:nvPr/>
          </p:nvSpPr>
          <p:spPr>
            <a:xfrm>
              <a:off x="501048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300" spc="-1" strike="noStrike">
                  <a:solidFill>
                    <a:srgbClr val="ffffff"/>
                  </a:solidFill>
                  <a:latin typeface="Times New Roman"/>
                </a:rPr>
                <a:t>200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9"/>
            <p:cNvSpPr/>
            <p:nvPr/>
          </p:nvSpPr>
          <p:spPr>
            <a:xfrm>
              <a:off x="7454880" y="212256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0"/>
            <p:cNvSpPr/>
            <p:nvPr/>
          </p:nvSpPr>
          <p:spPr>
            <a:xfrm>
              <a:off x="7494840" y="213660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00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314280" y="2344680"/>
              <a:ext cx="1754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431280" y="2357280"/>
              <a:ext cx="1683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Ingres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4379760" y="2330280"/>
              <a:ext cx="801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3" name="Rectangle 14"/>
            <p:cNvSpPr/>
            <p:nvPr/>
          </p:nvSpPr>
          <p:spPr>
            <a:xfrm>
              <a:off x="4482720" y="234468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,824,75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4" name="Rectangle 15"/>
            <p:cNvSpPr/>
            <p:nvPr/>
          </p:nvSpPr>
          <p:spPr>
            <a:xfrm>
              <a:off x="5972040" y="2344680"/>
              <a:ext cx="482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5" name="Rectangle 16"/>
            <p:cNvSpPr/>
            <p:nvPr/>
          </p:nvSpPr>
          <p:spPr>
            <a:xfrm>
              <a:off x="605736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6" name="Rectangle 17"/>
            <p:cNvSpPr/>
            <p:nvPr/>
          </p:nvSpPr>
          <p:spPr>
            <a:xfrm>
              <a:off x="6873840" y="23446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6965640" y="2357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,323,86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8381880" y="2344680"/>
              <a:ext cx="4809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8465400" y="23572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0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314280" y="2565360"/>
              <a:ext cx="1544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Rectangle 22"/>
            <p:cNvSpPr/>
            <p:nvPr/>
          </p:nvSpPr>
          <p:spPr>
            <a:xfrm>
              <a:off x="408240" y="2579760"/>
              <a:ext cx="1482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stos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Rectangle 23"/>
            <p:cNvSpPr/>
            <p:nvPr/>
          </p:nvSpPr>
          <p:spPr>
            <a:xfrm>
              <a:off x="4329000" y="2565360"/>
              <a:ext cx="8524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4424400" y="2579760"/>
              <a:ext cx="786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,159,436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Rectangle 25"/>
            <p:cNvSpPr/>
            <p:nvPr/>
          </p:nvSpPr>
          <p:spPr>
            <a:xfrm>
              <a:off x="6072120" y="256536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615528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64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6813720" y="2565360"/>
              <a:ext cx="777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901200" y="2579760"/>
              <a:ext cx="713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,283,90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8493120" y="256536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8575920" y="25797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314280" y="2787480"/>
              <a:ext cx="24465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454680" y="2801880"/>
              <a:ext cx="2378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MARGEN DE CONTRIBU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4514760" y="278748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4614120" y="28018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665,3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6046920" y="2787480"/>
              <a:ext cx="4078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612864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3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6873840" y="2787480"/>
              <a:ext cx="7304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6965640" y="28018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,039,96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8467560" y="278748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8551080" y="28018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4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5021280" y="300996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5099760" y="3024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314280" y="3232080"/>
              <a:ext cx="23972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427680" y="3244680"/>
              <a:ext cx="2332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de Administración y Venta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4465800" y="323208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4560480" y="324468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50,8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6072120" y="3232080"/>
              <a:ext cx="370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615528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6935760" y="323208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024680" y="324468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868,16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493120" y="3232080"/>
              <a:ext cx="3571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8575920" y="324468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314280" y="3452760"/>
              <a:ext cx="1828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25880" y="3467160"/>
              <a:ext cx="175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Depreciación del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651200" y="3452760"/>
              <a:ext cx="530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4738680" y="34671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3,16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6157800" y="3452760"/>
              <a:ext cx="2844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623916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7023240" y="34527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7108560" y="34671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7,061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8567640" y="3452760"/>
              <a:ext cx="282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8649000" y="3467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314280" y="3675240"/>
              <a:ext cx="2371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3" name="Rectangle 64"/>
            <p:cNvSpPr/>
            <p:nvPr/>
          </p:nvSpPr>
          <p:spPr>
            <a:xfrm>
              <a:off x="450000" y="3689280"/>
              <a:ext cx="230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4" name="Rectangle 65"/>
            <p:cNvSpPr/>
            <p:nvPr/>
          </p:nvSpPr>
          <p:spPr>
            <a:xfrm>
              <a:off x="4514760" y="3675240"/>
              <a:ext cx="6796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614120" y="36892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311,3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6046920" y="3675240"/>
              <a:ext cx="4078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612864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6873840" y="3675240"/>
              <a:ext cx="7304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6965640" y="3689280"/>
              <a:ext cx="659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,124,7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8467560" y="3675240"/>
              <a:ext cx="3952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8551080" y="368928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26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021280" y="38973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099760" y="39117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314280" y="4119480"/>
              <a:ext cx="13222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415440" y="4132440"/>
              <a:ext cx="1258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Gastos Financieros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6" name="Rectangle 77"/>
            <p:cNvSpPr/>
            <p:nvPr/>
          </p:nvSpPr>
          <p:spPr>
            <a:xfrm>
              <a:off x="4552920" y="4119480"/>
              <a:ext cx="6285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7" name="Rectangle 78"/>
            <p:cNvSpPr/>
            <p:nvPr/>
          </p:nvSpPr>
          <p:spPr>
            <a:xfrm>
              <a:off x="4644360" y="41324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87,17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8" name="Rectangle 79"/>
            <p:cNvSpPr/>
            <p:nvPr/>
          </p:nvSpPr>
          <p:spPr>
            <a:xfrm>
              <a:off x="6072120" y="4119480"/>
              <a:ext cx="370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9" name="Rectangle 80"/>
            <p:cNvSpPr/>
            <p:nvPr/>
          </p:nvSpPr>
          <p:spPr>
            <a:xfrm>
              <a:off x="6155280" y="41324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0" name="Rectangle 81"/>
            <p:cNvSpPr/>
            <p:nvPr/>
          </p:nvSpPr>
          <p:spPr>
            <a:xfrm>
              <a:off x="6935760" y="4119480"/>
              <a:ext cx="668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1" name="Rectangle 82"/>
            <p:cNvSpPr/>
            <p:nvPr/>
          </p:nvSpPr>
          <p:spPr>
            <a:xfrm>
              <a:off x="7024680" y="413244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135,83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2" name="Rectangle 83"/>
            <p:cNvSpPr/>
            <p:nvPr/>
          </p:nvSpPr>
          <p:spPr>
            <a:xfrm>
              <a:off x="8567640" y="411948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3" name="Rectangle 84"/>
            <p:cNvSpPr/>
            <p:nvPr/>
          </p:nvSpPr>
          <p:spPr>
            <a:xfrm>
              <a:off x="8649000" y="41324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4" name="Rectangle 85"/>
            <p:cNvSpPr/>
            <p:nvPr/>
          </p:nvSpPr>
          <p:spPr>
            <a:xfrm>
              <a:off x="339840" y="4340160"/>
              <a:ext cx="19508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5" name="Rectangle 86"/>
            <p:cNvSpPr/>
            <p:nvPr/>
          </p:nvSpPr>
          <p:spPr>
            <a:xfrm>
              <a:off x="407160" y="4354560"/>
              <a:ext cx="1422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tereses y reajustes (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6" name="Rectangle 87"/>
            <p:cNvSpPr/>
            <p:nvPr/>
          </p:nvSpPr>
          <p:spPr>
            <a:xfrm>
              <a:off x="1818360" y="43545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leasing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7" name="Rectangle 88"/>
            <p:cNvSpPr/>
            <p:nvPr/>
          </p:nvSpPr>
          <p:spPr>
            <a:xfrm>
              <a:off x="2282040" y="435456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8" name="Rectangle 89"/>
            <p:cNvSpPr/>
            <p:nvPr/>
          </p:nvSpPr>
          <p:spPr>
            <a:xfrm>
              <a:off x="5021280" y="4340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99" name="Rectangle 90"/>
            <p:cNvSpPr/>
            <p:nvPr/>
          </p:nvSpPr>
          <p:spPr>
            <a:xfrm>
              <a:off x="5099760" y="4354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0" name="Rectangle 91"/>
            <p:cNvSpPr/>
            <p:nvPr/>
          </p:nvSpPr>
          <p:spPr>
            <a:xfrm>
              <a:off x="6157800" y="43401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1" name="Rectangle 92"/>
            <p:cNvSpPr/>
            <p:nvPr/>
          </p:nvSpPr>
          <p:spPr>
            <a:xfrm>
              <a:off x="623916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7023240" y="4340160"/>
              <a:ext cx="5680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3" name="Rectangle 94"/>
            <p:cNvSpPr/>
            <p:nvPr/>
          </p:nvSpPr>
          <p:spPr>
            <a:xfrm>
              <a:off x="7108560" y="435456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42,459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4" name="Rectangle 95"/>
            <p:cNvSpPr/>
            <p:nvPr/>
          </p:nvSpPr>
          <p:spPr>
            <a:xfrm>
              <a:off x="8567640" y="43401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5" name="Rectangle 96"/>
            <p:cNvSpPr/>
            <p:nvPr/>
          </p:nvSpPr>
          <p:spPr>
            <a:xfrm>
              <a:off x="8649000" y="43545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6" name="Rectangle 97"/>
            <p:cNvSpPr/>
            <p:nvPr/>
          </p:nvSpPr>
          <p:spPr>
            <a:xfrm>
              <a:off x="314280" y="4562640"/>
              <a:ext cx="20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7" name="Rectangle 98"/>
            <p:cNvSpPr/>
            <p:nvPr/>
          </p:nvSpPr>
          <p:spPr>
            <a:xfrm>
              <a:off x="416880" y="4576680"/>
              <a:ext cx="200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n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4700520" y="4562640"/>
              <a:ext cx="4809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09" name="Rectangle 100"/>
            <p:cNvSpPr/>
            <p:nvPr/>
          </p:nvSpPr>
          <p:spPr>
            <a:xfrm>
              <a:off x="4784040" y="4576680"/>
              <a:ext cx="41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,35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0" name="Rectangle 101"/>
            <p:cNvSpPr/>
            <p:nvPr/>
          </p:nvSpPr>
          <p:spPr>
            <a:xfrm>
              <a:off x="6157800" y="4562640"/>
              <a:ext cx="2844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1" name="Rectangle 102"/>
            <p:cNvSpPr/>
            <p:nvPr/>
          </p:nvSpPr>
          <p:spPr>
            <a:xfrm>
              <a:off x="623916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2" name="Rectangle 103"/>
            <p:cNvSpPr/>
            <p:nvPr/>
          </p:nvSpPr>
          <p:spPr>
            <a:xfrm>
              <a:off x="7157880" y="4562640"/>
              <a:ext cx="43344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3" name="Rectangle 104"/>
            <p:cNvSpPr/>
            <p:nvPr/>
          </p:nvSpPr>
          <p:spPr>
            <a:xfrm>
              <a:off x="7238880" y="4576680"/>
              <a:ext cx="37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5,115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4" name="Rectangle 105"/>
            <p:cNvSpPr/>
            <p:nvPr/>
          </p:nvSpPr>
          <p:spPr>
            <a:xfrm>
              <a:off x="8567640" y="4562640"/>
              <a:ext cx="28260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5" name="Rectangle 106"/>
            <p:cNvSpPr/>
            <p:nvPr/>
          </p:nvSpPr>
          <p:spPr>
            <a:xfrm>
              <a:off x="8649000" y="4576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6" name="Rectangle 107"/>
            <p:cNvSpPr/>
            <p:nvPr/>
          </p:nvSpPr>
          <p:spPr>
            <a:xfrm>
              <a:off x="314280" y="4784760"/>
              <a:ext cx="20383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7" name="Rectangle 108"/>
            <p:cNvSpPr/>
            <p:nvPr/>
          </p:nvSpPr>
          <p:spPr>
            <a:xfrm>
              <a:off x="416880" y="4799160"/>
              <a:ext cx="1971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Egresos Fuera de Explotación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8" name="Rectangle 109"/>
            <p:cNvSpPr/>
            <p:nvPr/>
          </p:nvSpPr>
          <p:spPr>
            <a:xfrm>
              <a:off x="4465800" y="4784760"/>
              <a:ext cx="715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19" name="Rectangle 110"/>
            <p:cNvSpPr/>
            <p:nvPr/>
          </p:nvSpPr>
          <p:spPr>
            <a:xfrm>
              <a:off x="4560480" y="47991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-117,42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0" name="Rectangle 111"/>
            <p:cNvSpPr/>
            <p:nvPr/>
          </p:nvSpPr>
          <p:spPr>
            <a:xfrm>
              <a:off x="6157800" y="4784760"/>
              <a:ext cx="284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1" name="Rectangle 112"/>
            <p:cNvSpPr/>
            <p:nvPr/>
          </p:nvSpPr>
          <p:spPr>
            <a:xfrm>
              <a:off x="623916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2" name="Rectangle 113"/>
            <p:cNvSpPr/>
            <p:nvPr/>
          </p:nvSpPr>
          <p:spPr>
            <a:xfrm>
              <a:off x="7454880" y="4784760"/>
              <a:ext cx="1494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3" name="Rectangle 114"/>
            <p:cNvSpPr/>
            <p:nvPr/>
          </p:nvSpPr>
          <p:spPr>
            <a:xfrm>
              <a:off x="7532280" y="47991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4" name="Rectangle 115"/>
            <p:cNvSpPr/>
            <p:nvPr/>
          </p:nvSpPr>
          <p:spPr>
            <a:xfrm>
              <a:off x="8567640" y="4784760"/>
              <a:ext cx="2826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5" name="Rectangle 116"/>
            <p:cNvSpPr/>
            <p:nvPr/>
          </p:nvSpPr>
          <p:spPr>
            <a:xfrm>
              <a:off x="8649000" y="47991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0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6" name="Rectangle 117"/>
            <p:cNvSpPr/>
            <p:nvPr/>
          </p:nvSpPr>
          <p:spPr>
            <a:xfrm>
              <a:off x="314280" y="5019840"/>
              <a:ext cx="15210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7" name="Rectangle 118"/>
            <p:cNvSpPr/>
            <p:nvPr/>
          </p:nvSpPr>
          <p:spPr>
            <a:xfrm>
              <a:off x="417960" y="5019840"/>
              <a:ext cx="1450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Corrección Monetari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8" name="Rectangle 119"/>
            <p:cNvSpPr/>
            <p:nvPr/>
          </p:nvSpPr>
          <p:spPr>
            <a:xfrm>
              <a:off x="4613400" y="50054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29" name="Rectangle 120"/>
            <p:cNvSpPr/>
            <p:nvPr/>
          </p:nvSpPr>
          <p:spPr>
            <a:xfrm>
              <a:off x="4702680" y="501984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49,13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0" name="Rectangle 121"/>
            <p:cNvSpPr/>
            <p:nvPr/>
          </p:nvSpPr>
          <p:spPr>
            <a:xfrm>
              <a:off x="7023240" y="5019840"/>
              <a:ext cx="56808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1" name="Rectangle 122"/>
            <p:cNvSpPr/>
            <p:nvPr/>
          </p:nvSpPr>
          <p:spPr>
            <a:xfrm>
              <a:off x="7108560" y="5019840"/>
              <a:ext cx="50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-27,8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2" name="Rectangle 123"/>
            <p:cNvSpPr/>
            <p:nvPr/>
          </p:nvSpPr>
          <p:spPr>
            <a:xfrm>
              <a:off x="314280" y="5227560"/>
              <a:ext cx="2656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3" name="Rectangle 124"/>
            <p:cNvSpPr/>
            <p:nvPr/>
          </p:nvSpPr>
          <p:spPr>
            <a:xfrm>
              <a:off x="460800" y="5241960"/>
              <a:ext cx="2588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RESULTADO NO OPERACIONAL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4" name="Rectangle 125"/>
            <p:cNvSpPr/>
            <p:nvPr/>
          </p:nvSpPr>
          <p:spPr>
            <a:xfrm>
              <a:off x="4465800" y="5227560"/>
              <a:ext cx="72864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5" name="Rectangle 126"/>
            <p:cNvSpPr/>
            <p:nvPr/>
          </p:nvSpPr>
          <p:spPr>
            <a:xfrm>
              <a:off x="4566960" y="5241960"/>
              <a:ext cx="649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-153,114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6" name="Rectangle 127"/>
            <p:cNvSpPr/>
            <p:nvPr/>
          </p:nvSpPr>
          <p:spPr>
            <a:xfrm>
              <a:off x="6083280" y="5227560"/>
              <a:ext cx="371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7" name="Rectangle 128"/>
            <p:cNvSpPr/>
            <p:nvPr/>
          </p:nvSpPr>
          <p:spPr>
            <a:xfrm>
              <a:off x="616788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8" name="Rectangle 129"/>
            <p:cNvSpPr/>
            <p:nvPr/>
          </p:nvSpPr>
          <p:spPr>
            <a:xfrm>
              <a:off x="6935760" y="5227560"/>
              <a:ext cx="6685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39" name="Rectangle 130"/>
            <p:cNvSpPr/>
            <p:nvPr/>
          </p:nvSpPr>
          <p:spPr>
            <a:xfrm>
              <a:off x="7024680" y="5241960"/>
              <a:ext cx="59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201,018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0" name="Rectangle 131"/>
            <p:cNvSpPr/>
            <p:nvPr/>
          </p:nvSpPr>
          <p:spPr>
            <a:xfrm>
              <a:off x="8493120" y="5227560"/>
              <a:ext cx="369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1" name="Rectangle 132"/>
            <p:cNvSpPr/>
            <p:nvPr/>
          </p:nvSpPr>
          <p:spPr>
            <a:xfrm>
              <a:off x="8575920" y="524196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-5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2" name="Rectangle 133"/>
            <p:cNvSpPr/>
            <p:nvPr/>
          </p:nvSpPr>
          <p:spPr>
            <a:xfrm>
              <a:off x="5021280" y="54500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3" name="Rectangle 134"/>
            <p:cNvSpPr/>
            <p:nvPr/>
          </p:nvSpPr>
          <p:spPr>
            <a:xfrm>
              <a:off x="5099760" y="54640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4" name="Rectangle 135"/>
            <p:cNvSpPr/>
            <p:nvPr/>
          </p:nvSpPr>
          <p:spPr>
            <a:xfrm>
              <a:off x="5021280" y="5672160"/>
              <a:ext cx="1731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5" name="Rectangle 136"/>
            <p:cNvSpPr/>
            <p:nvPr/>
          </p:nvSpPr>
          <p:spPr>
            <a:xfrm>
              <a:off x="5099760" y="5686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6" name="Rectangle 137"/>
            <p:cNvSpPr/>
            <p:nvPr/>
          </p:nvSpPr>
          <p:spPr>
            <a:xfrm>
              <a:off x="314280" y="5907240"/>
              <a:ext cx="24843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7" name="Rectangle 138"/>
            <p:cNvSpPr/>
            <p:nvPr/>
          </p:nvSpPr>
          <p:spPr>
            <a:xfrm>
              <a:off x="446400" y="5907240"/>
              <a:ext cx="2405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RESULTADO ANTES DE IMPTO.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8" name="Rectangle 139"/>
            <p:cNvSpPr/>
            <p:nvPr/>
          </p:nvSpPr>
          <p:spPr>
            <a:xfrm>
              <a:off x="4514760" y="5892840"/>
              <a:ext cx="666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49" name="Rectangle 140"/>
            <p:cNvSpPr/>
            <p:nvPr/>
          </p:nvSpPr>
          <p:spPr>
            <a:xfrm>
              <a:off x="4607640" y="590724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158,22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0" name="Rectangle 141"/>
            <p:cNvSpPr/>
            <p:nvPr/>
          </p:nvSpPr>
          <p:spPr>
            <a:xfrm>
              <a:off x="6157800" y="590724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1" name="Rectangle 142"/>
            <p:cNvSpPr/>
            <p:nvPr/>
          </p:nvSpPr>
          <p:spPr>
            <a:xfrm>
              <a:off x="6239160" y="590724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2" name="Rectangle 143"/>
            <p:cNvSpPr/>
            <p:nvPr/>
          </p:nvSpPr>
          <p:spPr>
            <a:xfrm>
              <a:off x="6997680" y="590724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3" name="Rectangle 144"/>
            <p:cNvSpPr/>
            <p:nvPr/>
          </p:nvSpPr>
          <p:spPr>
            <a:xfrm>
              <a:off x="7083000" y="590724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923,72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4" name="Rectangle 145"/>
            <p:cNvSpPr/>
            <p:nvPr/>
          </p:nvSpPr>
          <p:spPr>
            <a:xfrm>
              <a:off x="8493120" y="5907240"/>
              <a:ext cx="35712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5" name="Rectangle 146"/>
            <p:cNvSpPr/>
            <p:nvPr/>
          </p:nvSpPr>
          <p:spPr>
            <a:xfrm>
              <a:off x="8575920" y="5907240"/>
              <a:ext cx="302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2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6" name="Rectangle 147"/>
            <p:cNvSpPr/>
            <p:nvPr/>
          </p:nvSpPr>
          <p:spPr>
            <a:xfrm>
              <a:off x="314280" y="6127920"/>
              <a:ext cx="1371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7" name="Rectangle 148"/>
            <p:cNvSpPr/>
            <p:nvPr/>
          </p:nvSpPr>
          <p:spPr>
            <a:xfrm>
              <a:off x="406440" y="6141960"/>
              <a:ext cx="1312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Impuesto a la Renta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8" name="Rectangle 149"/>
            <p:cNvSpPr/>
            <p:nvPr/>
          </p:nvSpPr>
          <p:spPr>
            <a:xfrm>
              <a:off x="4613400" y="6114960"/>
              <a:ext cx="5680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59" name="Rectangle 150"/>
            <p:cNvSpPr/>
            <p:nvPr/>
          </p:nvSpPr>
          <p:spPr>
            <a:xfrm>
              <a:off x="4702680" y="6129360"/>
              <a:ext cx="503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23,733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0" name="Rectangle 151"/>
            <p:cNvSpPr/>
            <p:nvPr/>
          </p:nvSpPr>
          <p:spPr>
            <a:xfrm>
              <a:off x="6157800" y="6127920"/>
              <a:ext cx="2844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623916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2" name="Rectangle 153"/>
            <p:cNvSpPr/>
            <p:nvPr/>
          </p:nvSpPr>
          <p:spPr>
            <a:xfrm>
              <a:off x="6997680" y="6127920"/>
              <a:ext cx="59364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3" name="Rectangle 154"/>
            <p:cNvSpPr/>
            <p:nvPr/>
          </p:nvSpPr>
          <p:spPr>
            <a:xfrm>
              <a:off x="7083000" y="6141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131,582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4" name="Rectangle 155"/>
            <p:cNvSpPr/>
            <p:nvPr/>
          </p:nvSpPr>
          <p:spPr>
            <a:xfrm>
              <a:off x="8567640" y="6127920"/>
              <a:ext cx="28260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5" name="Rectangle 156"/>
            <p:cNvSpPr/>
            <p:nvPr/>
          </p:nvSpPr>
          <p:spPr>
            <a:xfrm>
              <a:off x="8649000" y="61419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Times New Roman"/>
                </a:rPr>
                <a:t>3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6" name="Rectangle 157"/>
            <p:cNvSpPr/>
            <p:nvPr/>
          </p:nvSpPr>
          <p:spPr>
            <a:xfrm>
              <a:off x="5021280" y="6337440"/>
              <a:ext cx="173160" cy="2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7" name="Rectangle 158"/>
            <p:cNvSpPr/>
            <p:nvPr/>
          </p:nvSpPr>
          <p:spPr>
            <a:xfrm>
              <a:off x="5099760" y="63514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8" name="Rectangle 159"/>
            <p:cNvSpPr/>
            <p:nvPr/>
          </p:nvSpPr>
          <p:spPr>
            <a:xfrm>
              <a:off x="314280" y="6559560"/>
              <a:ext cx="27558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69" name="Rectangle 160"/>
            <p:cNvSpPr/>
            <p:nvPr/>
          </p:nvSpPr>
          <p:spPr>
            <a:xfrm>
              <a:off x="457920" y="6573960"/>
              <a:ext cx="2679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UTILIDAD (PÉRDIDA) EJERCICIO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0" name="Rectangle 161"/>
            <p:cNvSpPr/>
            <p:nvPr/>
          </p:nvSpPr>
          <p:spPr>
            <a:xfrm>
              <a:off x="4514760" y="6559560"/>
              <a:ext cx="6796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1" name="Rectangle 162"/>
            <p:cNvSpPr/>
            <p:nvPr/>
          </p:nvSpPr>
          <p:spPr>
            <a:xfrm>
              <a:off x="4614120" y="657396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Arial"/>
                </a:rPr>
                <a:t>134,487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2" name="Rectangle 163"/>
            <p:cNvSpPr/>
            <p:nvPr/>
          </p:nvSpPr>
          <p:spPr>
            <a:xfrm>
              <a:off x="6134040" y="6559560"/>
              <a:ext cx="32076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3" name="Rectangle 164"/>
            <p:cNvSpPr/>
            <p:nvPr/>
          </p:nvSpPr>
          <p:spPr>
            <a:xfrm>
              <a:off x="6213600" y="65739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4" name="Rectangle 165"/>
            <p:cNvSpPr/>
            <p:nvPr/>
          </p:nvSpPr>
          <p:spPr>
            <a:xfrm>
              <a:off x="6997680" y="655956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5" name="Rectangle 166"/>
            <p:cNvSpPr/>
            <p:nvPr/>
          </p:nvSpPr>
          <p:spPr>
            <a:xfrm>
              <a:off x="7083000" y="6573960"/>
              <a:ext cx="535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792,140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6" name="Rectangle 167"/>
            <p:cNvSpPr/>
            <p:nvPr/>
          </p:nvSpPr>
          <p:spPr>
            <a:xfrm>
              <a:off x="8467560" y="6559560"/>
              <a:ext cx="39528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7" name="Rectangle 168"/>
            <p:cNvSpPr/>
            <p:nvPr/>
          </p:nvSpPr>
          <p:spPr>
            <a:xfrm>
              <a:off x="8551080" y="6573960"/>
              <a:ext cx="329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Times New Roman"/>
                </a:rPr>
                <a:t>18%</a:t>
              </a:r>
              <a:endParaRPr b="0" lang="en-US" sz="13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8" name="Rectangle 169"/>
            <p:cNvSpPr/>
            <p:nvPr/>
          </p:nvSpPr>
          <p:spPr>
            <a:xfrm>
              <a:off x="264960" y="1625760"/>
              <a:ext cx="38160" cy="5181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79" name="Rectangle 170"/>
            <p:cNvSpPr/>
            <p:nvPr/>
          </p:nvSpPr>
          <p:spPr>
            <a:xfrm>
              <a:off x="8801280" y="1665360"/>
              <a:ext cx="37800" cy="5141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0" name="Rectangle 171"/>
            <p:cNvSpPr/>
            <p:nvPr/>
          </p:nvSpPr>
          <p:spPr>
            <a:xfrm>
              <a:off x="3835440" y="2122560"/>
              <a:ext cx="2520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1" name="Rectangle 172"/>
            <p:cNvSpPr/>
            <p:nvPr/>
          </p:nvSpPr>
          <p:spPr>
            <a:xfrm>
              <a:off x="6392880" y="2122560"/>
              <a:ext cx="25560" cy="46846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2" name="Rectangle 173"/>
            <p:cNvSpPr/>
            <p:nvPr/>
          </p:nvSpPr>
          <p:spPr>
            <a:xfrm>
              <a:off x="303120" y="16257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3" name="Rectangle 174"/>
            <p:cNvSpPr/>
            <p:nvPr/>
          </p:nvSpPr>
          <p:spPr>
            <a:xfrm>
              <a:off x="303120" y="208296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284" name="Rectangle 175"/>
            <p:cNvSpPr/>
            <p:nvPr/>
          </p:nvSpPr>
          <p:spPr>
            <a:xfrm>
              <a:off x="303120" y="6767640"/>
              <a:ext cx="8535960" cy="396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Introducción a la teoría y la gestión financier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684080" y="1738440"/>
            <a:ext cx="562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LASIFICACION  DE INSTRUMENTOS FINANCIER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BALANC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2216160" y="3054240"/>
            <a:ext cx="3263760" cy="3264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3809880" y="3054240"/>
            <a:ext cx="0" cy="326412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2216160" y="426708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3816360" y="4648320"/>
            <a:ext cx="15876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2554920" y="3262320"/>
            <a:ext cx="833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411640" y="4557600"/>
            <a:ext cx="12726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3" name="Rectangle 10"/>
          <p:cNvSpPr/>
          <p:nvPr/>
        </p:nvSpPr>
        <p:spPr>
          <a:xfrm>
            <a:off x="3960000" y="3567240"/>
            <a:ext cx="1376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4281120" y="5091120"/>
            <a:ext cx="888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u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6599520" y="3567240"/>
            <a:ext cx="1126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6827400" y="5319720"/>
            <a:ext cx="519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R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5708160" y="3886200"/>
            <a:ext cx="6987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5708520" y="5562720"/>
            <a:ext cx="77472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09T14:06:50Z</dcterms:modified>
  <cp:revision>363</cp:revision>
  <dc:subject/>
  <dc:title>Formulación de Proyectos</dc:title>
</cp:coreProperties>
</file>