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97742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"/>
          <p:cNvGrpSpPr/>
          <p:nvPr/>
        </p:nvGrpSpPr>
        <p:grpSpPr>
          <a:xfrm>
            <a:off x="0" y="7920"/>
            <a:ext cx="9132840" cy="6838920"/>
            <a:chOff x="0" y="7920"/>
            <a:chExt cx="9132840" cy="6838920"/>
          </a:xfrm>
        </p:grpSpPr>
        <p:sp>
          <p:nvSpPr>
            <p:cNvPr id="1" name="Freeform 2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>
                <a:gd name="textAreaLeft" fmla="*/ 0 w 3744720"/>
                <a:gd name="textAreaRight" fmla="*/ 3745080 w 3744720"/>
                <a:gd name="textAreaTop" fmla="*/ 0 h 5261040"/>
                <a:gd name="textAreaBottom" fmla="*/ 5261040 h 5261040"/>
              </a:gdLst>
              <a:ahLst/>
              <a:rect l="textAreaLeft" t="textAreaTop" r="textAreaRight" b="textAreaBottom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0" y="7920"/>
              <a:ext cx="8404200" cy="6838920"/>
            </a:xfrm>
            <a:custGeom>
              <a:avLst/>
              <a:gdLst>
                <a:gd name="textAreaLeft" fmla="*/ 0 w 8404200"/>
                <a:gd name="textAreaRight" fmla="*/ 8404560 w 8404200"/>
                <a:gd name="textAreaTop" fmla="*/ 0 h 6838920"/>
                <a:gd name="textAreaBottom" fmla="*/ 6839280 h 683892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cap="rnd" w="12600">
              <a:solidFill>
                <a:srgbClr val="3365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6bf6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cc00"/>
                </a:solidFill>
                <a:latin typeface="Arial"/>
              </a:rPr>
              <a:t>Propiedad Intelectual y las Patentes</a:t>
            </a:r>
            <a:br>
              <a:rPr sz="4400"/>
            </a:b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1000080" y="641520"/>
            <a:ext cx="7215120" cy="57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INAPI: Instituto Nacional de Propiedad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Ley20.25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Organismo de carácter técnico y jurídico encargado de la administración y atención de los servicios de Propiedad Industr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e corresponde promover la protección que brinda la propiedad industrial y difundir el acervo tecnológico y la información de que disponga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¿Qué es innovación?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71680" y="1143000"/>
            <a:ext cx="80294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ffffff"/>
                </a:solidFill>
                <a:latin typeface="Arial"/>
              </a:rPr>
              <a:t>Innovación: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es la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transformación de una idea en un producto vendible 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nuevo o mejorado o en un proceso operativo en la industria y en el comercio o en nuevo método de servicio social. (OCDE, 1992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Proceso mediante el cual ciertos productos o procesos productiv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, desarrollados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en base a nuevos conocimient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o a la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combinación novedosa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 de conocimiento preexistente, son </a:t>
            </a:r>
            <a:r>
              <a:rPr b="0" lang="es-ES" sz="2600" spc="-1" strike="noStrike" u="sng">
                <a:solidFill>
                  <a:srgbClr val="ffffff"/>
                </a:solidFill>
                <a:uFillTx/>
                <a:latin typeface="Arial"/>
              </a:rPr>
              <a:t>introducidos eficazmente en los mercados</a:t>
            </a: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, y por lo tanto en la vida social. Consejo Nac. De Innovac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6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¿qué es tecnología?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junto de conocimientos e información propios de una actividad, que pueden ser utilizados de forma sistemática, para el diseño, desarrollo, fabricación y comercialización de productos, o la prestación de servicios, incluyendo la aplicación adecuada de las técnicas asociadas a la gestión glob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6bf69"/>
                </a:solidFill>
                <a:latin typeface="Arial"/>
              </a:rPr>
              <a:t>TECNICA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cedimiento o conjunto de reglas, normas o protocolos, que tienen como objetivo obtener un resultado determin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quiere tanto destrezas manuales como intelectu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6bf69"/>
                </a:solidFill>
                <a:latin typeface="Arial"/>
              </a:rPr>
              <a:t>CONVENIO DE PARIS (1883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Patentes de inven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Modelos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Dibujos y modelos industr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as marcas de fábrica o de comerc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as indicaciones de procedencia o denominaciones de ori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Times New Roman"/>
              </a:rPr>
              <a:t>La represión a la competencia desle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55640" y="506520"/>
            <a:ext cx="8067600" cy="90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6bf69"/>
                </a:solidFill>
                <a:latin typeface="Arial"/>
              </a:rPr>
              <a:t>Principios Básicos del Convenio de París</a:t>
            </a: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76280" y="1517760"/>
            <a:ext cx="8207280" cy="479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INDEPENDENCIA DE LAS PATENTES Y MARCAS COMER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TRATO NACIONAL</a:t>
            </a: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: Cada Estado contratante deberá conceder a los nacionales de los otros estados miembros, la misma protección que a sus propios nac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DERECHO DE PRIORIDAD</a:t>
            </a:r>
            <a:r>
              <a:rPr b="1" lang="es-ES_tradnl" sz="2800" spc="-1" strike="noStrike">
                <a:solidFill>
                  <a:srgbClr val="ffffff"/>
                </a:solidFill>
                <a:latin typeface="Albertus Medium"/>
              </a:rPr>
              <a:t>:  Derecho preferente de protec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319572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AGRICULTU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195720" y="250992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Rectangle 5"/>
          <p:cNvSpPr/>
          <p:nvPr/>
        </p:nvSpPr>
        <p:spPr>
          <a:xfrm>
            <a:off x="3195720" y="3348000"/>
            <a:ext cx="2448000" cy="728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.A.O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ERVICIO AGRICOLA Y GANADER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3195720" y="46432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DIVISION DE PROTECCION AGRICO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052800" y="5710320"/>
            <a:ext cx="2809800" cy="6264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REGISTRO DE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VARIEDADES PROTEGID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8"/>
          <p:cNvSpPr/>
          <p:nvPr/>
        </p:nvSpPr>
        <p:spPr>
          <a:xfrm>
            <a:off x="4419720" y="19875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4419720" y="2901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4419720" y="412128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11"/>
          <p:cNvSpPr/>
          <p:nvPr/>
        </p:nvSpPr>
        <p:spPr>
          <a:xfrm>
            <a:off x="4419720" y="5187960"/>
            <a:ext cx="0" cy="52056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12"/>
          <p:cNvSpPr/>
          <p:nvPr/>
        </p:nvSpPr>
        <p:spPr>
          <a:xfrm>
            <a:off x="6058440" y="1193760"/>
            <a:ext cx="316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em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tección de l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rechos de obtentor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variedades vegetales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PO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nominaciones de oríge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creto 46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200160" y="517680"/>
            <a:ext cx="859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847800" y="1617840"/>
            <a:ext cx="1519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Times New Roman"/>
              </a:rPr>
              <a:t>EST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838800" y="3301920"/>
            <a:ext cx="1524240" cy="3938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afd00"/>
                </a:solidFill>
                <a:latin typeface="Times New Roman"/>
              </a:rPr>
              <a:t>PAT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243720" y="4444920"/>
            <a:ext cx="3174840" cy="857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ff00"/>
                </a:solidFill>
                <a:latin typeface="Times New Roman"/>
              </a:rPr>
              <a:t>EMPRES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SARROL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RODUCTO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5256000" y="1655640"/>
            <a:ext cx="2903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c0128"/>
                </a:solidFill>
                <a:latin typeface="Times New Roman"/>
              </a:rPr>
              <a:t>BANCO DE DA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521080" y="1606680"/>
            <a:ext cx="2654280" cy="520560"/>
          </a:xfrm>
          <a:prstGeom prst="rightArrow">
            <a:avLst>
              <a:gd name="adj1" fmla="val 50000"/>
              <a:gd name="adj2" fmla="val 254968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692280" y="1378080"/>
            <a:ext cx="1815840" cy="9014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5187960" y="1378080"/>
            <a:ext cx="3035160" cy="10540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2628720" y="1693800"/>
            <a:ext cx="12970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ADMINIST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6296040" y="2432160"/>
            <a:ext cx="361440" cy="27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AutoShape 13"/>
          <p:cNvSpPr/>
          <p:nvPr/>
        </p:nvSpPr>
        <p:spPr>
          <a:xfrm flipH="1" rot="16200000">
            <a:off x="4883040" y="3663720"/>
            <a:ext cx="3111480" cy="673200"/>
          </a:xfrm>
          <a:prstGeom prst="rightArrow">
            <a:avLst>
              <a:gd name="adj1" fmla="val 50000"/>
              <a:gd name="adj2" fmla="val 231117"/>
            </a:avLst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5693760" y="5770440"/>
            <a:ext cx="1568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ffff"/>
                </a:solidFill>
                <a:latin typeface="Times New Roman"/>
              </a:rPr>
              <a:t>PUBL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Freeform 15"/>
          <p:cNvSpPr/>
          <p:nvPr/>
        </p:nvSpPr>
        <p:spPr>
          <a:xfrm>
            <a:off x="2362320" y="2438280"/>
            <a:ext cx="3201840" cy="1068480"/>
          </a:xfrm>
          <a:custGeom>
            <a:avLst/>
            <a:gdLst>
              <a:gd name="textAreaLeft" fmla="*/ 0 w 3201840"/>
              <a:gd name="textAreaRight" fmla="*/ 3202200 w 3201840"/>
              <a:gd name="textAreaTop" fmla="*/ 0 h 1068480"/>
              <a:gd name="textAreaBottom" fmla="*/ 1068840 h 1068480"/>
            </a:gdLst>
            <a:ahLst/>
            <a:rect l="textAreaLeft" t="textAreaTop" r="textAreaRight" b="textAreaBottom"/>
            <a:pathLst>
              <a:path w="2017" h="673">
                <a:moveTo>
                  <a:pt x="0" y="672"/>
                </a:moveTo>
                <a:lnTo>
                  <a:pt x="2016" y="672"/>
                </a:lnTo>
                <a:lnTo>
                  <a:pt x="201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¿QUE SE GANA CON OTORGAR UNA PATENTE?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cxnSp>
        <p:nvCxnSpPr>
          <p:cNvPr id="113" name="24 Conector recto de flecha"/>
          <p:cNvCxnSpPr/>
          <p:nvPr/>
        </p:nvCxnSpPr>
        <p:spPr>
          <a:xfrm flipV="1">
            <a:off x="1498680" y="3715560"/>
            <a:ext cx="2160" cy="7153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14" name="26 Conector recto de flecha"/>
          <p:cNvCxnSpPr/>
          <p:nvPr/>
        </p:nvCxnSpPr>
        <p:spPr>
          <a:xfrm flipH="1" flipV="1">
            <a:off x="1499400" y="2279160"/>
            <a:ext cx="1080" cy="10231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15" name="21 Flecha derecha"/>
          <p:cNvSpPr/>
          <p:nvPr/>
        </p:nvSpPr>
        <p:spPr>
          <a:xfrm rot="12369000">
            <a:off x="3825720" y="5342040"/>
            <a:ext cx="1555920" cy="279360"/>
          </a:xfrm>
          <a:prstGeom prst="rightArrow">
            <a:avLst>
              <a:gd name="adj1" fmla="val 50000"/>
              <a:gd name="adj2" fmla="val 49920"/>
            </a:avLst>
          </a:prstGeom>
          <a:solidFill>
            <a:srgbClr val="00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6bf69"/>
                </a:solidFill>
                <a:uFillTx/>
                <a:latin typeface="Arial"/>
              </a:rPr>
              <a:t>REQUISITOS DE PATENTABILIDAD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VEDA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PLICABILIDAD 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IVEL INVENTIV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Definición 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"cualquier propiedad que, de común acuerdo, se considere de naturaleza intelectual y merecedora de protección, incluidas las invenciones científicas y tecnológicas, las producciones literarias o artísticas, las marcas y los identificadores, los dibujos y modelos industriales y las indicaciones geográficas“ OMPI, 2000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APLICABILIDAD INDUSTRIAL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4876560"/>
            <a:ext cx="853416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lbertus Medium"/>
              </a:rPr>
              <a:t>EL CONCEPTO DE 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INDUSTRIA</a:t>
            </a:r>
            <a:r>
              <a:rPr b="0" lang="es-ES_tradnl" sz="1800" spc="-1" strike="noStrike">
                <a:solidFill>
                  <a:srgbClr val="ffffff"/>
                </a:solidFill>
                <a:latin typeface="Albertus Medium"/>
              </a:rPr>
              <a:t> = ACTIVIDAD PRODUC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lbertus Medium"/>
              </a:rPr>
              <a:t>NO SE DEBE CONFUNDIR  CON LA</a:t>
            </a:r>
            <a:r>
              <a:rPr b="1" lang="es-ES_tradnl" sz="2000" spc="-1" strike="noStrike">
                <a:solidFill>
                  <a:srgbClr val="ffffff"/>
                </a:solidFill>
                <a:latin typeface="Albertus Medium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FACTIBILIDAD TECNICA-ECONOMICA </a:t>
            </a:r>
            <a:r>
              <a:rPr b="0" lang="es-ES_tradnl" sz="1800" spc="-1" strike="noStrike">
                <a:solidFill>
                  <a:srgbClr val="ffffff"/>
                </a:solidFill>
                <a:latin typeface="Albertus Medium"/>
              </a:rPr>
              <a:t>DE LLEVAR A CABO LA INVENC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367560" y="2867040"/>
            <a:ext cx="3372840" cy="3632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APLICABILIDAD INDUSTRI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4551480" y="1824120"/>
            <a:ext cx="4064040" cy="9118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LA INVENCION SEA APLICABLE DIRECTAMENTE A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4627440" y="3637080"/>
            <a:ext cx="3759480" cy="6375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QUE PUEDA  SER  PRODUCIDA EN LA INDUST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Freeform 7"/>
          <p:cNvSpPr/>
          <p:nvPr/>
        </p:nvSpPr>
        <p:spPr>
          <a:xfrm>
            <a:off x="4038480" y="2209680"/>
            <a:ext cx="611280" cy="1754280"/>
          </a:xfrm>
          <a:custGeom>
            <a:avLst/>
            <a:gdLst>
              <a:gd name="textAreaLeft" fmla="*/ 0 w 611280"/>
              <a:gd name="textAreaRight" fmla="*/ 611280 w 611280"/>
              <a:gd name="textAreaTop" fmla="*/ 0 h 1754280"/>
              <a:gd name="textAreaBottom" fmla="*/ 1754640 h 1754280"/>
            </a:gdLst>
            <a:ahLst/>
            <a:rect l="textAreaLeft" t="textAreaTop" r="textAreaRight" b="textAreaBottom"/>
            <a:pathLst>
              <a:path w="385" h="1105">
                <a:moveTo>
                  <a:pt x="384" y="1104"/>
                </a:moveTo>
                <a:lnTo>
                  <a:pt x="0" y="1104"/>
                </a:lnTo>
                <a:lnTo>
                  <a:pt x="0" y="0"/>
                </a:lnTo>
                <a:lnTo>
                  <a:pt x="336" y="0"/>
                </a:lnTo>
              </a:path>
            </a:pathLst>
          </a:custGeom>
          <a:noFill/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STADO DE LA TECNIC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COMPRENDE TODOS LOS DOCUMENTOS A LOS QUE EL PUBLICO PUEDA TENER ACCESO, TANTO A NIVEL NACIONAL COMO INTERNACIONAL, COMPRENDE ADEMAS, LAS SOLICITUDES EN TRAMITE QUE HAYAN INGRESADO CON ANTERIORIDAD A LA SOLICITUD EXAMIN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SOLICITUD TIENE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NOVEDAD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SI NO EXISTE DOCUMENTO DEL ESTADO DE LA TECNICA QUE SE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15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XACTAMENTE IG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685800" y="43434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80880" y="373392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4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4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8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NOVEDAD</a:t>
            </a:r>
            <a:endParaRPr b="0" lang="en-US" sz="28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SULTADO DE LA BUSQUEDA DE LA TECNIC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149480" y="1911240"/>
            <a:ext cx="90144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36844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35877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49593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6330960" y="1911240"/>
            <a:ext cx="901800" cy="1206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105156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227088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11"/>
          <p:cNvSpPr/>
          <p:nvPr/>
        </p:nvSpPr>
        <p:spPr>
          <a:xfrm>
            <a:off x="34902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12"/>
          <p:cNvSpPr/>
          <p:nvPr/>
        </p:nvSpPr>
        <p:spPr>
          <a:xfrm>
            <a:off x="48618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13"/>
          <p:cNvSpPr/>
          <p:nvPr/>
        </p:nvSpPr>
        <p:spPr>
          <a:xfrm>
            <a:off x="6233400" y="1974960"/>
            <a:ext cx="1031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OCTO 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3332160" y="3606840"/>
            <a:ext cx="1549440" cy="10036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E PAT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Rectangle 15"/>
          <p:cNvSpPr/>
          <p:nvPr/>
        </p:nvSpPr>
        <p:spPr>
          <a:xfrm>
            <a:off x="1122480" y="5100480"/>
            <a:ext cx="61974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ANALISIS DE NOVEDAD</a:t>
            </a: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: SE COMPARA CADA UNO DE LOS DOCUMENTOS ENCONTRADOS EN EL ESTADO DE LA TECNICA CON EL PLIEGO DE REIVINDICACIONES DE LA SOLICITU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NIVEL INVEN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Rectangle 3"/>
          <p:cNvSpPr/>
          <p:nvPr/>
        </p:nvSpPr>
        <p:spPr>
          <a:xfrm>
            <a:off x="642960" y="1143000"/>
            <a:ext cx="7929720" cy="50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lbertus Medium"/>
              </a:rPr>
              <a:t>CON NIVEL  INVENTIVO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:  SOLUCION   NO  OBVIA (para especialista), SINERGISM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RESULTADO DE LA BUSQUEDA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SE ANALIZA  SI LA SOLICITUD PLANTEADA AL PROBLEMA SE DERIVA DE MANERA EVIDENTE DEL ESTADO DE LA TE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SE DETERMINARA SI UN DOCUMENTO ES RELEVANTE POR SI SOLO O SI LA UNION O SUMA DE DOS O MAS DOCUMENTOS PUEDEN DESTRUIR EL NIVEL INVENTIVO EN LAS REIVINDICACIONES DE LA SOLICITU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25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f6bf69"/>
                </a:solidFill>
                <a:uFillTx/>
                <a:latin typeface="Arial"/>
              </a:rPr>
              <a:t>¿QUE ES UNA INVENCION?</a:t>
            </a:r>
            <a:br>
              <a:rPr sz="3200"/>
            </a:b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LEY Nº 19.039, ARTICULO 31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lbertus Medium"/>
              </a:rPr>
              <a:t>SE ENTIENDE POR INVENCION TODA SOLUCION A UN PROBLEMA DE LA TECNICA QUE ORIGINE UN QUEHACER INDU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lbertus Medium"/>
              </a:rPr>
              <a:t>UNA INVENCION PODRA SER UN PRODUCTO O UN PROCEDIMIENTO O ESTAR RELACIONADO CON ELL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609480" y="3200400"/>
            <a:ext cx="7772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838080" y="213372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s-ES_tradnl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9980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29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lbertus Medium"/>
              </a:rPr>
              <a:t>LOS DESCUBRIMIENTOS, LAS TEORIAS CIENTIFICAS Y LOS METODOS MATEMAT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29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lbertus Medium"/>
              </a:rPr>
              <a:t>LAS VARIEDADES VEGETALES Y LAS RAZAS ANIM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29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lbertus Medium"/>
              </a:rPr>
              <a:t>LOS SISTEMAS, METODOS, PRINCIPIOS O PLANES ECONOMICOS, FINANCIEROS, COMERCIALES DE SIMPLE VERIFICACION Y FISCALIZACION; Y LOS REFERIDOS A LAS ACTIVIDADES PURAMENTE MENTALES O INTELECTUALES O A MATERIAS DE JUE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LEY 19.039 ARTICULO 37</a:t>
            </a:r>
            <a:br>
              <a:rPr sz="2800"/>
            </a:br>
            <a:r>
              <a:rPr b="1" lang="es-ES_tradnl" sz="2000" spc="-1" strike="noStrike">
                <a:solidFill>
                  <a:srgbClr val="f6bf69"/>
                </a:solidFill>
                <a:latin typeface="Arial"/>
              </a:rPr>
              <a:t>NO SE CONSIDERARA INVENCION Y QUEDAN EXCLUIDOS DE LA PROTECCION POR PATENTE DE ESTA LEY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71680" y="19288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lbertus Medium"/>
              </a:rPr>
              <a:t>LOS METODOS DE TRATAMIENTO QUIRURGICO O TERAPEUTICO DEL CUERPO HUMANO O ANIMAL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, ASI COMO LOS METODOS DE DIAGNOSTICO APLICADOS AL CUERPO HUMANO O ANIMAL, SALVO LOS PRODUCTOS DESTINADOS A PONER EN PRACTICA UNO DE ESTOS ME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25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lbertus Medium"/>
              </a:rPr>
              <a:t>EL NUEVO USO DE ARTICULOS</a:t>
            </a:r>
            <a:r>
              <a:rPr b="0" lang="es-ES_tradnl" sz="2000" spc="-1" strike="noStrike">
                <a:solidFill>
                  <a:srgbClr val="ffffff"/>
                </a:solidFill>
                <a:latin typeface="Albertus Medium"/>
              </a:rPr>
              <a:t>, OBJETOS O ELEMENTOS CONOCIDOS Y EMPLEADOS EN DETERMINADOS FINES Y EL CAMBIO DE FORMA, DIMENSIONES, PROPORCIONES Y MATERIAS DEL OBJETO SOLICITADO A NO SER QUE SE MODIFIQUEN ESENCIALMENTE LAS CUALIDADES DE AQUEL O CON SU UTILIZACION SE RESOLVIERE UN PROBLEMA TECNICO QUE ANTES NO TENIA SOLUC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6bf69"/>
                </a:solidFill>
                <a:latin typeface="Arial"/>
              </a:rPr>
              <a:t>LEY 19.039 ARTICULO 38</a:t>
            </a:r>
            <a:br>
              <a:rPr sz="2800"/>
            </a:br>
            <a:r>
              <a:rPr b="1" lang="es-ES_tradnl" sz="2400" spc="-1" strike="noStrike">
                <a:solidFill>
                  <a:srgbClr val="f6bf69"/>
                </a:solidFill>
                <a:latin typeface="Arial"/>
              </a:rPr>
              <a:t>NO SON PATENTABLES LOS INVENTOS:</a:t>
            </a:r>
            <a:endParaRPr b="0" lang="en-US" sz="2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ONTRARIO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LA LE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L ORDEN PU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LA SEGURIDAD DEL EST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 LA MORAL Y A LAS BUENAS COSTUMB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ENTADOS POR QUIEN NO ES SU LEGITIMO DUEÑ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QUE ES UN MODELO DE UTILIDAD</a:t>
            </a: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s-ES_tradnl" sz="2000" spc="-1" strike="noStrike">
                <a:solidFill>
                  <a:srgbClr val="f6bf69"/>
                </a:solidFill>
                <a:latin typeface="Arial"/>
              </a:rPr>
              <a:t>LEY Nº 19.039 ARTICULO 54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Un Modelo de Utilidad es una creación que pretende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entregar una configuración o forma tridimensional nueva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a instrumentos, aparatos, herramientas, dispositivos y, en general, a objetos o partes de los mismos, conocidos y que se utilicen para realizar un trabajo práctico, 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siempre que esta nueva configuración produzca una mejor utilización del objet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la función a la que está destina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¿</a:t>
            </a: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QUE ES UN DISEÑO INDUSTRIAL</a:t>
            </a:r>
            <a:r>
              <a:rPr b="0" lang="es-ES_tradnl" sz="3200" spc="-1" strike="noStrike">
                <a:solidFill>
                  <a:srgbClr val="f6bf69"/>
                </a:solidFill>
                <a:latin typeface="Arial"/>
              </a:rPr>
              <a:t>?</a:t>
            </a:r>
            <a:br>
              <a:rPr sz="3200"/>
            </a:br>
            <a:r>
              <a:rPr b="0" lang="es-ES_tradnl" sz="2000" spc="-1" strike="noStrike">
                <a:solidFill>
                  <a:srgbClr val="f6bf69"/>
                </a:solidFill>
                <a:latin typeface="Arial"/>
              </a:rPr>
              <a:t>LEY Nº 19.039 ARTICULO 62</a:t>
            </a:r>
            <a:endParaRPr b="0" lang="en-US" sz="20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comprende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toda forma tridimensional 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asociada o no con colores, y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cualquier artículo industrial o artesanal que sirva de patrón 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para la fabricación de otras unidades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y que se distinga de sus similares 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sea por su forma, configuración geométrica, ornamentación o una combinación de estas, siempre que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dichas características le den una apariencia especial perceptible por medio de la vista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, de tal manera </a:t>
            </a:r>
            <a:r>
              <a:rPr b="0" lang="es-ES_tradnl" sz="3000" spc="-1" strike="noStrike" u="sng">
                <a:solidFill>
                  <a:srgbClr val="ffffff"/>
                </a:solidFill>
                <a:uFillTx/>
                <a:latin typeface="Albertus Medium"/>
              </a:rPr>
              <a:t>que resulte una fisonomía original, nueva y diferente</a:t>
            </a:r>
            <a:r>
              <a:rPr b="0" lang="es-ES_tradnl" sz="3000" spc="-1" strike="noStrike">
                <a:solidFill>
                  <a:srgbClr val="ffffff"/>
                </a:solidFill>
                <a:latin typeface="Albertus Medium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6bf69"/>
                </a:solidFill>
                <a:latin typeface="Arial"/>
              </a:rPr>
              <a:t>LA PROPIEDAD INTELECTU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14200" y="1071720"/>
            <a:ext cx="8666280" cy="5429160"/>
          </a:xfrm>
          <a:prstGeom prst="rect">
            <a:avLst/>
          </a:prstGeom>
          <a:ln w="0">
            <a:noFill/>
          </a:ln>
        </p:spPr>
      </p:pic>
      <p:sp>
        <p:nvSpPr>
          <p:cNvPr id="46" name="5 CuadroTexto"/>
          <p:cNvSpPr/>
          <p:nvPr/>
        </p:nvSpPr>
        <p:spPr>
          <a:xfrm>
            <a:off x="149760" y="644832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Fuente: INAP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4851360" y="34128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732040" y="466560"/>
            <a:ext cx="5743800" cy="1633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2887560" y="2362320"/>
            <a:ext cx="5608800" cy="1838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2793960" y="4495680"/>
            <a:ext cx="5730840" cy="1905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4267080" y="228600"/>
            <a:ext cx="1600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890800" y="37620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2967120" y="2281320"/>
            <a:ext cx="236196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2890800" y="4414680"/>
            <a:ext cx="236232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ESTADO DE LA TECNI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6624720" y="37620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6548400" y="228132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12"/>
          <p:cNvSpPr/>
          <p:nvPr/>
        </p:nvSpPr>
        <p:spPr>
          <a:xfrm>
            <a:off x="6700680" y="4414680"/>
            <a:ext cx="1143000" cy="302040"/>
          </a:xfrm>
          <a:prstGeom prst="rect">
            <a:avLst/>
          </a:prstGeom>
          <a:solidFill>
            <a:srgbClr val="00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Times New Roman"/>
              </a:rPr>
              <a:t>CREACI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604800" y="1062000"/>
            <a:ext cx="1762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INVENC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604800" y="2967120"/>
            <a:ext cx="14572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MODELO DE UT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681120" y="5176800"/>
            <a:ext cx="1533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imes New Roman"/>
              </a:rPr>
              <a:t>DISEÑO INDUSTRI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¿Qué es una patente?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5800" y="1000080"/>
            <a:ext cx="7772400" cy="18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Se entiende por patente el derecho exclusivo que concede el Estado para la protección de una inven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Picture 2" descr=""/>
          <p:cNvPicPr/>
          <p:nvPr/>
        </p:nvPicPr>
        <p:blipFill>
          <a:blip r:embed="rId1"/>
          <a:stretch/>
        </p:blipFill>
        <p:spPr>
          <a:xfrm>
            <a:off x="299880" y="3071880"/>
            <a:ext cx="8413920" cy="29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609120"/>
            <a:ext cx="55292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Modelo Industrial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76" name="Picture 2" descr="http://ts3.mm.bing.net/images/thumbnail.aspx?q=309186206910&amp;id=999c546f9cbbb86d898e6e73145f01de&amp;url=http%3a%2f%2fwww.pallomaro.com%2fwp-content%2fuploads%2f2009%2f08%2fJET-20L.JPG"/>
          <p:cNvPicPr/>
          <p:nvPr/>
        </p:nvPicPr>
        <p:blipFill>
          <a:blip r:embed="rId1"/>
          <a:stretch/>
        </p:blipFill>
        <p:spPr>
          <a:xfrm>
            <a:off x="571680" y="3306600"/>
            <a:ext cx="2428560" cy="2718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http://ts1.mm.bing.net/images/thumbnail.aspx?q=309451753720&amp;id=9c6eb83c6a6f5756249560e0d591dd6f&amp;url=http%3a%2f%2fwww.herramientasymas.com%2fimages%2fFONDOS%2f20%2520Galones.jpg"/>
          <p:cNvPicPr/>
          <p:nvPr/>
        </p:nvPicPr>
        <p:blipFill>
          <a:blip r:embed="rId2"/>
          <a:stretch/>
        </p:blipFill>
        <p:spPr>
          <a:xfrm>
            <a:off x="3071880" y="2500200"/>
            <a:ext cx="2705040" cy="2214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http://ts2.mm.bing.net/images/thumbnail.aspx?q=282503678525&amp;id=9751ef9aae76074bc199e0786bd99279&amp;url=http%3a%2f%2fwww.produsca.com%2fImages%2fImagesPEQ%2f20107.jpg"/>
          <p:cNvPicPr/>
          <p:nvPr/>
        </p:nvPicPr>
        <p:blipFill>
          <a:blip r:embed="rId3"/>
          <a:stretch/>
        </p:blipFill>
        <p:spPr>
          <a:xfrm>
            <a:off x="5857920" y="278604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http://ts1.mm.bing.net/images/thumbnail.aspx?q=314670131916&amp;id=73a7503a50ed92c123070d121aa6d9c0&amp;url=http%3a%2f%2fwww.llorka.com%2fsistema%2fprofile%2fmedia%2f.gallery%2fmain233.jpg"/>
          <p:cNvPicPr/>
          <p:nvPr/>
        </p:nvPicPr>
        <p:blipFill>
          <a:blip r:embed="rId4"/>
          <a:stretch/>
        </p:blipFill>
        <p:spPr>
          <a:xfrm>
            <a:off x="3143160" y="478620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http://ts3.mm.bing.net/images/thumbnail.aspx?q=312361681694&amp;id=ddfb0122971c061135d11587570f5a6d&amp;url=http%3a%2f%2fsan-son.com%2fimages%2fvitrina-comercial-zafira.png"/>
          <p:cNvPicPr/>
          <p:nvPr/>
        </p:nvPicPr>
        <p:blipFill>
          <a:blip r:embed="rId5"/>
          <a:stretch/>
        </p:blipFill>
        <p:spPr>
          <a:xfrm>
            <a:off x="5072040" y="4786200"/>
            <a:ext cx="2286000" cy="18576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2" descr="http://ts3.mm.bing.net/images/thumbnail.aspx?q=307308597234&amp;id=56d1478e7cba2cedc3048dc8c63a0422&amp;url=http%3a%2f%2fwww.ferreterialallave.com%2fimages%2fVARIOS%2fASPIRADO481.PNG"/>
          <p:cNvPicPr/>
          <p:nvPr/>
        </p:nvPicPr>
        <p:blipFill>
          <a:blip r:embed="rId6"/>
          <a:stretch/>
        </p:blipFill>
        <p:spPr>
          <a:xfrm>
            <a:off x="285840" y="642960"/>
            <a:ext cx="253980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0" descr="http://ts2.mm.bing.net/images/thumbnail.aspx?q=280353188837&amp;id=6ca996aa8732c1a9e99029106c436633&amp;url=http%3a%2f%2fwww.diariomotor.com%2fimagenes%2flamborghini-embolado-0.jpg"/>
          <p:cNvPicPr/>
          <p:nvPr/>
        </p:nvPicPr>
        <p:blipFill>
          <a:blip r:embed="rId1"/>
          <a:stretch/>
        </p:blipFill>
        <p:spPr>
          <a:xfrm>
            <a:off x="5500800" y="4357800"/>
            <a:ext cx="3062160" cy="22780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829040" y="642600"/>
            <a:ext cx="395784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Diseños industriales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84" name="Picture 2" descr="http://ts3.mm.bing.net/images/thumbnail.aspx?q=308973933910&amp;id=9a883c27f6abd4def085dcf3d6b15e30&amp;url=http%3a%2f%2fwww.esacademic.com%2fpictures%2feswiki%2f73%2fIPod_Nano_4G_black.jpg"/>
          <p:cNvPicPr/>
          <p:nvPr/>
        </p:nvPicPr>
        <p:blipFill>
          <a:blip r:embed="rId2"/>
          <a:stretch/>
        </p:blipFill>
        <p:spPr>
          <a:xfrm>
            <a:off x="3000240" y="492912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http://ts2.mm.bing.net/images/thumbnail.aspx?q=304906244905&amp;id=4c697ea7cbcb5156bda4d175c3c427b4&amp;url=http%3a%2f%2fdesign21century.files.wordpress.com%2f2008%2f11%2fwwstool_1990.jpg%3fw%3d500%26h%3d797"/>
          <p:cNvPicPr/>
          <p:nvPr/>
        </p:nvPicPr>
        <p:blipFill>
          <a:blip r:embed="rId3"/>
          <a:stretch/>
        </p:blipFill>
        <p:spPr>
          <a:xfrm>
            <a:off x="5143680" y="2357280"/>
            <a:ext cx="1571400" cy="251460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http://ts4.mm.bing.net/images/thumbnail.aspx?q=310175927603&amp;id=624e37d395cedc8b57da2c2e1d922bfe&amp;url=http%3a%2f%2fqueesgreen.files.wordpress.com%2f2009%2f09%2f3106_c5b7b4d0103a4ebe410f7aa03cd4c54b.jpg%3fw%3d600%26h%3d727"/>
          <p:cNvPicPr/>
          <p:nvPr/>
        </p:nvPicPr>
        <p:blipFill>
          <a:blip r:embed="rId4"/>
          <a:stretch/>
        </p:blipFill>
        <p:spPr>
          <a:xfrm>
            <a:off x="7072200" y="2571840"/>
            <a:ext cx="1714680" cy="2093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http://ts1.mm.bing.net/images/thumbnail.aspx?q=280607725848&amp;id=8bb6b69e74a21e9cfc70b8431a2b07b5&amp;url=http%3a%2f%2fwww.uacj.mx%2fNoticias%2fPublishingImages%2fMayo2009%2fexpoparquecentral1.jpg"/>
          <p:cNvPicPr/>
          <p:nvPr/>
        </p:nvPicPr>
        <p:blipFill>
          <a:blip r:embed="rId5"/>
          <a:stretch/>
        </p:blipFill>
        <p:spPr>
          <a:xfrm>
            <a:off x="714240" y="4929120"/>
            <a:ext cx="2071800" cy="1554120"/>
          </a:xfrm>
          <a:prstGeom prst="rect">
            <a:avLst/>
          </a:prstGeom>
          <a:ln w="0">
            <a:noFill/>
          </a:ln>
        </p:spPr>
      </p:pic>
      <p:sp>
        <p:nvSpPr>
          <p:cNvPr id="188" name="8 Rectángulo"/>
          <p:cNvSpPr/>
          <p:nvPr/>
        </p:nvSpPr>
        <p:spPr>
          <a:xfrm>
            <a:off x="214200" y="71280"/>
            <a:ext cx="4572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lbertus Medium"/>
              </a:rPr>
              <a:t>El diseño industrial sintetiza conocimientos, métodos, técnicas, creatividad y 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lbertus Medium"/>
              </a:rPr>
              <a:t>tiene como meta la concepción de objetos de producción industrial</a:t>
            </a:r>
            <a:r>
              <a:rPr b="0" lang="es-ES" sz="2400" spc="-1" strike="noStrike">
                <a:solidFill>
                  <a:srgbClr val="ffffff"/>
                </a:solidFill>
                <a:latin typeface="Albertus Medium"/>
              </a:rPr>
              <a:t>, atendiendo a sus funciones, sus cualidades estructurales, formales y estético-simbólicas, así como todos los valores y aspectos que hacen a su producción, comercialización y utilización, teniendo al ser humano como usuar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6bf69"/>
                </a:solidFill>
                <a:latin typeface="Arial"/>
              </a:rPr>
              <a:t>¿qué costo tiene patentar?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71280" y="1214280"/>
            <a:ext cx="8963280" cy="50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ESTRUCTURA DE UN DOCUMENTO DE PATENTE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OLICITUD FICH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SUMEN (HOJA TECNIC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EMORIA DESCRIP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LIEGO DE REIVINDICACI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8040" indent="-518040">
              <a:spcBef>
                <a:spcPts val="799"/>
              </a:spcBef>
              <a:spcAft>
                <a:spcPts val="1599"/>
              </a:spcAft>
              <a:buClr>
                <a:srgbClr val="fafd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BUJ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15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5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50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3. MEMORIA DESCRIPTIVA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oblema técnico que resuel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 conocido en la mater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 los dibuj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cripción detallada de la inven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2976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mplos de aplic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6bf69"/>
                </a:solidFill>
                <a:latin typeface="Arial"/>
              </a:rPr>
              <a:t>REIVINDICACION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marL="267480" indent="-267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SPECTO QUE SE DESEA PROTE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PLIEGO SE COMPONE POR UNA CLAUSULA PRINCIPAL EN QUE SE MENCIONAN LOS ELEMENTOS QUE COMPONEN LA INVEN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7480" indent="-267480" algn="just"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L RESTO DE LAS CLAUSULAS DEBE ESTAR LIGADAS A LA REIVINDICACION PRINCIPAL Y ESPECIFICARAN O DETALLARAN LOS ELEMENTOS MENCIONADOS EN LA CLAUSULA PRIN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5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50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6bf69"/>
                </a:solidFill>
                <a:latin typeface="Arial"/>
              </a:rPr>
              <a:t>PCT: Tratado de Cooperación en Materia de Patentes</a:t>
            </a:r>
            <a:endParaRPr b="0" lang="en-US" sz="32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1240" y="1071720"/>
            <a:ext cx="8172360" cy="43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 un tratado internacional administrado por la Organización Mundial de la Propiedad Intelectual (OMPI) y suscrito por 139 países parte del Convenio de Par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l PCT permite solicitar simultáneamente y en un gran número de países la protección de una invención por patente en la fase internacional, con las siguientes ventajas para el solicita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sentación de una única solicitud "internacional" de patente que en cumplimiento con los requisitos de forma del PCT, se realiza en un idioma y el pago de un único conjunto de tas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Búsqueda internacional en donde una Oficina de Administración analiza la invención y establece un dictamen sobre su potencial patentab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6bf69"/>
                </a:solidFill>
                <a:latin typeface="Arial"/>
              </a:rPr>
              <a:t>Propiedad Intelectual (en Chile)</a:t>
            </a:r>
            <a:endParaRPr b="0" lang="en-US" sz="44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2400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recho de autor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reaciones sobre obras literarias,  artísticas y music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328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501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rechos conexos comprend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reaciones de los artistas intérpretes y ejecutantes, productores fonográficos y de la radiodifus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6bf69"/>
                </a:solidFill>
                <a:latin typeface="Arial"/>
              </a:rPr>
              <a:t>Ley 17.336.: Título 1 sobre Derecho de Autor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440" y="1428840"/>
            <a:ext cx="774396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APÍTULO I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“La presente ley protege los derechos que, por el sólo hecho de la creación de la obra, adquieren los autores de obras de la inteligencia en los dominios literarios, artísticos y científicos, cualquiera que sea su forma de expresión, y los derechos conexos que ella determina.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derecho de autor comprende los derechos patrimonial y moral, que protegen el aprovechamiento, la paternidad y la integridad de la obra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63480" y="167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f6bf69"/>
                </a:solidFill>
                <a:latin typeface="Arial"/>
              </a:rPr>
              <a:t>CARACTERISTICAS </a:t>
            </a:r>
            <a:r>
              <a:rPr b="1" i="1" lang="es-ES_tradnl" sz="3600" spc="-1" strike="noStrike">
                <a:solidFill>
                  <a:srgbClr val="f6bf69"/>
                </a:solidFill>
                <a:latin typeface="Arial"/>
              </a:rPr>
              <a:t>	</a:t>
            </a:r>
            <a:r>
              <a:rPr b="1" i="1" lang="es-ES_tradnl" sz="3600" spc="-1" strike="noStrike">
                <a:solidFill>
                  <a:srgbClr val="f6bf69"/>
                </a:solidFill>
                <a:latin typeface="Arial"/>
              </a:rPr>
              <a:t>DE LA PROPIEDAD INDUSTRIAL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7680" y="2341080"/>
            <a:ext cx="6064200" cy="3087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000"/>
                </a:solidFill>
                <a:latin typeface="Arial"/>
              </a:rPr>
              <a:t>TEMPORALID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c000"/>
                </a:solidFill>
                <a:latin typeface="Arial"/>
              </a:rPr>
              <a:t>TERRITORIALIDA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4840" y="501480"/>
            <a:ext cx="8850240" cy="106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6bf69"/>
                </a:solidFill>
                <a:latin typeface="Arial"/>
              </a:rPr>
              <a:t>LA PROPIEDAD INDUSTRIAL COMPRENDE</a:t>
            </a:r>
            <a:endParaRPr b="0" lang="en-US" sz="3600" spc="-1" strike="noStrike">
              <a:solidFill>
                <a:srgbClr val="f6bf6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LAS MARCAS COMERCI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PATENTES DE INVEN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MODELO  DE UTIL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</a:rPr>
              <a:t>DISEÑO INDUSTR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195720" y="1595520"/>
            <a:ext cx="2448000" cy="7027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MINISTERIO 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EDUCACION PUBLIC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3195720" y="2967120"/>
            <a:ext cx="2448000" cy="33228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195720" y="388152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DIRECCION DE BIBLIOTECAS ARCHIVOS Y MUSE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3195720" y="5329080"/>
            <a:ext cx="2448000" cy="81900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REGISTRO DE PROPIEDAD INTELECTU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851400" y="360360"/>
            <a:ext cx="7188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TECCION DE DERECHOS INTELECTU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Y TECNOLOG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2128680" y="144288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MINISTERIO DE ECONOMIA y TURISM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452520" y="28908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UBSECRETARIA DE PES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3576600" y="2890800"/>
            <a:ext cx="2448000" cy="10526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SUBSECRETA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DE ECONOMIA  Y EMPRESAS DE MENOR TAMAÑ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576600" y="4262400"/>
            <a:ext cx="2448000" cy="83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000"/>
                </a:solidFill>
                <a:latin typeface="Times New Roman"/>
              </a:rPr>
              <a:t>INAP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Times New Roman"/>
              </a:rPr>
              <a:t>Ex-DEPARTAMENTO DE PROPIEDAD INDUSTRI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76200" y="5634000"/>
            <a:ext cx="2448000" cy="515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000"/>
                </a:solidFill>
                <a:latin typeface="Times New Roman"/>
              </a:rPr>
              <a:t>ASPECTOS CONTENCIOS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500280" y="563400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000"/>
                </a:solidFill>
                <a:latin typeface="Times New Roman"/>
              </a:rPr>
              <a:t>PATEN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6319800" y="5634000"/>
            <a:ext cx="2448000" cy="30204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c000"/>
                </a:solidFill>
                <a:latin typeface="Times New Roman"/>
              </a:rPr>
              <a:t>MARCAS COMERCIAL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10"/>
          <p:cNvSpPr/>
          <p:nvPr/>
        </p:nvSpPr>
        <p:spPr>
          <a:xfrm>
            <a:off x="3352680" y="2216160"/>
            <a:ext cx="0" cy="3682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Freeform 11"/>
          <p:cNvSpPr/>
          <p:nvPr/>
        </p:nvSpPr>
        <p:spPr>
          <a:xfrm>
            <a:off x="1600200" y="2590920"/>
            <a:ext cx="3354480" cy="306360"/>
          </a:xfrm>
          <a:custGeom>
            <a:avLst/>
            <a:gdLst>
              <a:gd name="textAreaLeft" fmla="*/ 0 w 3354480"/>
              <a:gd name="textAreaRight" fmla="*/ 3354840 w 3354480"/>
              <a:gd name="textAreaTop" fmla="*/ 0 h 306360"/>
              <a:gd name="textAreaBottom" fmla="*/ 306360 h 306360"/>
            </a:gdLst>
            <a:ahLst/>
            <a:rect l="textAreaLeft" t="textAreaTop" r="textAreaRight" b="textAreaBottom"/>
            <a:pathLst>
              <a:path w="2113" h="193">
                <a:moveTo>
                  <a:pt x="0" y="192"/>
                </a:moveTo>
                <a:lnTo>
                  <a:pt x="0" y="0"/>
                </a:lnTo>
                <a:lnTo>
                  <a:pt x="2112" y="0"/>
                </a:lnTo>
                <a:lnTo>
                  <a:pt x="2112" y="192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Line 12"/>
          <p:cNvSpPr/>
          <p:nvPr/>
        </p:nvSpPr>
        <p:spPr>
          <a:xfrm>
            <a:off x="4952880" y="3740040"/>
            <a:ext cx="0" cy="5209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Line 13"/>
          <p:cNvSpPr/>
          <p:nvPr/>
        </p:nvSpPr>
        <p:spPr>
          <a:xfrm>
            <a:off x="4952880" y="4883040"/>
            <a:ext cx="0" cy="29232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Freeform 14"/>
          <p:cNvSpPr/>
          <p:nvPr/>
        </p:nvSpPr>
        <p:spPr>
          <a:xfrm>
            <a:off x="1447920" y="5181480"/>
            <a:ext cx="6478560" cy="459000"/>
          </a:xfrm>
          <a:custGeom>
            <a:avLst/>
            <a:gdLst>
              <a:gd name="textAreaLeft" fmla="*/ 0 w 6478560"/>
              <a:gd name="textAreaRight" fmla="*/ 6478920 w 6478560"/>
              <a:gd name="textAreaTop" fmla="*/ 0 h 459000"/>
              <a:gd name="textAreaBottom" fmla="*/ 459360 h 459000"/>
            </a:gdLst>
            <a:ahLst/>
            <a:rect l="textAreaLeft" t="textAreaTop" r="textAreaRight" b="textAreaBottom"/>
            <a:pathLst>
              <a:path w="4081" h="289">
                <a:moveTo>
                  <a:pt x="0" y="288"/>
                </a:moveTo>
                <a:lnTo>
                  <a:pt x="0" y="0"/>
                </a:lnTo>
                <a:lnTo>
                  <a:pt x="4080" y="0"/>
                </a:lnTo>
                <a:lnTo>
                  <a:pt x="4080" y="288"/>
                </a:lnTo>
              </a:path>
            </a:pathLst>
          </a:custGeom>
          <a:noFill/>
          <a:ln cap="rnd" w="12600">
            <a:solidFill>
              <a:srgbClr val="ffffff"/>
            </a:solidFill>
            <a:custDash>
              <a:ds d="499000" sp="20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15"/>
          <p:cNvSpPr/>
          <p:nvPr/>
        </p:nvSpPr>
        <p:spPr>
          <a:xfrm>
            <a:off x="4952880" y="51879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2T20:55:50Z</dcterms:created>
  <dc:creator>Andrés Escobar López</dc:creator>
  <dc:description>Preparado para dictar charla el miércoles 28 de Agosto de 1996</dc:description>
  <dc:language>en-US</dc:language>
  <cp:lastModifiedBy>spl.rlp</cp:lastModifiedBy>
  <dcterms:modified xsi:type="dcterms:W3CDTF">2011-11-08T21:15:59Z</dcterms:modified>
  <cp:revision>47</cp:revision>
  <dc:subject>sistema de patentes e informacion tecnologica</dc:subject>
  <dc:title>Seminario de Patentes</dc:title>
</cp:coreProperties>
</file>