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12131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22B-894B-4732-9EE1-7987B830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4B8-4C21-4947-8AF3-AE1A1C99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F35-457F-4C1C-924E-EEF91BDB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243-F2B1-4372-AE9A-16D07A83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84E-5C69-4A7E-A785-FCB32AE7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4E8-42E3-4CF9-8D22-06BC4566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AC7-A98A-42A0-A075-3A0763F8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378-5E13-4BEF-99ED-5E9F22F8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9EF-A699-4C40-8AA3-5D3AA0EB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B19-8FBD-4D41-97D9-112FD00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1DF-55C3-452A-BF13-387B7635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931-2EB2-409A-A454-EC7871C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9C9F-A1DE-463A-AE87-D0BBFA0F5D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ctivo_(contabilidad)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ALISIS DE PROYECTO TECNOLÓGICO: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más destacado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iesgos más frecuentes en Proyectos Tecnológ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125360"/>
          <a:ext cx="8229600" cy="5524560"/>
        </p:xfrm>
        <a:graphic>
          <a:graphicData uri="http://schemas.openxmlformats.org/drawingml/2006/table">
            <a:tbl>
              <a:tblPr/>
              <a:tblGrid>
                <a:gridCol w="2128680"/>
                <a:gridCol w="2310120"/>
                <a:gridCol w="37908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IPO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NIVEL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N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Resistencia al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Financi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Oper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cceso a RR.H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 / Apropi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 ento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rco Jurí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ec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Polí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ementos que deben evaluar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475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 es el nivel de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riesgos identifica como posibles en 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de las partidas de cos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respecto al equipo profesional y técnico? ¿puede deducirse algo respecto a la empresa gestorad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Aceptaría una invitación a ser socio del proyecto, aportando el financiamiento solicit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ivel de la Innov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Es una idea novedo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Se ha aplicado anteriorm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Cuántas empresas ofrecen soluciones alternativ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Dónde se ubica esta tecnología en relación con la jerarquía de la innov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álisis de las parti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HH corresponden al cronograma y a las funciones del perso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es adecuado el valor de las person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vicios materiales y otros: ¿corresponden a ese concepto y están en el valor de merc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ienes de capital nuevos y de la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olución de la situación financie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liquidez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presenta la cualidad de los 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iv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 para ser convertidos en dinero efectivo de forma inmediata sin pérdida significativa de su val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tivos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tangible e intangible perteneciente a la em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trimonio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junto de bienes, derechos y oblig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de capital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un factor de producción constituido por inmuebles, maquinaria o instalaciones de cualquier género, que, en colaboración con otros factores, principalmente el trabajo y bienes intermedios, se destina a la producción de 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bienes de consu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 de pasivo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deuda o un compromiso que ha adquirido un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alamiento productivo:¿qué demanda en relación al financiamien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 del macroento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01:03:31Z</dcterms:created>
  <dc:creator>Rafael Lorenzini</dc:creator>
  <dc:description/>
  <dc:language>en-US</dc:language>
  <cp:lastModifiedBy>spl.rlp</cp:lastModifiedBy>
  <dcterms:modified xsi:type="dcterms:W3CDTF">2011-12-06T20:46:48Z</dcterms:modified>
  <cp:revision>13</cp:revision>
  <dc:subject/>
  <dc:title>Diseño y Fabricación de un tacógrafo laboral electrónico, basado en la legisación del Ministerio de Transporte y del Trabajo</dc:title>
</cp:coreProperties>
</file>