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12131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489-CE4A-4B30-A7AC-DA073846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84D-0089-4477-A864-E7D6DC62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B6F-29D0-4F71-9609-61B4146F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8DC-C155-4515-A09E-CB849C8A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CDC-E9BC-4C12-9BA4-DA11A623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4A5-4E08-4621-BF13-4C768E6A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219-C61E-46D2-9DA2-2BB3E13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593-2522-4216-AAB3-7E697AA2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CFF-2819-4F8B-B304-5D9CE307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EA7-9644-4D0E-8F2B-BED1C8F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D99-2D8E-4360-AA68-D22DC652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FA4-8E56-4E1F-9CEC-7D98CDEC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C72C-14E0-4FAE-B713-427C206CD8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ctivo_(contabilidad)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ALISIS DE PROYECTO TECNOLÓGICO: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más destacado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iesgos más frecuentes en Proyectos Tecnológ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125360"/>
          <a:ext cx="8229600" cy="5524560"/>
        </p:xfrm>
        <a:graphic>
          <a:graphicData uri="http://schemas.openxmlformats.org/drawingml/2006/table">
            <a:tbl>
              <a:tblPr/>
              <a:tblGrid>
                <a:gridCol w="2128680"/>
                <a:gridCol w="2310120"/>
                <a:gridCol w="3790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IPO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NIVEL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N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Resistencia al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Financi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Oper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cceso a RR.H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 / Apropi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 ento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rco Jurí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ec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Polí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ementos que deben evaluar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475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es el nivel de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riesgos identifica como posibles en 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de las partidas de cos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respecto al equipo profesional y técnico? ¿puede deducirse algo respecto a la empresa gestorad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Aceptaría una invitación a ser socio del proyecto, aportando el financiamiento solicit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ivel de la Innov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Es una idea novedo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Se ha aplicado anteriorm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uántas empresas ofrecen soluciones alternativ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Dónde se ubica esta tecnología en relación con la jerarquía de la innov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álisis de las parti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HH corresponden al cronograma y a las funciones del perso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es adecuado el valor de las person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vicios materiales y otros: ¿corresponden a ese concepto y están en el valor de merc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ienes de capital nuevos y de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olución de la situación financie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liquidez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 la cualidad de los 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iv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 para ser convertidos en dinero efectivo de forma inmediata sin pérdida significativa de su val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ivos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tangible e intangible perteneciente a la em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trimonio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bienes, derechos y oblig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de capital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 factor de producción constituido por inmuebles, maquinaria o instalaciones de cualquier género, que, en colaboración con otros factores, principalmente el trabajo y bienes intermedios, se destina a la producción de 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bienes de consu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 de pasivo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deuda o un compromiso que ha adquirido un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alamiento productivo:¿qué demanda en relación al financiamien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 del macro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01:03:31Z</dcterms:created>
  <dc:creator>Rafael Lorenzini</dc:creator>
  <dc:description/>
  <dc:language>en-US</dc:language>
  <cp:lastModifiedBy>spl.rlp</cp:lastModifiedBy>
  <dcterms:modified xsi:type="dcterms:W3CDTF">2011-12-06T20:46:48Z</dcterms:modified>
  <cp:revision>13</cp:revision>
  <dc:subject/>
  <dc:title>Diseño y Fabricación de un tacógrafo laboral electrónico, basado en la legisación del Ministerio de Transporte y del Trabajo</dc:title>
</cp:coreProperties>
</file>