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213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35D-5F37-42E1-8427-68586C81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2BB-8298-4328-81FA-BB3BC2C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616-6B22-4187-B9D1-76165C39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FF9-C5EB-455F-8194-56F945AC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165-4527-4096-8CB0-C17FBFE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8EF-4303-4BBE-BF5E-6AF8B82D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CDF-F82F-4113-9D2F-418F0EC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C4E-A3C8-4BD4-9699-6FE1373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A7F-9E1B-4DCA-8793-5D114C1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303-6A63-483D-A49E-6CD6AA9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68A-8A47-4419-B58B-DD1C797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279-AFFC-417E-AEDF-1501E33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DDD-8741-43F5-9315-A52397748A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tivo_(contabilidad)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ALISIS DE PROYECTO TECNOLÓGICO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más destacad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esgos más frecuentes en Proyectos Tecnológ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25360"/>
          <a:ext cx="8229600" cy="5524560"/>
        </p:xfrm>
        <a:graphic>
          <a:graphicData uri="http://schemas.openxmlformats.org/drawingml/2006/table">
            <a:tbl>
              <a:tblPr/>
              <a:tblGrid>
                <a:gridCol w="2128680"/>
                <a:gridCol w="2310120"/>
                <a:gridCol w="379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IPO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NIVEL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Resistencia a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Financi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Oper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cceso a RR.H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 / Apropi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 ento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rco Jurí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ec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Polí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mentos que deben evalua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el nivel de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riesgos identifica como posibles en 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de las partidas de cos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respecto al equipo profesional y técnico? ¿puede deducirse algo respecto a la empresa gestora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Aceptaría una invitación a ser socio del proyecto, aportando el financiamiento solicit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ivel de la Innov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una idea novedo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Se ha aplicado anterior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ntas empresas ofrecen soluciones alternativ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Dónde se ubica esta tecnología en relación con la jerarquía de la innov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álisis de las part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HH corresponden al cronograma y a las funciones del pers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es adecuado el valor de las perso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vicios materiales y otros: ¿corresponden a ese concepto y están en el valor de merc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ienes de capital nuevos y de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de la situación financie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iquidez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 la cualidad de los 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iv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 para ser convertidos en dinero efectivo de forma inmediata sin pérdida significativa de su val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ivo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tangible e intangible perteneciente a la e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trimonio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bienes, derechos y oblig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de capital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 factor de producción constituido por inmuebles, maquinaria o instalaciones de cualquier género, que, en colaboración con otros factores, principalmente el trabajo y bienes intermedios, se destina a la producción de 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enes de co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 de pasivo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deuda o un compromiso que ha adquirido un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lamiento productivo:¿qué demanda en relación al financiamien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 del ma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1:03:31Z</dcterms:created>
  <dc:creator>Rafael Lorenzini</dc:creator>
  <dc:description/>
  <dc:language>en-US</dc:language>
  <cp:lastModifiedBy>spl.rlp</cp:lastModifiedBy>
  <dcterms:modified xsi:type="dcterms:W3CDTF">2011-12-06T20:46:48Z</dcterms:modified>
  <cp:revision>13</cp:revision>
  <dc:subject/>
  <dc:title>Diseño y Fabricación de un tacógrafo laboral electrónico, basado en la legisación del Ministerio de Transporte y del Trabajo</dc:title>
</cp:coreProperties>
</file>