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102475" cy="12131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BC4-6BB3-45A7-9DC7-33FE7640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43E-059B-474D-B03D-7FF77D0F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5E1-C65F-465F-8945-E52099D4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B43-A248-4E5F-AEB3-B8726B67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87E-EB6D-4EAF-ABC1-79E65068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30A-007B-4864-B805-5A8E7564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D8E-CF65-4C4F-905E-AF8028C1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B61-16B3-4FD6-89EB-D170F041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303-4951-443C-8AC0-8BF6EF3E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EA9-CD3E-4E48-908B-0415DBFF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344-B142-43E6-86EC-A8A0EEA6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BE8-5D0B-4846-BD6F-26EA0FD2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55EA-42A5-4216-B645-9565BFE4E1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ctivo_(contabilidad)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ALISIS DE PROYECTO TECNOLÓGICO: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más destacado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iesgos más frecuentes en Proyectos Tecnológ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125360"/>
          <a:ext cx="8229600" cy="5524560"/>
        </p:xfrm>
        <a:graphic>
          <a:graphicData uri="http://schemas.openxmlformats.org/drawingml/2006/table">
            <a:tbl>
              <a:tblPr/>
              <a:tblGrid>
                <a:gridCol w="2128680"/>
                <a:gridCol w="2310120"/>
                <a:gridCol w="37908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IPO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NIVEL DE RIES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N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1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Resistencia al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Financi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Oper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Comer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cceso a RR.H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 / Apropi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 ento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rco Juríd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Macroec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Polí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Tecnoló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ementos que deben evaluar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475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 es el nivel de innov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riesgos identifica como posibles en 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de las partidas de cos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opinión tiene respecto al equipo profesional y técnico? ¿puede deducirse algo respecto a la empresa gestoradel proy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Aceptaría una invitación a ser socio del proyecto, aportando el financiamiento solicita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ivel de la Innov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Es una idea novedos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Se ha aplicado anteriorm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Cuántas empresas ofrecen soluciones alternativ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Dónde se ubica esta tecnología en relación con la jerarquía de la innov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álisis de las parti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HH corresponden al cronograma y a las funciones del perso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es adecuado el valor de las persona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vicios materiales y otros: ¿corresponden a ese concepto y están en el valor de merc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ienes de capital nuevos y de la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volución de la situación financie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liquidez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presenta la cualidad de los 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iv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 para ser convertidos en dinero efectivo de forma inmediata sin pérdida significativa de su valo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ctivos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tangible e intangible perteneciente a la em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trimonio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junto de bienes, derechos y oblig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spectos financieros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en de capital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un factor de producción constituido por inmuebles, maquinaria o instalaciones de cualquier género, que, en colaboración con otros factores, principalmente el trabajo y bienes intermedios, se destina a la producción de 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bienes de consu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 de pasivo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deuda o un compromiso que ha adquirido un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alamiento productivo:¿qué demanda en relación al financiamien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 del macroento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01:03:31Z</dcterms:created>
  <dc:creator>Rafael Lorenzini</dc:creator>
  <dc:description/>
  <dc:language>en-US</dc:language>
  <cp:lastModifiedBy>spl.rlp</cp:lastModifiedBy>
  <dcterms:modified xsi:type="dcterms:W3CDTF">2011-12-06T20:46:48Z</dcterms:modified>
  <cp:revision>13</cp:revision>
  <dc:subject/>
  <dc:title>Diseño y Fabricación de un tacógrafo laboral electrónico, basado en la legisación del Ministerio de Transporte y del Trabajo</dc:title>
</cp:coreProperties>
</file>