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D5D-FC4C-4085-946D-002897A5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D6B-C8FD-4329-9616-DD52A90F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06F-B02A-4028-BEC8-5ADC2862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FB1-7EF6-43D5-8FAD-07A72BA0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15A-59B4-40F9-A754-CC86FE3D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EB4-2CE0-4F0C-918A-73FE1711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15A-19BD-4C94-9DD5-A74B38BD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679-B265-416F-B843-2919F5A8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54F-FFDA-43A0-9D7E-FE65AB28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297-00BA-4BF8-97CC-5366C0FD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E5A-4078-4AEA-BF2B-F05475C1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21F-BED9-4174-BB4B-9385FEE0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50000">
              <a:srgbClr val="ff6600"/>
            </a:gs>
            <a:gs pos="100000">
              <a:srgbClr val="762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3A49-015E-455F-9D34-0AA591A643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17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cooperativa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forma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sobre la situación, lo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ventaj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480000" cy="385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900000" y="4508640"/>
            <a:ext cx="388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leg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Trist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versión /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653080" y="4437000"/>
            <a:ext cx="251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ie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55640" y="10159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295800" y="1041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531040" y="1077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35560" y="2828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231000" y="282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04120" y="28526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20600" y="-27360"/>
            <a:ext cx="758376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Relacionando caras y emocion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s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 y eficaz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Consejo Nacional de Producción Limpia</dc:creator>
  <dc:description/>
  <dc:language>en-US</dc:language>
  <cp:lastModifiedBy>spl.rlp</cp:lastModifiedBy>
  <dcterms:modified xsi:type="dcterms:W3CDTF">2011-12-01T22:04:25Z</dcterms:modified>
  <cp:revision>40</cp:revision>
  <dc:subject/>
  <dc:title>LA NEGOCIACIÓN</dc:title>
</cp:coreProperties>
</file>