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0DB-CA98-4279-8E4C-31242595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CFC-AD32-439D-8EBF-421BC55D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27B-0A50-4FF4-BF0F-343A0D2E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ADE-1359-45AC-B858-4FB2AEE2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CF0-A6EF-4611-AD12-C7965CCC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E01-5D08-4F36-8C37-18D54113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12F-5D58-4FAF-B63C-02217916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88D-4756-475F-B39D-B320923C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907-7E2D-472E-9747-D5EF430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051-EEA9-4F1C-9970-2EA8D4D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E8C-2437-470D-9D52-95CBE98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E5D-19CE-4676-8EA6-3E60A51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E244-950B-4A77-87FD-F301E80BFE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17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cooperativa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forma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sobre la situación, lo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ventaj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480000" cy="385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900000" y="4508640"/>
            <a:ext cx="388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leg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Tris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versión /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653080" y="4437000"/>
            <a:ext cx="251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ie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55640" y="10159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295800" y="1041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531040" y="1077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5560" y="2828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31000" y="28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0412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20600" y="-27360"/>
            <a:ext cx="758376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Relacionando caras y emocion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s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 y eficaz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Consejo Nacional de Producción Limpia</dc:creator>
  <dc:description/>
  <dc:language>en-US</dc:language>
  <cp:lastModifiedBy>spl.rlp</cp:lastModifiedBy>
  <dcterms:modified xsi:type="dcterms:W3CDTF">2011-12-01T22:04:25Z</dcterms:modified>
  <cp:revision>40</cp:revision>
  <dc:subject/>
  <dc:title>LA NEGOCIACIÓN</dc:title>
</cp:coreProperties>
</file>