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AF9-4A81-4798-9A60-BFB29B19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159-2766-4A24-90F2-B3BF24A0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B46-B59B-41A2-89CB-C56E4C90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545-68B7-4193-BFFA-B6AE7440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4D2-BD15-4462-8431-D8D681AE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0BB-63A9-4ADB-B1ED-A4DB8AC0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DDC-A834-41F0-841D-517C385B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923-6759-49E9-86C6-BC8BE884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F21-B586-49EE-A4E0-E74E82AD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C81-2F0B-451D-99B9-414BF1E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887-D337-4F3A-A141-7ADE48AF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7C8-2D46-4BC5-9F6E-9F208168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50000">
              <a:srgbClr val="ff6600"/>
            </a:gs>
            <a:gs pos="100000">
              <a:srgbClr val="762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49F7-FF22-4242-9DC0-C6B283467A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17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cooperativa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forma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sobre la situación, lo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ventaj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480000" cy="385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900000" y="4508640"/>
            <a:ext cx="388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leg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Trist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versión /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653080" y="4437000"/>
            <a:ext cx="251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ie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55640" y="10159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295800" y="1041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531040" y="1077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35560" y="2828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231000" y="282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04120" y="28526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20600" y="-27360"/>
            <a:ext cx="758376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Relacionando caras y emocion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s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 y eficaz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Consejo Nacional de Producción Limpia</dc:creator>
  <dc:description/>
  <dc:language>en-US</dc:language>
  <cp:lastModifiedBy>spl.rlp</cp:lastModifiedBy>
  <dcterms:modified xsi:type="dcterms:W3CDTF">2011-12-01T22:04:25Z</dcterms:modified>
  <cp:revision>40</cp:revision>
  <dc:subject/>
  <dc:title>LA NEGOCIACIÓN</dc:title>
</cp:coreProperties>
</file>