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65A-C914-49FE-B32C-C4EA8E85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07E-CB0F-442A-94AD-B929E824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BEC-E204-45DD-9692-3B535461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64F-5CD5-41F8-94B3-135B0944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295-B9B9-4FBB-9551-DD8E37D0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77E-271F-4E5B-847D-D574BBB7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7F8-3907-4AFD-9F48-26E26DE0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0CE-A7E8-487B-BEF8-215C9B2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7F4-7CB9-49C3-8CE1-FF54CED1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4D6-36AA-459D-A3F5-695C087F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5D8-AD00-49B1-9118-F9853B35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701-3AD5-48D9-8280-5D379719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50000">
              <a:srgbClr val="ff6600"/>
            </a:gs>
            <a:gs pos="100000">
              <a:srgbClr val="762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AA44-02C7-4129-9DA9-3FBE61364F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17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cooperativa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forma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sobre la situación, lo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ventaj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480000" cy="385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900000" y="4508640"/>
            <a:ext cx="388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leg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Trist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versión /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653080" y="4437000"/>
            <a:ext cx="251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ie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55640" y="10159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295800" y="1041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531040" y="1077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35560" y="2828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231000" y="282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04120" y="28526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20600" y="-27360"/>
            <a:ext cx="758376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Relacionando caras y emocion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s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 y eficaz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Consejo Nacional de Producción Limpia</dc:creator>
  <dc:description/>
  <dc:language>en-US</dc:language>
  <cp:lastModifiedBy>spl.rlp</cp:lastModifiedBy>
  <dcterms:modified xsi:type="dcterms:W3CDTF">2011-12-01T22:04:25Z</dcterms:modified>
  <cp:revision>40</cp:revision>
  <dc:subject/>
  <dc:title>LA NEGOCIACIÓN</dc:title>
</cp:coreProperties>
</file>