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744-927B-431E-AE9D-6D0A874E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D88-EF82-445E-9399-50B1C1D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E47-A725-4E99-8FD5-3F3EFC36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B81-9AEF-46BB-9662-4236D971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CE2-1924-4E3E-BDFF-92EEF59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D09-098F-46C0-8DD9-C01866F5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EF2-E1BF-494E-8150-7A1BBD85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93E-523F-42E5-8BE4-ED0B905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A77-9F13-42CA-A5F4-C7B4174D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E00-D8DA-404E-9C52-7055505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826-28B7-459B-88F8-94E64F55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C84-7E9C-41CC-91DC-194A4E3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139-F3B7-4FB3-BB78-07663FD4EA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17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cooperativa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sobre la situación, lo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ventaj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480000" cy="385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900000" y="4508640"/>
            <a:ext cx="388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Tris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0033"/>
                </a:solidFill>
                <a:latin typeface="Arial"/>
              </a:rPr>
              <a:t>Aversión /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653080" y="4437000"/>
            <a:ext cx="251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ie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2999"/>
              </a:spcAft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55640" y="10159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5800" y="1041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31040" y="1077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35560" y="2828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31000" y="28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0412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20600" y="-27360"/>
            <a:ext cx="75837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Relacionando caras y emocion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s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 y eficaz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Consejo Nacional de Producción Limpia</dc:creator>
  <dc:description/>
  <dc:language>en-US</dc:language>
  <cp:lastModifiedBy>spl.rlp</cp:lastModifiedBy>
  <dcterms:modified xsi:type="dcterms:W3CDTF">2011-12-01T22:04:25Z</dcterms:modified>
  <cp:revision>40</cp:revision>
  <dc:subject/>
  <dc:title>LA NEGOCIACIÓN</dc:title>
</cp:coreProperties>
</file>