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7920"/>
              <a:ext cx="8404200" cy="6838920"/>
            </a:xfrm>
            <a:custGeom>
              <a:avLst/>
              <a:gdLst>
                <a:gd name="textAreaLeft" fmla="*/ 0 w 8404200"/>
                <a:gd name="textAreaRight" fmla="*/ 8404560 w 8404200"/>
                <a:gd name="textAreaTop" fmla="*/ 0 h 6838920"/>
                <a:gd name="textAreaBottom" fmla="*/ 6839280 h 6838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00"/>
                </a:solidFill>
                <a:latin typeface="Arial"/>
              </a:rPr>
              <a:t>Propiedad Intelectual y las Patentes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000080" y="641520"/>
            <a:ext cx="721512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INAPI: Instituto Nacional de 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20.2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smo de carácter técnico y jurídico encargado de la administración y atención de los servicios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 corresponde promover la protección que brinda la propiedad industrial y difundir el acervo tecnológico y la información de que dispong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innovación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1680" y="114300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nnovación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s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transformación de una idea en un producto vendible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nuevo o mejorado o en un proceso operativo en la industria y en el comercio o en nuevo método de servicio social. (OCDE, 199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ceso mediante el cual ciertos productos o procesos productiv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desarrollados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en base a nuevos conocimient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o a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binación novedos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conocimiento preexistente, son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introducidos eficazmente en los merca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y por lo tanto en la vida social. Consejo Nac. De Innova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tecnología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conocimientos e información propios de una actividad, que pueden ser utilizados de forma sistemática, para el diseño, desarrollo, fabricación y comercialización de productos, o la prestación de servicios, incluyendo la aplicación adecuada de las técnicas asociadas a la gestión glob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6bf69"/>
                </a:solidFill>
                <a:latin typeface="Arial"/>
              </a:rPr>
              <a:t>TECN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cedimiento o conjunto de reglas, normas o protocolos, que tienen como objetivo obtener un resultado determi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ere tanto destrezas manuales como intelec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CONVENIO DE PARIS (1883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50652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Principios Básicos del Convenio de París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6280" y="1517760"/>
            <a:ext cx="8207280" cy="47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INDEPENDENCIA DE LAS PATENTES Y MARCAS COME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TRATO NACIONAL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DERECHO DE PRIORIDAD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5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>
              <a:gd name="textAreaLeft" fmla="*/ 0 w 3201840"/>
              <a:gd name="textAreaRight" fmla="*/ 3202200 w 320184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SE GANA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cxnSp>
        <p:nvCxnSpPr>
          <p:cNvPr id="113" name="24 Conector recto de flecha"/>
          <p:cNvCxnSpPr/>
          <p:nvPr/>
        </p:nvCxnSpPr>
        <p:spPr>
          <a:xfrm flipV="1">
            <a:off x="1498680" y="3715560"/>
            <a:ext cx="2160" cy="7153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4" name="26 Conector recto de flecha"/>
          <p:cNvCxnSpPr/>
          <p:nvPr/>
        </p:nvCxnSpPr>
        <p:spPr>
          <a:xfrm flipH="1" flipV="1">
            <a:off x="1499400" y="2279160"/>
            <a:ext cx="1080" cy="10231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5" name="21 Flecha derecha"/>
          <p:cNvSpPr/>
          <p:nvPr/>
        </p:nvSpPr>
        <p:spPr>
          <a:xfrm rot="12369000">
            <a:off x="3825720" y="5342040"/>
            <a:ext cx="1555920" cy="27936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VE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BILIDAD 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efinición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cualquier propiedad que, de común acuerdo, se considere de naturaleza intelectual y merecedora de protección, incluidas las invenciones científicas y tecnológicas, las producciones literarias o artísticas, las marcas y los identificadores, los dibujos y modelos industriales y las indicaciones geográficas“ OMPI, 20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APLICABILIDAD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EL CONCEPTO DE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INDUSTRIA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 =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NO SE DEBE CONFUNDIR  CON LA</a:t>
            </a: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FACTIBILIDAD TECNICA-ECONOMICA 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67560" y="2867040"/>
            <a:ext cx="337284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LICABILIDAD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51480" y="1824120"/>
            <a:ext cx="4064040" cy="911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LA INVENCION SEA APLICABLE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UEDA  SER 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>
              <a:gd name="textAreaLeft" fmla="*/ 0 w 611280"/>
              <a:gd name="textAreaRight" fmla="*/ 611280 w 61128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MPRENDE TODOS LOS DOCUMENTOS A L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143000"/>
            <a:ext cx="7929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CON NIVEL  INVENTIVO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:  SOLUCION   NO 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ANALIZA  SI LA SOLICITUD PLANTEADA AL PROBLEMA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998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DESCUBRIMIENTOS, LAS TEORIAS CIENTIFICAS Y LOS METODOS MATEMA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AS VARIEDADES VEGETALES Y LAS RAZAS ANI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1680" y="19288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LOS METODOS DE TRATAMIENTO QUIRURGICO O TERAPEUTICO DEL CUERPO HUMANO O ANIMAL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EL NUEVO USO DE ARTICULOS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s-ES_tradnl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0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Modelo de Utilidad es una creación que pretend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ntregar una configuración o forma tridimensional nuev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instrumentos, aparatos, herramientas, dispositivos y, en general, a objetos o partes de los mismos, conocidos y que se utilicen para realizar un trabajo práctico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iempre que esta nueva configuración produzca una mejor utilización del objet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 función a la que está destin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comprend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toda forma tridimensional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asociada o no con colores, y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cualquier artículo industrial o artesanal que sirva de patrón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para la fabricación de otras unidades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y que se distinga de sus similares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sea por su forma, configuración geométrica, ornamentación o una combinación de estas, siempre qu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dichas características le den una apariencia especial perceptible por medio de la vista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, de tal manera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que resulte una fisonomía original, nueva y diferente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6bf69"/>
                </a:solidFill>
                <a:latin typeface="Arial"/>
              </a:rPr>
              <a:t>LA PROPIEDAD INTELECTU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66628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5 CuadroTexto"/>
          <p:cNvSpPr/>
          <p:nvPr/>
        </p:nvSpPr>
        <p:spPr>
          <a:xfrm>
            <a:off x="149760" y="64483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Fuente: IN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una patente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ntiende por patente el derecho exclusivo que concede el Estado para la protección de una inven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99880" y="3071880"/>
            <a:ext cx="8413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609120"/>
            <a:ext cx="55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Modelo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76" name="Picture 2" descr="http://ts3.mm.bing.net/images/thumbnail.aspx?q=309186206910&amp;id=999c546f9cbbb86d898e6e73145f01de&amp;url=http%3a%2f%2fwww.pallomaro.com%2fwp-content%2fuploads%2f2009%2f08%2fJET-20L.JPG"/>
          <p:cNvPicPr/>
          <p:nvPr/>
        </p:nvPicPr>
        <p:blipFill>
          <a:blip r:embed="rId1"/>
          <a:stretch/>
        </p:blipFill>
        <p:spPr>
          <a:xfrm>
            <a:off x="571680" y="3306600"/>
            <a:ext cx="2428560" cy="271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s1.mm.bing.net/images/thumbnail.aspx?q=309451753720&amp;id=9c6eb83c6a6f5756249560e0d591dd6f&amp;url=http%3a%2f%2fwww.herramientasymas.com%2fimages%2fFONDOS%2f20%2520Galones.jpg"/>
          <p:cNvPicPr/>
          <p:nvPr/>
        </p:nvPicPr>
        <p:blipFill>
          <a:blip r:embed="rId2"/>
          <a:stretch/>
        </p:blipFill>
        <p:spPr>
          <a:xfrm>
            <a:off x="3071880" y="2500200"/>
            <a:ext cx="270504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s2.mm.bing.net/images/thumbnail.aspx?q=282503678525&amp;id=9751ef9aae76074bc199e0786bd99279&amp;url=http%3a%2f%2fwww.produsca.com%2fImages%2fImagesPEQ%2f20107.jpg"/>
          <p:cNvPicPr/>
          <p:nvPr/>
        </p:nvPicPr>
        <p:blipFill>
          <a:blip r:embed="rId3"/>
          <a:stretch/>
        </p:blipFill>
        <p:spPr>
          <a:xfrm>
            <a:off x="5857920" y="2786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ts1.mm.bing.net/images/thumbnail.aspx?q=314670131916&amp;id=73a7503a50ed92c123070d121aa6d9c0&amp;url=http%3a%2f%2fwww.llorka.com%2fsistema%2fprofile%2fmedia%2f.gallery%2fmain233.jpg"/>
          <p:cNvPicPr/>
          <p:nvPr/>
        </p:nvPicPr>
        <p:blipFill>
          <a:blip r:embed="rId4"/>
          <a:stretch/>
        </p:blipFill>
        <p:spPr>
          <a:xfrm>
            <a:off x="3143160" y="478620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ts3.mm.bing.net/images/thumbnail.aspx?q=312361681694&amp;id=ddfb0122971c061135d11587570f5a6d&amp;url=http%3a%2f%2fsan-son.com%2fimages%2fvitrina-comercial-zafira.png"/>
          <p:cNvPicPr/>
          <p:nvPr/>
        </p:nvPicPr>
        <p:blipFill>
          <a:blip r:embed="rId5"/>
          <a:stretch/>
        </p:blipFill>
        <p:spPr>
          <a:xfrm>
            <a:off x="5072040" y="478620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ts3.mm.bing.net/images/thumbnail.aspx?q=307308597234&amp;id=56d1478e7cba2cedc3048dc8c63a0422&amp;url=http%3a%2f%2fwww.ferreterialallave.com%2fimages%2fVARIOS%2fASPIRADO481.PNG"/>
          <p:cNvPicPr/>
          <p:nvPr/>
        </p:nvPicPr>
        <p:blipFill>
          <a:blip r:embed="rId6"/>
          <a:stretch/>
        </p:blipFill>
        <p:spPr>
          <a:xfrm>
            <a:off x="285840" y="64296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ttp://ts2.mm.bing.net/images/thumbnail.aspx?q=280353188837&amp;id=6ca996aa8732c1a9e99029106c436633&amp;url=http%3a%2f%2fwww.diariomotor.com%2fimagenes%2flamborghini-embolado-0.jpg"/>
          <p:cNvPicPr/>
          <p:nvPr/>
        </p:nvPicPr>
        <p:blipFill>
          <a:blip r:embed="rId1"/>
          <a:stretch/>
        </p:blipFill>
        <p:spPr>
          <a:xfrm>
            <a:off x="5500800" y="4357800"/>
            <a:ext cx="3062160" cy="2278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29040" y="642600"/>
            <a:ext cx="39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iseños industriale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84" name="Picture 2" descr="http://ts3.mm.bing.net/images/thumbnail.aspx?q=308973933910&amp;id=9a883c27f6abd4def085dcf3d6b15e30&amp;url=http%3a%2f%2fwww.esacademic.com%2fpictures%2feswiki%2f73%2fIPod_Nano_4G_black.jpg"/>
          <p:cNvPicPr/>
          <p:nvPr/>
        </p:nvPicPr>
        <p:blipFill>
          <a:blip r:embed="rId2"/>
          <a:stretch/>
        </p:blipFill>
        <p:spPr>
          <a:xfrm>
            <a:off x="3000240" y="49291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ts2.mm.bing.net/images/thumbnail.aspx?q=304906244905&amp;id=4c697ea7cbcb5156bda4d175c3c427b4&amp;url=http%3a%2f%2fdesign21century.files.wordpress.com%2f2008%2f11%2fwwstool_1990.jpg%3fw%3d500%26h%3d797"/>
          <p:cNvPicPr/>
          <p:nvPr/>
        </p:nvPicPr>
        <p:blipFill>
          <a:blip r:embed="rId3"/>
          <a:stretch/>
        </p:blipFill>
        <p:spPr>
          <a:xfrm>
            <a:off x="5143680" y="235728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ts4.mm.bing.net/images/thumbnail.aspx?q=310175927603&amp;id=624e37d395cedc8b57da2c2e1d922bfe&amp;url=http%3a%2f%2fqueesgreen.files.wordpress.com%2f2009%2f09%2f3106_c5b7b4d0103a4ebe410f7aa03cd4c54b.jpg%3fw%3d600%26h%3d727"/>
          <p:cNvPicPr/>
          <p:nvPr/>
        </p:nvPicPr>
        <p:blipFill>
          <a:blip r:embed="rId4"/>
          <a:stretch/>
        </p:blipFill>
        <p:spPr>
          <a:xfrm>
            <a:off x="7072200" y="2571840"/>
            <a:ext cx="1714680" cy="20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ts1.mm.bing.net/images/thumbnail.aspx?q=280607725848&amp;id=8bb6b69e74a21e9cfc70b8431a2b07b5&amp;url=http%3a%2f%2fwww.uacj.mx%2fNoticias%2fPublishingImages%2fMayo2009%2fexpoparquecentral1.jpg"/>
          <p:cNvPicPr/>
          <p:nvPr/>
        </p:nvPicPr>
        <p:blipFill>
          <a:blip r:embed="rId5"/>
          <a:stretch/>
        </p:blipFill>
        <p:spPr>
          <a:xfrm>
            <a:off x="714240" y="492912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88" name="8 Rectángulo"/>
          <p:cNvSpPr/>
          <p:nvPr/>
        </p:nvSpPr>
        <p:spPr>
          <a:xfrm>
            <a:off x="214200" y="712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El diseño industrial sintetiza conocimientos, métodos, técnicas, creatividad y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lbertus Medium"/>
              </a:rPr>
              <a:t>tiene como meta la concepción de objetos de producción industrial</a:t>
            </a: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, atendiendo a sus funciones, sus cualidades estructurales, formales y estético-simbólicas, así como todos los valores y aspectos que hacen a su producción, comercialización y utilización, teniendo al ser humano como 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costo tiene patentar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89632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3. 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é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PECTO QUE SE DESEA PRO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4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6bf69"/>
                </a:solidFill>
                <a:latin typeface="Arial"/>
              </a:rPr>
              <a:t>PCT: Tratado de Cooperación en Materia de Patent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1240" y="1071720"/>
            <a:ext cx="8172360" cy="43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tratado internacional administrado por la Organización Mundial de la Propiedad Intelectual (OMPI) y suscrito por 139 países parte del Convenio de Par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CT permite solicitar simultáneamente y en un gran número de países la protección de una invención por patente en la fase internacional, con las siguientes ventajas para el solicita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entación de una única solicitud "internacional" de patente que en cumplimiento con los requisitos de forma del PCT, se realiza en un idioma y el pago de un único conjunto de ta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úsqueda internacional en donde una Oficina de Administración analiza la invención y establece un dictamen sobre su potencial patent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6bf69"/>
                </a:solidFill>
                <a:latin typeface="Arial"/>
              </a:rPr>
              <a:t>Propiedad Intelectual (en Chile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de los arti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6bf69"/>
                </a:solidFill>
                <a:latin typeface="Arial"/>
              </a:rPr>
              <a:t>Ley 17.336.: Título 1 sobre Derecho de Autor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428840"/>
            <a:ext cx="7743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PÍTULO I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La presente ley protege los derechos que, por el sólo hecho de la creación de la obra, adquieren los autores de obras de la inteligencia en los dominios literarios, artísticos y científicos, cualquiera que sea su forma de expresión, y los derechos conexos que ella determina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derecho de autor comprende los derechos patrimonial y moral, que protegen el aprovechamiento, la paternidad y la integridad de la obr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7680" y="2341080"/>
            <a:ext cx="6064200" cy="30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MPOR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RRITORI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12868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 ECONOMIA y TURIS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576600" y="2890800"/>
            <a:ext cx="2448000" cy="10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E ECONOMIA  Y EMPRESAS DE MENOR TAMA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576600" y="42624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IN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Ex-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ASPECTOS CONTENCIO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50028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PAT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31980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>
              <a:gd name="textAreaLeft" fmla="*/ 0 w 3354480"/>
              <a:gd name="textAreaRight" fmla="*/ 3354840 w 335448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>
              <a:gd name="textAreaLeft" fmla="*/ 0 w 6478560"/>
              <a:gd name="textAreaRight" fmla="*/ 6478920 w 64785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11-11-08T21:15:59Z</dcterms:modified>
  <cp:revision>47</cp:revision>
  <dc:subject>sistema de patentes e informacion tecnologica</dc:subject>
  <dc:title>Seminario de Patentes</dc:title>
</cp:coreProperties>
</file>