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410A-D155-4B8F-BA0C-7CB17505074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028A-13E9-4CF3-B5DE-DD6ADD1F5BB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F236-6CDB-4D08-B57E-0F5F5E98A840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29B9-4418-4B7F-ADB3-D43428A58F8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B7BD-7FE6-435A-A4FC-8FD5B967871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57EB-CD49-4680-9680-93A687828AC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1AE0-589C-47FD-806E-300135B107E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70A2-9E6E-4495-85E5-1313F457E875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7BB2-AB2D-4702-9A96-B90F5A8C177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B05B-70D6-4148-A1E8-C8AF4115111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93D5-AD48-495B-9947-583BE49ED97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3C13-837D-46E8-88C9-A2685748913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2D5A-DB63-4A39-B885-6B874638A6D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346F-275E-4F7A-B1FC-9D3C721C53D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646D-B2D3-43AA-B06E-3BBBCD2ED42E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76C0-2EF5-4EC5-A252-6BDE2D84E76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A53B-F098-4225-825B-5FAEB639BE21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0727-9B0B-4887-A4E6-806C6016FCC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4149-9EE6-4D4B-BC31-4CCA570A86D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0983-FB9C-4D6C-871C-665709C2A674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3EC4-8F86-4300-8145-CE7AB50048F7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08E0-795C-41D0-B68F-7E44B66561AD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E132-05B3-4396-9343-13F8FF1BE3A8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CF2E-3933-4BE2-BD17-04C5713C277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AF88-D047-4410-864D-8E92A671E0CA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2335-AC81-4FE6-BE26-BE2390B1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6D6-3071-42B7-A9B7-D21D6ABE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3CB-F89E-43C6-8233-8CC7E1CB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961-11F0-4170-B189-69B85A35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DC90-56B2-4B38-B264-4A06596B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27B4-DF32-4FBA-AA08-1BBD78B3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060F-06FF-4726-A3B8-E27149E0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0CCC-91A8-45F9-98EB-01AF46E7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055E-3FB3-4FDA-8ED5-89B085D4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BB9C-BC0E-4452-BDA5-85457EE8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F5AB-790B-46A1-BB46-12D884E5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F4A-53D4-428D-825F-8027CDA2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525D-7068-44FA-B6EC-854DC8C9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3A85-2F4E-4FA9-8E2B-BD1E7C0F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27B7-4A7B-4A09-849A-8A2990EE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E8E7-9149-430B-8344-6E6F5D0A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CF8B-6E0C-4A32-BC75-DCD54600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100-D25F-4E4B-8BFB-55AE8F77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1283-9ECE-4343-B7D9-A0BF8CFE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ACC-56D0-4537-9DE1-BBABD964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B49-D6A8-4A10-8983-9B6F2890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6D5-5614-413A-8F05-B39DBFF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89A-CBCB-4964-AB5F-656BC442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F7F-422E-4DAC-A986-A260B1EE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D069-5CE5-4DDB-95F2-80F873D3038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5349-1847-4422-938A-7A4B5E95292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cscienc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br>
              <a:rPr sz="4800"/>
            </a:b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GL-5201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858000" cy="24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mestre Primaver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sor: Sergio Sepúlve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yudantes: por defin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47"/>
          <p:cNvGrpSpPr/>
          <p:nvPr/>
        </p:nvGrpSpPr>
        <p:grpSpPr>
          <a:xfrm>
            <a:off x="289440" y="1295280"/>
            <a:ext cx="4124520" cy="2616480"/>
            <a:chOff x="289440" y="1295280"/>
            <a:chExt cx="4124520" cy="2616480"/>
          </a:xfrm>
        </p:grpSpPr>
        <p:sp>
          <p:nvSpPr>
            <p:cNvPr id="125" name="Oval 2"/>
            <p:cNvSpPr/>
            <p:nvPr/>
          </p:nvSpPr>
          <p:spPr>
            <a:xfrm>
              <a:off x="1143000" y="2209680"/>
              <a:ext cx="1600200" cy="838440"/>
            </a:xfrm>
            <a:prstGeom prst="ellipse">
              <a:avLst/>
            </a:prstGeom>
            <a:solidFill>
              <a:srgbClr val="cc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g.Civ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 flipV="1">
              <a:off x="1066320" y="1752480"/>
              <a:ext cx="3812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V="1">
              <a:off x="2133720" y="1676160"/>
              <a:ext cx="30456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 flipH="1">
              <a:off x="1142640" y="2895480"/>
              <a:ext cx="228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>
              <a:off x="2514600" y="2895480"/>
              <a:ext cx="4572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1752120" y="1295280"/>
              <a:ext cx="26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ructuras y Constr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5"/>
            <p:cNvSpPr/>
            <p:nvPr/>
          </p:nvSpPr>
          <p:spPr>
            <a:xfrm>
              <a:off x="289440" y="133344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idrául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6"/>
            <p:cNvSpPr/>
            <p:nvPr/>
          </p:nvSpPr>
          <p:spPr>
            <a:xfrm>
              <a:off x="594360" y="354348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2362680" y="335268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otéc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51"/>
          <p:cNvGrpSpPr/>
          <p:nvPr/>
        </p:nvGrpSpPr>
        <p:grpSpPr>
          <a:xfrm>
            <a:off x="5410800" y="1219320"/>
            <a:ext cx="3002040" cy="2928600"/>
            <a:chOff x="5410800" y="1219320"/>
            <a:chExt cx="3002040" cy="2928600"/>
          </a:xfrm>
        </p:grpSpPr>
        <p:sp>
          <p:nvSpPr>
            <p:cNvPr id="135" name="Oval 3"/>
            <p:cNvSpPr/>
            <p:nvPr/>
          </p:nvSpPr>
          <p:spPr>
            <a:xfrm>
              <a:off x="6400800" y="2133720"/>
              <a:ext cx="1600200" cy="914400"/>
            </a:xfrm>
            <a:prstGeom prst="ellipse">
              <a:avLst/>
            </a:prstGeom>
            <a:solidFill>
              <a:srgbClr val="cc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g.Min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4"/>
            <p:cNvSpPr/>
            <p:nvPr/>
          </p:nvSpPr>
          <p:spPr>
            <a:xfrm flipV="1">
              <a:off x="7162920" y="16002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6"/>
            <p:cNvSpPr/>
            <p:nvPr/>
          </p:nvSpPr>
          <p:spPr>
            <a:xfrm flipH="1">
              <a:off x="6324120" y="2971800"/>
              <a:ext cx="381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7467480" y="3048120"/>
              <a:ext cx="152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8"/>
            <p:cNvSpPr/>
            <p:nvPr/>
          </p:nvSpPr>
          <p:spPr>
            <a:xfrm>
              <a:off x="6553440" y="1219320"/>
              <a:ext cx="118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talurg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9"/>
            <p:cNvSpPr/>
            <p:nvPr/>
          </p:nvSpPr>
          <p:spPr>
            <a:xfrm>
              <a:off x="7087680" y="3505320"/>
              <a:ext cx="132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ne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0"/>
            <p:cNvSpPr/>
            <p:nvPr/>
          </p:nvSpPr>
          <p:spPr>
            <a:xfrm>
              <a:off x="5410800" y="335268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eotec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in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50"/>
          <p:cNvSpPr/>
          <p:nvPr/>
        </p:nvSpPr>
        <p:spPr>
          <a:xfrm>
            <a:off x="2209680" y="3200400"/>
            <a:ext cx="4572000" cy="12952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3597120" y="4724280"/>
            <a:ext cx="1905120" cy="99072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5502240" y="5257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0"/>
          <p:cNvSpPr/>
          <p:nvPr/>
        </p:nvSpPr>
        <p:spPr>
          <a:xfrm flipV="1">
            <a:off x="451152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313992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3597120" y="563868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5121360" y="5638680"/>
            <a:ext cx="5331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5714280" y="5791320"/>
            <a:ext cx="18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ería y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886200" y="60958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leont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2412000" y="57531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r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600560" y="491508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bient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droge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3979800" y="39625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li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2"/>
          <p:cNvSpPr/>
          <p:nvPr/>
        </p:nvSpPr>
        <p:spPr>
          <a:xfrm>
            <a:off x="457200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6246360" y="510552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uctural y Tect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es diferenciad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ala geológica v/s escala ingenie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iempo geológico v/s antróp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nguaje geológico v/s ingenie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EOLOGIA APLIC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2050560" y="2421000"/>
            <a:ext cx="1513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5003640" y="2421000"/>
            <a:ext cx="1513080" cy="13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84360" y="4149720"/>
            <a:ext cx="3456000" cy="14400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ras de ingenier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dificación, obras hidráulica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rítimas, mineras, cent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idroeléctric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716360" y="4149720"/>
            <a:ext cx="3600720" cy="14400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788000" y="4149720"/>
            <a:ext cx="360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vención, mitigación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iesgos geológicos y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actos ambientales de ob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úblicas, actividades industria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neras o urb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6516720" y="5589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5439240" y="611352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ología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4140360" y="4941720"/>
            <a:ext cx="57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53352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finir si es un sitio adecuado, cuáles son las características de los materiales, su distribución espacial, si se pueden modificar, ventajas y desventajas de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. Civi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l geólogo debe asegurar que los factores geológicos que afectan la ubicación, diseño, construcción, operación y mantención de obras civiles son reconocidos y previstos adecu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g. Mi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n la industria minera el geólogo geotécnico debe asegurar que el diseño y extracción sea económica y se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330033"/>
                </a:solidFill>
                <a:latin typeface="Times New Roman"/>
              </a:rPr>
              <a:t>Tareas principales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ampo Ocupacional y Responsabil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cavaciones subterráneas y Tún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zado de túneles. Estabilidad de las paredes y techo (fortificaciones), controlar el agua y sugerir métodos de exca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de los materiales debe asegurar la evolución del proyecto según lo esperado-seguro y económico: proyectos livianos, proyectos pesados (casas, edificios peque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Img09-tunnelshape"/>
          <p:cNvPicPr/>
          <p:nvPr/>
        </p:nvPicPr>
        <p:blipFill>
          <a:blip r:embed="rId1"/>
          <a:stretch/>
        </p:blipFill>
        <p:spPr>
          <a:xfrm>
            <a:off x="5076720" y="4556160"/>
            <a:ext cx="345780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ras de Corte y Rel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ecer la pendiente de un camino o trazado lineal. Identificar los materiales a lo largo del trazado. Utilización y abandono de la obra. Estabilidad de taludes en el largo plazo,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u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egurar que el medio soporte estructuras, sin asentamientos excesivo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IMG15"/>
          <p:cNvPicPr/>
          <p:nvPr/>
        </p:nvPicPr>
        <p:blipFill>
          <a:blip r:embed="rId1"/>
          <a:stretch/>
        </p:blipFill>
        <p:spPr>
          <a:xfrm>
            <a:off x="826920" y="4076640"/>
            <a:ext cx="3810240" cy="25369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ección de la ubicación y tipo de muro, estabilidad de laderas, filtraciones, material de presa, estribos, obras anexa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teriales de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squeda y evaluación del material,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IMG02"/>
          <p:cNvPicPr/>
          <p:nvPr/>
        </p:nvPicPr>
        <p:blipFill>
          <a:blip r:embed="rId1"/>
          <a:stretch/>
        </p:blipFill>
        <p:spPr>
          <a:xfrm>
            <a:off x="4716360" y="1700280"/>
            <a:ext cx="4114800" cy="273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ificación Urbana y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ciente importancia del estudio de peligros geológicos en el diseño urbano, desastres, inundaciones, terremoto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geohazitem_102"/>
          <p:cNvPicPr/>
          <p:nvPr/>
        </p:nvPicPr>
        <p:blipFill>
          <a:blip r:embed="rId1"/>
          <a:stretch/>
        </p:blipFill>
        <p:spPr>
          <a:xfrm>
            <a:off x="5105520" y="1700280"/>
            <a:ext cx="3152520" cy="3924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0033"/>
                </a:solidFill>
                <a:latin typeface="Times New Roman"/>
              </a:rPr>
              <a:t>Condiciones geológicas-geotécnicas generales para emplazamiento favorable de obras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sencia de procesos geológicos activos que representen riesgos a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decuada capacidad portante del terreno para cimentación de estru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ficiente resistencia de los materiales para mantener estabilidad en excav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materiales para construcción de obras de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cilidad de extracción de materiales para exca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macenaje de agua o residuos sólidos o 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Modelos ing geologica"/>
          <p:cNvPicPr/>
          <p:nvPr/>
        </p:nvPicPr>
        <p:blipFill>
          <a:blip r:embed="rId1"/>
          <a:stretch/>
        </p:blipFill>
        <p:spPr>
          <a:xfrm>
            <a:off x="0" y="0"/>
            <a:ext cx="9144000" cy="6791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56400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116000" y="907920"/>
            <a:ext cx="2490840" cy="2764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vestigación de la Ge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861160" y="907920"/>
            <a:ext cx="2728800" cy="3682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acterización de Material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983320" y="4076640"/>
            <a:ext cx="2059560" cy="30708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spuesta del terr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Contenidos del Curs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36840" y="1628640"/>
            <a:ext cx="331452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ánica de Rocas (aprox. 3 seman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cánica de Suelos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ón de Sitio (0.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 de Laderas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licaciones a Obras Civiles: represas, túneles, fundaciones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ción a peligros geológicos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tecnia Minera (0,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IMG01"/>
          <p:cNvPicPr/>
          <p:nvPr/>
        </p:nvPicPr>
        <p:blipFill>
          <a:blip r:embed="rId1"/>
          <a:stretch/>
        </p:blipFill>
        <p:spPr>
          <a:xfrm>
            <a:off x="457200" y="2286000"/>
            <a:ext cx="42670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0033"/>
                </a:solidFill>
                <a:latin typeface="Times New Roman"/>
              </a:rPr>
              <a:t>Investigación Preliminar o de Diagnóstico (factibilidad o viabilidad)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r el lugar con respecto a las condiciones geológicas adversas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obvi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de alta probabilidad) declaradas (observables) o potenciales.   Frecuentemente desarrollada como parte de la selección inicial de un lugar específico (estudios de factibilidad y/o prefactibilid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Sit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udio geológico que proporciona una descripción de las características físicas  del lugar de la manera más econó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establecer solamente las condiciones esperadas basado en los datos dispon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scanline2"/>
          <p:cNvPicPr/>
          <p:nvPr/>
        </p:nvPicPr>
        <p:blipFill>
          <a:blip r:embed="rId1"/>
          <a:stretch/>
        </p:blipFill>
        <p:spPr>
          <a:xfrm>
            <a:off x="4724280" y="2819520"/>
            <a:ext cx="4191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Sit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3797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rofundidad de la investigación depende de las necesidades del proyecto (sondajes, ensayes, geofís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luye los estudios iniciales (revisión bibliográfica, logística, planificación fases siguientes), investigación de terreno, ensayes de terreno o laboratorio y elaboración de infor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Taber SPT"/>
          <p:cNvPicPr/>
          <p:nvPr/>
        </p:nvPicPr>
        <p:blipFill>
          <a:blip r:embed="rId1"/>
          <a:stretch/>
        </p:blipFill>
        <p:spPr>
          <a:xfrm>
            <a:off x="5562720" y="2438280"/>
            <a:ext cx="2585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vestigación de Diseñ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stigación de mayor profundidad, acompañada usualmente de prospecciones y ensayos geotécnicos, desarrollada en el lugar seleccionado para obtener datos geológicos y geotécnicos de detalle, los cuales son incluidos en la ingeniería de diseño (ingeniería básica, ingeniería de detal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Examen Geológico de un Lug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piedades físic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(densidad, resistencia,    porosidad, solubilidad, permeabilidad, alteración/meteor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estratificación,fallas, pliegues, discontinuidades, contactos y alteración por rocas ígn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278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lasific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piedades física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s o no cohesivo, compresibilidad, ángulo de fricción interna, permeabili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Índice de plasticid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stencia al cizall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 u="sng">
                <a:solidFill>
                  <a:srgbClr val="000000"/>
                </a:solidFill>
                <a:uFillTx/>
                <a:latin typeface="Times New Roman"/>
              </a:rPr>
              <a:t>Suel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Laborato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ripción y caracterización geotécnica de suelos y rocas (Lab. Mecesup Sól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sayos Geotécnicos en Laboratorio (Lab. Mecesup Sól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 datos en 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con software (Lab. Geoinformática o Ing. Civi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Evaluacion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ta Cátedra (60%): 2 controles + exa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1: 6 dici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ol 2: 10 enero (por confirm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ta Laboratorio (40%): tareas e infor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Terren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peo de Macizos rocosos  (lunes 7 noviembre, 13:00 hrs.). Santiago (lugar por defin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Bibliograf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onzález de Vallejo, 2002. Ingeniería Geológ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ek, 2000. Practical Rock Engineering (PDF, </a:t>
            </a:r>
            <a:r>
              <a:rPr b="0" lang="es-E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rocscience.co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Hoek´s corn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mbe &amp; Whitman, 1972. Mecánica de Sue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ek y Bray, 1981. Rock Slope Engine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330033"/>
                </a:solidFill>
                <a:latin typeface="Times New Roman"/>
              </a:rPr>
              <a:t>Geología Aplicada a la 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la ciencia dedicada a la investigación, estudio y solución de problemas de la ingeniería y ambientales que surgen como resultado de la interacción entre la geología y las obras y actividades del hombre, así como la predicción y desarrollo de medidas para la prevención o remediación de peligros geológicos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Estatutos de la International Association of Engineering Geology and the Environment, 199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Geologí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Aplicada a la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Ingenierí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4760" y="2134800"/>
            <a:ext cx="368136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óni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eniería Geológ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Geotécn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logía Ingenieri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ngineering Ge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olog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952880" y="2205000"/>
            <a:ext cx="34290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rminos Relacionado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tec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cá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niería Geo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fía Rebolledo</dc:creator>
  <dc:description/>
  <dc:language>en-US</dc:language>
  <cp:lastModifiedBy>Sergio</cp:lastModifiedBy>
  <cp:lastPrinted>1997-09-10T15:14:28Z</cp:lastPrinted>
  <dcterms:modified xsi:type="dcterms:W3CDTF">2011-10-07T14:19:23Z</dcterms:modified>
  <cp:revision>69</cp:revision>
  <dc:subject/>
  <dc:title>Geología Aplicada a la Ingeniería GL-55B</dc:title>
</cp:coreProperties>
</file>