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B85-5601-49F7-AA76-7D0BD30B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62D-C08E-4198-8A24-62FAD31E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C12-9D04-4F22-803C-5F8E1BE4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F91-7F8E-4982-84A3-E3757711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D8CD-219D-4570-9A29-787252F8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03ED-7418-4065-B6F7-0DE178BE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E8DC-E6EC-46C4-AEC0-E574D046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C4F3-AB58-427E-9BEF-EDAA532C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6511-F436-4693-BE86-28B28991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CB2D-1233-48DB-9D25-90C932CC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4352-2E83-43F6-AC72-2F46C8E8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4637-A287-489D-9ED9-82A7A95E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95D3-AED2-4A8C-978D-FF820CF6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88AB-D333-4530-83EA-256AFCEB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EA5D-EB93-4122-B3FC-65D2BB32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C76E-48E1-4055-AA37-7A7B957C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C2F4-CA47-403D-AA88-EA65A93D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2F0-E5CE-42A3-A175-A57012F5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8D9-29B2-4EE3-A248-27F3ED8A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613-DEC6-44BE-ACF5-4332358B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C74E-C226-4CBE-82BE-8EE03D58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1D3-1C6C-46CD-B241-72A521C3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FD86-7458-46CB-878B-75667A98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E28-FCA0-4C2A-A65D-0C58FE03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CE15-105F-41A2-9786-F2E0E1599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1C94-D1AD-47DB-B3B0-1DBF7E005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360" y="2349360"/>
            <a:ext cx="6548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ermeabilidad en Macizos Rocos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4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 teoría se puede extrapolar a un sistema de fracturas paralelas con frecuencia de fractura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tur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 que el coeficiente de permeabilidad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87280" y="2133720"/>
                <a:ext cx="1008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276720" y="1916280"/>
                <a:ext cx="107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940120" cy="268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56000" y="4797360"/>
                <a:ext cx="1584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561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meabilidad de Sistema de Fra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92360" y="1568520"/>
                <a:ext cx="1727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042920" y="2852640"/>
            <a:ext cx="75614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ótese que la permeabilidad depende linealmente de la frecuencia de fracturas (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), y es alt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sible a la abertura de las fracturas (e), en un factor cúb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o implica que un set de fracturas muy abiertas, aún de baja frecuencia, puede controlar casi totalmente la permeabilidad del macizo rocos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ser muy sensible a la abertura, esto además implica que la permeabilidad es sensible al estado de esfuerzos in situ, ya que con esfuerzos altos las fracturas tienden a cerrar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850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meabilidad de Sistemas de Fra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042920" y="3141720"/>
                <a:ext cx="2190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489240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ugos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la discontinuidad es rugosa, entonces la abertura que permite el flujo será menor a la abertura “mecánica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176720" cy="3112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837320" y="467352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 abertura “efectiv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92040" y="342900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abertura mecán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ugos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define la “abertura hidráulica” o “efectiva” 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o (Bandis et al., 1985; Barton 2004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nde e y e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en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resencia de rugosidad importante, la permeabilidad se determina entonces p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050920" y="2852640"/>
                <a:ext cx="1438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RC</m:t>
                            </m:r>
                          </m:e>
                          <m:sup>
                            <m:r>
                              <m:t xml:space="preserve">2,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505320" cy="151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800520" y="5140440"/>
                <a:ext cx="18302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ellen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presencia de relleno puede disminuir en gran medida la permeabilidad de un macizo rocoso. Para un sistema de fracturas rellenas, la permeabilidad se puede estimar como (Hoek &amp; Bray, 1981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987640" y="3357720"/>
                <a:ext cx="21607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900000" y="4437000"/>
            <a:ext cx="7775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f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coeficiente de permeabilidad del relleno y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de la matriz rocosa (permeabilidad primaria), el que en las ecuaciones anteriores se había ignorado por ser muy menor respecto al de las fracturas abier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redes de fractu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iendo las ecuaciones anteriores, una fórmula para estimar K en un macizo rocoso con tres sistemas de fracturas ortogonales y de igual frecuencia y abertura está dada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059280" y="3429000"/>
                <a:ext cx="24858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μb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900000" y="4437000"/>
            <a:ext cx="7775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el peso específico del agua y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el coeficiente de viscosidad dinámica del agua (0,01005 g s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20º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redes de fractu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caso general (sin isotropía), la permeabilidad se debe tratar como un tensor, cuyas componentes varían de acuerdo a las propiedades antes vistas y según un sistema de coorden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resolver el tensor, la herramienta utilizada es el uso de modelos numéricos, como elementos fini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30240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 términos escalares, la permeabilidad </a:t>
            </a: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se define com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eficiente de permeabilidad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o conductividad hidráulica </a:t>
            </a: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, se define co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nde         q: descarga específ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: viscosidad del flu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: peso específico del flu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: gradiente de pre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permeabilidad es independiente del fluido y tiene unidades de L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conductividad hidráulica depende del fluido y tiene dimensiones de velocidad (L/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627280" y="1916280"/>
                <a:ext cx="1224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72280" y="3068640"/>
                <a:ext cx="15048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89480" y="3068640"/>
                <a:ext cx="11538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309680" y="4579920"/>
                <a:ext cx="309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ey de Dar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flujos laminares, la ley de Darcy liga el flujo de agua (caudal) con el gradiente hidráu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16000" y="3213000"/>
                <a:ext cx="15048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84328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10200" y="3430440"/>
                <a:ext cx="1439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314720" y="4529160"/>
            <a:ext cx="40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: caudal (L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/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: Area transversal al flu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: gradiente hidráulico =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/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en Ro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912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abilidad Primari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ermeabilidad de la matriz roco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abilidad Secunda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ermeabilidad del macizo roc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69480" y="429264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riz Rocosa + Discontinuidades = Macizo Roc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79480" y="4797000"/>
            <a:ext cx="21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9600" y="5373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abilidad pri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6460920" y="4726080"/>
            <a:ext cx="215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58680" y="537372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abilidad secund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mayoría de las aplicaciones ingenieriles, la permeabilidad secundaria es la más relevante. En algunos casos, como geología e ingeniería del petróleo, es de interés la permeabilidad prima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4032360" cy="2838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2120" y="3068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permeabilidad primaria o secundari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Prim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805040" y="1905120"/>
            <a:ext cx="5533920" cy="3913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421240" y="589752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nzález de Vallejo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Secund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 fuertemente influenciada por el fracturamiento y las características del macizo rocoso, en espe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antidad (frecuencia) y orientación de fra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abertura y rugosidad de las fra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rel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tado de esfuerz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general, a mayor profundidad, mayores son los esfuerzos normales a las fracturas, estas son más cerradas, y la permeabilidad secundaria es menor y más similar a la prim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ngos de coeficientes de permeabilida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038840" cy="4014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991240" y="58770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sherwood, 19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70000" y="59691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ek &amp; Bray, 19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780080" y="2208240"/>
            <a:ext cx="38923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Discontinuida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odelo más simple es el de agua que fluye entre dos placas pulidas parale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e caso, la Ley de Darcy se puede expresar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la diferencia de carga entre dos secciones (inicial y final) y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la llamada “conductancia”, definida 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195640" y="3068640"/>
                <a:ext cx="1224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35280" y="4724280"/>
                <a:ext cx="1295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066560" y="4673520"/>
            <a:ext cx="47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aceleración de grave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: abertura entre las dos pla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viscosidad cinemática (en agua ~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: Largo de las placas en dirección del flu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7:28:05Z</dcterms:created>
  <dc:creator>Sergio Sepúlveda</dc:creator>
  <dc:description/>
  <dc:language>en-US</dc:language>
  <cp:lastModifiedBy>Sergio Sepúlveda</cp:lastModifiedBy>
  <dcterms:modified xsi:type="dcterms:W3CDTF">2010-08-30T15:18:43Z</dcterms:modified>
  <cp:revision>6</cp:revision>
  <dc:subject/>
  <dc:title>Permeabilidad en Macizos Rocosos</dc:title>
</cp:coreProperties>
</file>