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55B4-9804-4960-93B0-08757E5D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CBD2-16DF-4F3E-877B-6F3D624D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956-AE20-4E2B-AF5E-7CE8A22F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A462-0C42-4F07-99E1-AF403B7C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D34C-D27A-4967-A895-439FFB8C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3A14-B772-46C7-AE2E-AFFCA194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860F-7C7A-4E34-9A23-65466F6F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889D-216A-4D7B-A38D-6CF51772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8AC3-CD2F-4A99-9CFC-626F0D10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9C19-4D3D-46FC-88DD-D36C1C21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CBE1-8948-435D-8BFF-1EB5F812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C7D-79A5-4B46-8EB8-A7BD7CDC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202C-60CB-46AD-B359-C892DD07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1525-A8C6-4EC4-B9D5-0996E920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1256-8480-4766-9215-2A478224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149C-4E41-4C64-BFFA-5C862227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BC9A-AD8E-40EF-BDC3-AC50DE81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576-78D4-4631-A893-B6C87726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24E-4DAA-445C-B767-82DE14BF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117-2A8B-4A7D-BC2F-7D1D7991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9A9-DDF3-4EEA-AE7D-176B6BB6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4E1-81B1-4631-BE45-F4F0D163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25E7-AFA0-4A4F-B0DB-779ED0AD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7FE-F475-4735-BD8A-B836DE1E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4FFE-83F7-476D-9BD7-7C29E5155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2585-0749-422A-B763-DE0823C4FF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360" y="2349360"/>
            <a:ext cx="6548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ermeabilidad en Macizos Rocos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04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 teoría se puede extrapolar a un sistema de fracturas paralelas con frecuencia de fractura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ertur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 que el coeficiente de permeabilidad 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187280" y="2133720"/>
                <a:ext cx="10083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276720" y="1916280"/>
                <a:ext cx="1079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940120" cy="268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556000" y="4797360"/>
                <a:ext cx="15843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561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meabilidad de Sistema de Fra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492360" y="1568520"/>
                <a:ext cx="17272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042920" y="2852640"/>
            <a:ext cx="756144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ótese que la permeabilidad depende linealmente de la frecuencia de fracturas (</a:t>
            </a:r>
            <a:r>
              <a:rPr b="0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), y es alt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nsible a la abertura de las fracturas (e), en un factor cúbic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o implica que un set de fracturas muy abiertas, aún de baja frecuencia, puede controlar casi totalmente la permeabilidad del macizo rocos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 ser muy sensible a la abertura, esto además implica que la permeabilidad es sensible al estado de esfuerzos in situ, ya que con esfuerzos altos las fracturas tienden a cerrar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6850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ermeabilidad de Sistemas de Fra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042920" y="3141720"/>
                <a:ext cx="2190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780000" y="1989000"/>
            <a:ext cx="4892400" cy="40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fectos de rugos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 la discontinuidad es rugosa, entonces la abertura que permite el flujo será menor a la abertura “mecánica”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556000" y="3141720"/>
            <a:ext cx="4176720" cy="3112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837320" y="467352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 abertura “efectiv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92040" y="3429000"/>
            <a:ext cx="173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 abertura mecán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fectos de rugos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define la “abertura hidráulica” o “efectiva” (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E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o (Bandis et al., 1985; Barton 2004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nde e y e</a:t>
            </a:r>
            <a:r>
              <a:rPr b="0" lang="es-E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son en</a:t>
            </a: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presencia de rugosidad importante, la permeabilidad se determina entonces p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050920" y="2852640"/>
                <a:ext cx="14385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RC</m:t>
                            </m:r>
                          </m:e>
                          <m:sup>
                            <m:r>
                              <m:t xml:space="preserve">2,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505320" cy="151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800520" y="5140440"/>
                <a:ext cx="183024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fectos de rellen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presencia de relleno puede disminuir en gran medida la permeabilidad de un macizo rocoso. Para un sistema de fracturas rellenas, la permeabilidad se puede estimar como (Hoek &amp; Bray, 1981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987640" y="3357720"/>
                <a:ext cx="216072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900000" y="4437000"/>
            <a:ext cx="77756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Arial"/>
              </a:rPr>
              <a:t>f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el coeficiente de permeabilidad del relleno y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de la matriz rocosa (permeabilidad primaria), el que en las ecuaciones anteriores se había ignorado por ser muy menor respecto al de las fracturas abier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ujo en redes de fractu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iendo las ecuaciones anteriores, una fórmula para estimar K en un macizo rocoso con tres sistemas de fracturas ortogonales y de igual frecuencia y abertura está dada p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059280" y="3429000"/>
                <a:ext cx="24858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μb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900000" y="4437000"/>
            <a:ext cx="77756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w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el peso específico del agua y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el coeficiente de viscosidad dinámica del agua (0,01005 g s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20º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ujo en redes de fractur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el caso general (sin isotropía), la permeabilidad se debe tratar como un tensor, cuyas componentes varían de acuerdo a las propiedades antes vistas y según un sistema de coorden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resolver el tensor, la herramienta utilizada es el uso de modelos numéricos, como elementos fini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203640" y="3357720"/>
            <a:ext cx="30240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0755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n términos escalares, la permeabilidad </a:t>
            </a: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se define como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coeficiente de permeabilidad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o conductividad hidráulica </a:t>
            </a:r>
            <a:r>
              <a:rPr b="1" i="1" lang="es-ES" sz="1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, se define co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Donde         q: descarga específ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: viscosidad del flu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: peso específico del flui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: gradiente de pres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 permeabilidad es independiente del fluido y tiene unidades de L</a:t>
            </a:r>
            <a:r>
              <a:rPr b="0" lang="es-ES" sz="1400" spc="-1" strike="noStrike" baseline="30000">
                <a:solidFill>
                  <a:srgbClr val="ffffff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La conductividad hidráulica depende del fluido y tiene dimensiones de velocidad (L/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627280" y="1916280"/>
                <a:ext cx="1224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72280" y="3068640"/>
                <a:ext cx="15048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89480" y="3068640"/>
                <a:ext cx="11538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309680" y="4579920"/>
                <a:ext cx="309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ey de Darc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flujos laminares, la ley de Darcy liga el flujo de agua (caudal) con el gradiente hidrául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116000" y="3213000"/>
                <a:ext cx="15048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843280" y="3429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10200" y="3430440"/>
                <a:ext cx="1439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314720" y="4529160"/>
            <a:ext cx="40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: caudal (L</a:t>
            </a:r>
            <a:r>
              <a:rPr b="0" lang="es-ES" sz="1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/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: Area transversal al flu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: gradiente hidráulico = 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/</a:t>
            </a:r>
            <a:r>
              <a:rPr b="0" lang="es-E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 en Ro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1912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eabilidad Primari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permeabilidad de la matriz roco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meabilidad Secunda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la permeabilidad del macizo roc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69480" y="429264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triz Rocosa + Discontinuidades = Macizo Roco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779480" y="4797000"/>
            <a:ext cx="216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49600" y="5373720"/>
            <a:ext cx="25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eabilidad prim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6460920" y="4726080"/>
            <a:ext cx="215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58680" y="537372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meabilidad secunda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76720" y="1700280"/>
            <a:ext cx="38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la mayoría de las aplicaciones ingenieriles, la permeabilidad secundaria es la más relevante. En algunos casos, como geología e ingeniería del petróleo, es de interés la permeabilidad prima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95280" y="3429000"/>
            <a:ext cx="4032360" cy="28386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2120" y="306864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permeabilidad primaria o secundari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 Prima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805040" y="1905120"/>
            <a:ext cx="5533920" cy="3913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5421240" y="5897520"/>
            <a:ext cx="28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nzález de Vallejo,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rmeabilidad Secundar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 fuertemente influenciada por el fracturamiento y las características del macizo rocoso, en espe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cantidad (frecuencia) y orientación de fract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abertura y rugosidad de las fractu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rell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estado de esfuerz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 general, a mayor profundidad, mayores son los esfuerzos normales a las fracturas, estas son más cerradas, y la permeabilidad secundaria es menor y más similar a la prima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angos de coeficientes de permeabilida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4038840" cy="4014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991240" y="58770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sherwood, 197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70000" y="59691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oek &amp; Bray, 19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780080" y="2208240"/>
            <a:ext cx="38923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ujo en Discontinuidad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odelo más simple es el de agua que fluye entre dos placas pulidas paralela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e caso, la Ley de Darcy se puede expresar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i="1" lang="es-ES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la diferencia de carga entre dos secciones (inicial y final) y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la llamada “conductancia”, definida 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195640" y="3068640"/>
                <a:ext cx="1224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35280" y="4724280"/>
                <a:ext cx="129528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ν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066560" y="4673520"/>
            <a:ext cx="47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: aceleración de grave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: abertura entre las dos pla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viscosidad cinemática (en agua ~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: Largo de las placas en dirección del flu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7:28:05Z</dcterms:created>
  <dc:creator>Sergio Sepúlveda</dc:creator>
  <dc:description/>
  <dc:language>en-US</dc:language>
  <cp:lastModifiedBy>Sergio Sepúlveda</cp:lastModifiedBy>
  <dcterms:modified xsi:type="dcterms:W3CDTF">2010-08-30T15:18:43Z</dcterms:modified>
  <cp:revision>6</cp:revision>
  <dc:subject/>
  <dc:title>Permeabilidad en Macizos Rocosos</dc:title>
</cp:coreProperties>
</file>