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A28B-B00F-493F-B0C5-10818C1BB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A5F0-D5BB-4DB9-B115-7BAA1327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D07E-4D6C-4C41-AE9E-F63BC5A64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8454-5986-4DC3-9D9C-2E56FA4BF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B400-C728-44F3-874E-C7C3B5964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EC40-2BD0-4756-998D-352F3F56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F1424-E9B3-4C03-B924-45E54462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3E7B-E53C-497D-9EBF-11A3A07E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2B941-FD9C-463B-9785-A43CCBBD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82A1-875C-4009-B8BF-1FD16981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174C3-2189-4C25-B52A-B5578CF0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608F-15CE-4656-8308-E8CB5C56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481B-45C0-4D26-8F34-E44B8185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C946-D719-40F3-941D-D2583CD3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D5D3-D355-4AD0-8DD5-D6A1CB75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6C95-910A-4F52-8777-AEB430BFB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3231-6B6C-4EAA-8C48-8EAE57B82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6300-01CC-4A33-8060-457875A4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8638-F81A-4F7B-A9F8-5BAD601E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E9FE-5C05-431F-A2DC-81CADD33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5EF1-4A50-46ED-A9BD-6169AC54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F354-E44C-4163-A6EB-FFB609DE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18ED-C38A-473B-B010-2376A91D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FFE3-4770-4F8C-BB75-4DE7491E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867A-9266-487D-8978-CADE132482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16B0-F760-4928-9CD3-16EAAFBDA9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76360" y="2349360"/>
            <a:ext cx="6548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ermeabilidad en Macizos Rocos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04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 teoría se puede extrapolar a un sistema de fracturas paralelas con frecuencia de fractura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ertur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l que el coeficiente de permeabilidad 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1187280" y="2133720"/>
                <a:ext cx="10083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3276720" y="1916280"/>
                <a:ext cx="10792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e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ν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724360" y="2133720"/>
            <a:ext cx="2940120" cy="2682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2556000" y="4797360"/>
                <a:ext cx="158436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e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ν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6561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ermeabilidad de Sistema de Fractura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492360" y="1568520"/>
                <a:ext cx="172728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e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ν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1042920" y="2852640"/>
            <a:ext cx="756144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ótese que la permeabilidad depende linealmente de la frecuencia de fracturas (</a:t>
            </a: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), y es altam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nsible a la abertura de las fracturas (e), en un factor cúb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to implica que un set de fracturas muy abiertas, aún de baja frecuencia, puede controlar casi totalmente la permeabilidad del macizo rocoso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l ser muy sensible a la abertura, esto además implica que la permeabilidad es sensible al estado de esfuerzos in situ, ya que con esfuerzos altos las fracturas tienden a cerrars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6850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ermeabilidad de Sistemas de Fractura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042920" y="3141720"/>
                <a:ext cx="21909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e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ν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e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ν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3780000" y="1989000"/>
            <a:ext cx="4892400" cy="40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fectos de rugos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 la discontinuidad es rugosa, entonces la abertura que permite el flujo será menor a la abertura “mecánica”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556000" y="3141720"/>
            <a:ext cx="4176720" cy="31129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4837320" y="467352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 abertura “efectiva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792040" y="3429000"/>
            <a:ext cx="173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 abertura mecáni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fectos de rugos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e define la “abertura hidráulica” o “efectiva” (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i="1" lang="es-ES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mo (Bandis et al., 1985; Barton 2004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onde e y e</a:t>
            </a:r>
            <a:r>
              <a:rPr b="0" lang="es-ES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son en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m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presencia de rugosidad importante, la permeabilidad se determina entonces p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050920" y="2852640"/>
                <a:ext cx="14385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RC</m:t>
                            </m:r>
                          </m:e>
                          <m:sup>
                            <m:r>
                              <m:t xml:space="preserve">2,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5003640" y="2637000"/>
            <a:ext cx="3505320" cy="1519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3800520" y="5140440"/>
                <a:ext cx="183024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e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ν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fectos de rellen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presencia de relleno puede disminuir en gran medida la permeabilidad de un macizo rocoso. Para un sistema de fracturas rellenas, la permeabilidad se puede estimar como (Hoek &amp; Bray, 1981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2987640" y="3357720"/>
                <a:ext cx="216072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900000" y="4437000"/>
            <a:ext cx="777564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onde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s-ES" sz="2400" spc="-1" strike="noStrike" baseline="-25000">
                <a:solidFill>
                  <a:srgbClr val="ffffff"/>
                </a:solidFill>
                <a:latin typeface="Arial"/>
              </a:rPr>
              <a:t>f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el coeficiente de permeabilidad del relleno y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s-ES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de la matriz rocosa (permeabilidad primaria), el que en las ecuaciones anteriores se había ignorado por ser muy menor respecto al de las fracturas abiert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lujo en redes de fractur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iendo las ecuaciones anteriores, una fórmula para estimar K en un macizo rocoso con tres sistemas de fracturas ortogonales y de igual frecuencia y abertura está dada p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059280" y="3429000"/>
                <a:ext cx="248580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μb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900000" y="4437000"/>
            <a:ext cx="77756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onde 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s el peso específico del agua y 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s el coeficiente de viscosidad dinámica del agua (0,01005 g s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 20ºC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lujo en redes de fractur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el caso general (sin isotropía), la permeabilidad se debe tratar como un tensor, cuyas componentes varían de acuerdo a las propiedades antes vistas y según un sistema de coordena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 resolver el tensor, la herramienta utilizada es el uso de modelos numéricos, como elementos finit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3203640" y="3357720"/>
            <a:ext cx="302400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ermeabil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0755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n términos escalares, la permeabilidad </a:t>
            </a:r>
            <a:r>
              <a:rPr b="1" i="1" lang="es-ES" sz="1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se define como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coeficiente de permeabilidad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o conductividad hidráulica </a:t>
            </a:r>
            <a:r>
              <a:rPr b="1" i="1" lang="es-ES" sz="1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, se define co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Donde         q: descarga específ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: viscosidad del flui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f: peso específico del flui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: gradiente de pres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La permeabilidad es independiente del fluido y tiene unidades de L</a:t>
            </a:r>
            <a:r>
              <a:rPr b="0" lang="es-ES" sz="1400" spc="-1" strike="noStrike" baseline="30000">
                <a:solidFill>
                  <a:srgbClr val="ffffff"/>
                </a:solidFill>
                <a:latin typeface="Arial"/>
              </a:rPr>
              <a:t>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La conductividad hidráulica depende del fluido y tiene dimensiones de velocidad (L/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2627280" y="1916280"/>
                <a:ext cx="12240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372280" y="3068640"/>
                <a:ext cx="150480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489480" y="3068640"/>
                <a:ext cx="115380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1309680" y="4579920"/>
                <a:ext cx="3096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Ley de Darc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flujos laminares, la ley de Darcy liga el flujo de agua (caudal) con el gradiente hidrául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116000" y="3213000"/>
                <a:ext cx="150480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2843280" y="342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210200" y="3430440"/>
                <a:ext cx="14396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A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1314720" y="4529160"/>
            <a:ext cx="40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onde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: caudal (L</a:t>
            </a:r>
            <a:r>
              <a:rPr b="0" lang="es-ES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/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: Area transversal al fluj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: gradiente hidráulico = </a:t>
            </a: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/</a:t>
            </a: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ermeabilidad en Ro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1912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meabilidad Primaria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la permeabilidad de la matriz rocos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meabilidad Secundari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la permeabilidad del macizo roco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69480" y="429264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triz Rocosa + Discontinuidades = Macizo Roco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779480" y="4797000"/>
            <a:ext cx="2160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49600" y="5373720"/>
            <a:ext cx="25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meabilidad pri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6460920" y="4726080"/>
            <a:ext cx="21564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58680" y="5373720"/>
            <a:ext cx="281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meabilidad secund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76720" y="170028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la mayoría de las aplicaciones ingenieriles, la permeabilidad secundaria es la más relevante. En algunos casos, como geología e ingeniería del petróleo, es de interés la permeabilidad primar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95280" y="1159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95280" y="3429000"/>
            <a:ext cx="4032360" cy="28386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02120" y="3068640"/>
            <a:ext cx="41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permeabilidad primaria o secundari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ermeabilidad Primar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805040" y="1905120"/>
            <a:ext cx="5533920" cy="39132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5421240" y="5897520"/>
            <a:ext cx="28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nzález de Vallejo, 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ermeabilidad Secundar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á fuertemente influenciada por el fracturamiento y las características del macizo rocoso, en especi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cantidad (frecuencia) y orientación de fractu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abertura y rugosidad de las fractu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 relle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 estado de esfuerz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 general, a mayor profundidad, mayores son los esfuerzos normales a las fracturas, estas son más cerradas, y la permeabilidad secundaria es menor y más similar a la primari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angos de coeficientes de permeabilidad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4038840" cy="4014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991240" y="587700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sherwood, 197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570000" y="5969160"/>
            <a:ext cx="20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oek &amp; Bray, 198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4780080" y="2208240"/>
            <a:ext cx="389232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lujo en Discontinuidad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modelo más simple es el de agua que fluye entre dos placas pulidas paralela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ese caso, la Ley de Darcy se puede expresar com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onde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i="1" lang="es-ES" sz="24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s la diferencia de carga entre dos secciones (inicial y final) y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s la llamada “conductancia”, definida  com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195640" y="3068640"/>
                <a:ext cx="12240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835280" y="4724280"/>
                <a:ext cx="129528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e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ν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066560" y="4673520"/>
            <a:ext cx="475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: aceleración de grave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: abertura entre las dos pla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viscosidad cinemática (en agua ~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: Largo de las placas en dirección del fluj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4T17:28:05Z</dcterms:created>
  <dc:creator>Sergio Sepúlveda</dc:creator>
  <dc:description/>
  <dc:language>en-US</dc:language>
  <cp:lastModifiedBy>Sergio Sepúlveda</cp:lastModifiedBy>
  <dcterms:modified xsi:type="dcterms:W3CDTF">2010-08-30T15:18:43Z</dcterms:modified>
  <cp:revision>6</cp:revision>
  <dc:subject/>
  <dc:title>Permeabilidad en Macizos Rocosos</dc:title>
</cp:coreProperties>
</file>