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B8626-0107-481B-8D1A-E34350175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8B7B-3498-4390-B721-0D9EB747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E130B-69A9-4872-A130-B61BF9751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06807-F23A-4FDF-B2DB-B86F9741D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00C54-BE6C-4118-98DE-FA4DDC4FB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E2672-76E5-46EF-ABB0-E1247ABF7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93452-26D3-4B51-8159-758F5C35F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85A76-A208-45B1-8018-15D496664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6C3E2-6765-451B-BDC5-9B607DD0C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FDFC0-695B-47BC-83F4-96C89E3CE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C79F8-A80E-48CE-AA04-4E308943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7D0E-E02B-4408-B8F8-5BEDD9067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3D0B7-D4A3-4A0E-B26F-52CAADAD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17F1-C58B-4204-8A0A-457697D6A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C747-12E9-418B-8E26-43CF5D2EA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F636F-DC1F-47F0-B540-651E58098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98D78-FC5C-42B8-B5F0-B9796C6BA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468F-8F14-47B6-8ECC-0890E2B9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74E7-9126-4647-8738-6D9EBCF8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C802D-03A0-4C9B-971F-73892587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5593C-CDA9-4C7F-96FA-BAE9929F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CE7F-855C-46E3-8855-DA43F277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D153-9E15-4F3B-A455-E6EFB088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1480-5D31-4976-9CA8-CE73821AC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9573-3427-421E-A7D4-03304CC26A1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5F58-1976-4619-B0DA-55DEF4ED4439}"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59Z</dcterms:modified>
  <cp:revision>13</cp:revision>
  <dc:subject/>
  <dc:title>Resistencia de Macizos Rocosos</dc:title>
</cp:coreProperties>
</file>