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5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EF092C-6662-44AE-AF9E-AE4DC5477D0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BA846E-54AF-48C2-B88A-482FFFA9DE1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C31CEF-9C78-4D69-97AE-AF4F1B244AC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B85D25-EC79-489E-8C15-495BBA1D12C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1D0515-48D0-419F-B5DC-00951565C19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7374F0-3FDD-44C0-B7B4-258124D729E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B4F3D4-7B3E-4D40-BF75-930BA2DB594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D5C896-C8A2-4449-B953-9D64B50C49A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FFAE60-1516-4EE2-959B-0D6E933453F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FB4143-285C-4196-A58B-5360B6BBC67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91ABF5-9BA3-48BC-B319-9764846F8C7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662B42-96C4-49C5-BB1F-CE0024BBF40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0824CB-CB8C-437A-A324-F81D9EDE250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A7647E-AE4A-4746-8E7E-F92BBE3C134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E41A96-E13B-4726-8CC9-C622ECB7BF2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B8510A-8977-43E1-AE85-DB54227B1D8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C5848C-9836-4B1C-8146-36197FD4841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1AC700-C07E-440A-8385-0D5A146891C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10F0D9-E3F5-46F9-B799-D900B8369C9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8DFD6D-E3A2-4074-B209-D416E33FC99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72A755-2D6C-4137-8C16-87C9FB32395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23A1AE-489C-41B6-9A87-6CB2CB26C6F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05EA22-D295-424E-9591-B2D546E9A11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9F0E43-A2AC-4EC7-9587-0963706796B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F3F7C8-6438-4260-BE42-6E563A89AEB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5CCBE3-C26F-4B33-8DDB-CE26F8481F7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A8DA2E-7F97-4034-A437-BB235F00AFB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2FC64E-5641-4DFD-B290-A2863121087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B50-7D86-44F3-A0BF-A5B34376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509-003F-4F3B-A878-AC17B465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2C4-0983-4735-8A05-16EE64C8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228-75E0-4545-B9F3-9C30ED48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7B7F-8333-4FCB-9EF5-B94A20B3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288-3B9D-47B9-8071-58259E04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2E2-0239-44DD-ACFB-AB098052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705-00ED-4B65-B00D-039B4310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D426-6527-4B62-8B01-3E40631D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A102-0D4C-4B46-A502-9503B94E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AB6-31FB-4AA8-8659-2F1E45BA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3E0-9A5E-4923-938C-2C82F84E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9B6C-9926-4A76-B898-8C144C1737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stemas de Clasificación de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acizos Roc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920" y="587664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agrega una corrección para túne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6000" y="763560"/>
            <a:ext cx="8748720" cy="314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1042920" y="4581360"/>
            <a:ext cx="7561440" cy="11462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do por Barton et al. (1974) como el Indice de Calidad de Rocas para Tún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conocida como la clasificación NGI, por la afiliación de los autores (Norwegian Geotechnical Institu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a la calidad del macizo y se aplica en definición de requerimientos de sostenimiento en excavaciones subterrán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scala logarítmica, de 0,001 a 1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da a partir de 6 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nido a partir de 6 parámetros que forman 3 cuoc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QD: Rock Quality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n: Joint se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r: Joint roughness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a: Joint Altera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w: Joint water redu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RF: Stress Redu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3059280" y="2421000"/>
                <a:ext cx="23907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Q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R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rimer cuociente da cuenta del tamaño de los bloques que se forma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ndo cuociente es un indicador de la resistencia entre los bloques, controlada por la resistencia en las discontinuida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ercer cuociente, llamado “esfuerzo activo”, considera el efecto de las presiones de agua, grados de confinamiento o relaj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2916360" y="1706400"/>
                <a:ext cx="3240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Q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R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QD y J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250920" y="1576440"/>
            <a:ext cx="84978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252440" y="44280"/>
            <a:ext cx="7567560" cy="3187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344600" y="3141720"/>
            <a:ext cx="74754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J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596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6888240" cy="3065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1996920" y="3213000"/>
            <a:ext cx="6823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2771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pósito y 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ificar de manera cuantitativa la calidad geotécnica de un macizo roc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ir la distinción entre un macizo y otro de manera rápida y 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ner un parámetro para efectos de diseño de fort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basan en apreciaciones empír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subjetivos, a mayor experiencia mejor es la clas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basan en sistema de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ating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n que se asigna un puntaje a diversas características y se calcula un puntaje fi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rcRect l="2469" t="0" r="0" b="0"/>
          <a:stretch/>
        </p:blipFill>
        <p:spPr>
          <a:xfrm>
            <a:off x="324000" y="115920"/>
            <a:ext cx="8156520" cy="3529080"/>
          </a:xfrm>
          <a:prstGeom prst="rect">
            <a:avLst/>
          </a:prstGeom>
          <a:ln w="0">
            <a:noFill/>
          </a:ln>
        </p:spPr>
      </p:pic>
      <p:sp>
        <p:nvSpPr>
          <p:cNvPr id="106" name="3 CuadroTexto"/>
          <p:cNvSpPr/>
          <p:nvPr/>
        </p:nvSpPr>
        <p:spPr>
          <a:xfrm>
            <a:off x="539640" y="6227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rton, 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4680" y="3429000"/>
            <a:ext cx="9167760" cy="2664000"/>
          </a:xfrm>
          <a:prstGeom prst="rect">
            <a:avLst/>
          </a:prstGeom>
          <a:ln w="0">
            <a:noFill/>
          </a:ln>
        </p:spPr>
      </p:pic>
      <p:sp>
        <p:nvSpPr>
          <p:cNvPr id="108" name="4 Rectángulo"/>
          <p:cNvSpPr/>
          <p:nvPr/>
        </p:nvSpPr>
        <p:spPr>
          <a:xfrm>
            <a:off x="8675640" y="3284640"/>
            <a:ext cx="4968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plicaciones de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547640" y="1360440"/>
            <a:ext cx="61214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826920" y="573120"/>
            <a:ext cx="7129800" cy="5880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563440" y="64008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o de Fort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Barton´s Q vs Vp"/>
          <p:cNvPicPr/>
          <p:nvPr/>
        </p:nvPicPr>
        <p:blipFill>
          <a:blip r:embed="rId1"/>
          <a:stretch/>
        </p:blipFill>
        <p:spPr>
          <a:xfrm>
            <a:off x="1023840" y="262080"/>
            <a:ext cx="7096320" cy="6333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4845600" y="6381720"/>
            <a:ext cx="37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imación de velocidad de onda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3017" b="0"/>
          <a:stretch/>
        </p:blipFill>
        <p:spPr>
          <a:xfrm>
            <a:off x="324000" y="58680"/>
            <a:ext cx="8415360" cy="66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ological Strength Index (G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roducido por Hoek (1995), es un índice que indica la reducción de la resistencia de un macizo rocoso, con respecto a la roca intacta, para diferentes condiciones geológ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efine en terreno por observación de dos parámetros principales: estado de fracturamiento; y calidad de las discontinu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SI se debe dar en un rango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bl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76704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2000" y="274320"/>
            <a:ext cx="180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16" descr="GSI chart"/>
          <p:cNvPicPr/>
          <p:nvPr/>
        </p:nvPicPr>
        <p:blipFill>
          <a:blip r:embed="rId1"/>
          <a:stretch/>
        </p:blipFill>
        <p:spPr>
          <a:xfrm>
            <a:off x="755640" y="-174600"/>
            <a:ext cx="5143680" cy="7419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17"/>
          <p:cNvSpPr/>
          <p:nvPr/>
        </p:nvSpPr>
        <p:spPr>
          <a:xfrm>
            <a:off x="6139080" y="618480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ek &amp; Brown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rocas estratificadas en que hay clara diferencia entre dos tipos de rocas (por ejemplo alternancia areniscas-lutitas), se propone usar una ponderación de valores de G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Tabla ponderacion UCS y mi HB flysch"/>
          <p:cNvPicPr/>
          <p:nvPr/>
        </p:nvPicPr>
        <p:blipFill>
          <a:blip r:embed="rId1"/>
          <a:stretch/>
        </p:blipFill>
        <p:spPr>
          <a:xfrm>
            <a:off x="1230480" y="2133720"/>
            <a:ext cx="6581520" cy="4467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591600" y="63752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inos &amp; Hoek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GSI flysch"/>
          <p:cNvPicPr/>
          <p:nvPr/>
        </p:nvPicPr>
        <p:blipFill>
          <a:blip r:embed="rId1"/>
          <a:stretch/>
        </p:blipFill>
        <p:spPr>
          <a:xfrm>
            <a:off x="1116000" y="1073160"/>
            <a:ext cx="7223040" cy="5369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591600" y="63752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inos &amp; Hoek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alidad Geotécn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unio-julio 2004 037"/>
          <p:cNvPicPr/>
          <p:nvPr/>
        </p:nvPicPr>
        <p:blipFill>
          <a:blip r:embed="rId1"/>
          <a:stretch/>
        </p:blipFill>
        <p:spPr>
          <a:xfrm>
            <a:off x="684360" y="476280"/>
            <a:ext cx="4378320" cy="3284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007_18vert"/>
          <p:cNvPicPr/>
          <p:nvPr/>
        </p:nvPicPr>
        <p:blipFill>
          <a:blip r:embed="rId2"/>
          <a:stretch/>
        </p:blipFill>
        <p:spPr>
          <a:xfrm>
            <a:off x="5580000" y="1413000"/>
            <a:ext cx="3125880" cy="4687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024_1"/>
          <p:cNvPicPr/>
          <p:nvPr/>
        </p:nvPicPr>
        <p:blipFill>
          <a:blip r:embed="rId3"/>
          <a:stretch/>
        </p:blipFill>
        <p:spPr>
          <a:xfrm>
            <a:off x="1187280" y="4057560"/>
            <a:ext cx="3529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plicaciones de G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buen descriptor de la calidad del macizo rocoso, más rápido de estimar que RMR y en especial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utiliza como una de las variables para obtener la resistencia del macizo rocoso mediante el criterio de falla de Hoek-Brown (se verá en las próximas clas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el estudio de taludes, los sistemas de clasificación más comunes son el RMR de Beniawski y el GSI de Hoek y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túneles y excavaciones subterráneas además de las anteriores se usan normalmente el método Q de Barton, el MRMR de Laubsher (minería), entr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asificación de Beniaw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bién conocida como Clasificación Geomecánica, definida por Beniwaski (197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sión actualizada de 198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torga puntaje a 5 parámetros, con una suma máxima de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untaje total se llama RMR, “Rock mass rat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ificación de Beniawski (198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ámetros a califi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istencia de la Roca Intacta: A partir de valores de resistencia a la compresión simple (UCS) o de ensayos de carga puntual. Ptje máximo: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QD. Ptje Máximo: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paciamiento de discontinuidades. Ptje. Máximo: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de las discontinuidades. Ptje Máximo: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de Agua Subterránea. Ptje Máximo: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MR= (1)+(2)+(3)+(4)+(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MR Beniaw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71280" y="1484280"/>
            <a:ext cx="8964720" cy="4797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talle para puntaje condiciones de discontinu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08000" y="2116080"/>
            <a:ext cx="8893080" cy="2127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icionalmente, Beniawski (1989) propuso una clasificación (clases I a V), correcciones para casos especiales y recomendaciones de valores de resistencia del macizo y aplicaciones en túne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8:44:29Z</dcterms:created>
  <dc:creator>Sergio Sepulveda</dc:creator>
  <dc:description/>
  <dc:language>en-US</dc:language>
  <cp:lastModifiedBy>Sergio</cp:lastModifiedBy>
  <dcterms:modified xsi:type="dcterms:W3CDTF">2011-10-17T20:36:22Z</dcterms:modified>
  <cp:revision>11</cp:revision>
  <dc:subject/>
  <dc:title>Clasificación de Macizos Rocosos</dc:title>
</cp:coreProperties>
</file>