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5.jpeg" ContentType="image/jpeg"/>
  <Override PartName="/ppt/media/image22.png" ContentType="image/png"/>
  <Override PartName="/ppt/media/image5.png" ContentType="image/png"/>
  <Override PartName="/ppt/media/image10.png" ContentType="image/png"/>
  <Override PartName="/ppt/media/image3.jpeg" ContentType="image/jpeg"/>
  <Override PartName="/ppt/media/image15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s-E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EB9D9A5-9C94-418C-99B4-0680EA8F56AA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E7781C9-FEB2-42A8-AFEB-D862505778B1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48CD166-D8BF-43F9-B509-5B3E7F4DF15D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6813232-3A12-446E-A0D1-2E2AFA6900B2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66A4134-6A56-4386-99E4-CB9AFDEB97D0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28CBAF6-7CCF-4B96-9D52-32C8E69B891D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2ADFD07-9010-451F-9ABA-E62549CAE3C1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6C70286-69EA-45D1-9C08-DCE2EF7FAEC3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6BF653A-02F6-4CB9-9830-C94F91582419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F682FA9-A734-43EF-8138-7C98360F3A60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F1E7452-7AB6-42ED-9184-E11098564E03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6BFBB44-4B8E-4A5B-B9DF-56F72586A56F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1939949-5944-4E20-B7E9-7A46DDE4155C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A74C437-EFE7-4AE2-867C-8ED19884EBA6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E7FF079-50F2-4988-8212-ADC727642E06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6AFEFD2-5732-4936-BF04-3538E45C448A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F9C81E8-EEBD-429A-975F-DD98CE7EB8A5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C5E801D-C5D0-496F-816B-40BFECE28D54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E6839F5-45EA-4AEF-ADDB-725C5A9CE94F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64283DF-0B01-488A-832B-C0350317DCB4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6456CC7-B1C7-4432-9AD9-B51426793851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6ADA328-8E40-4814-8BF3-1B5084B6F1E9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7A2E325-66CB-4144-8919-C9F8EB206D97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92F4D3A-E517-4D66-932E-BF40D9188722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B341F63-782E-47B0-AC70-7C4666BA77C7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140F5CA-5F31-4A85-A13A-7AA32125EA61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5A2FEF5-5CB7-4549-A845-70F05FE13736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D94ABC1-5E41-4BFA-8100-411BF6228569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5DA3-C4FA-49C3-A149-344E0C0EA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EC61-0547-4146-9337-7746DD692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358C-4082-4C85-A9B9-D924F5FCF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FB48-5667-4071-8714-FB905DDFE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3238-6923-4525-9A94-CF152643F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3624-3724-4FA3-9DFF-0FBBE7F0E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322D-512D-4C23-8DB2-F22331ED6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72AA-390D-492C-8E2D-BA09C7A1F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6223-DA0E-4EAB-A2DC-D73A62C79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0625-EDF5-4E38-A07A-96DD8228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F610-A1F2-4C7A-88CE-598B0566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C315-E3B2-45FD-A8FA-E60335F1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C3889-4606-4B24-A52B-4703FC02FF5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istemas de Clasificación de </a:t>
            </a: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acizos Rocos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50920" y="5876640"/>
            <a:ext cx="6400800" cy="77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agrega una corrección para túne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216000" y="763560"/>
            <a:ext cx="8748720" cy="3149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"/>
          <p:cNvPicPr/>
          <p:nvPr/>
        </p:nvPicPr>
        <p:blipFill>
          <a:blip r:embed="rId2"/>
          <a:stretch/>
        </p:blipFill>
        <p:spPr>
          <a:xfrm>
            <a:off x="1042920" y="4581360"/>
            <a:ext cx="7561440" cy="1146240"/>
          </a:xfrm>
          <a:prstGeom prst="rect">
            <a:avLst/>
          </a:prstGeom>
          <a:ln w="0">
            <a:noFill/>
          </a:ln>
        </p:spPr>
      </p:pic>
      <p:sp>
        <p:nvSpPr>
          <p:cNvPr id="75" name="Text Box 7"/>
          <p:cNvSpPr/>
          <p:nvPr/>
        </p:nvSpPr>
        <p:spPr>
          <a:xfrm>
            <a:off x="6396480" y="6375240"/>
            <a:ext cx="25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omado de Hoek,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ndice Q de Bart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finido por Barton et al. (1974) como el Indice de Calidad de Rocas para Túne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ambién conocida como la clasificación NGI, por la afiliación de los autores (Norwegian Geotechnical Institut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termina la calidad del macizo y se aplica en definición de requerimientos de sostenimiento en excavaciones subterráne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escala logarítmica, de 0,001 a 1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finida a partir de 6 paráme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ndice Q de Bart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finido a partir de 6 parámetros que forman 3 cuocie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QD: Rock Quality Desig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Jn: Joint set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Jr: Joint roughness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Ja: Joint Alteration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Jw: Joint water reduction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RF: Stress Reduction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4"/>
              <p:cNvSpPr txBox="1"/>
              <p:nvPr/>
            </p:nvSpPr>
            <p:spPr>
              <a:xfrm>
                <a:off x="3059280" y="2421000"/>
                <a:ext cx="239076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Q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Jn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J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Ja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Jw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R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ndice Q de Bart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primer cuociente da cuenta del tamaño de los bloques que se forma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segundo cuociente es un indicador de la resistencia entre los bloques, controlada por la resistencia en las discontinuidad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tercer cuociente, llamado “esfuerzo activo”, considera el efecto de las presiones de agua, grados de confinamiento o relaja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4"/>
              <p:cNvSpPr txBox="1"/>
              <p:nvPr/>
            </p:nvSpPr>
            <p:spPr>
              <a:xfrm>
                <a:off x="2916360" y="1706400"/>
                <a:ext cx="324000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Q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Jn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J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Ja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Jw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R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RQD y J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56908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J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"/>
          <p:cNvPicPr/>
          <p:nvPr/>
        </p:nvPicPr>
        <p:blipFill>
          <a:blip r:embed="rId1"/>
          <a:stretch/>
        </p:blipFill>
        <p:spPr>
          <a:xfrm>
            <a:off x="250920" y="1576440"/>
            <a:ext cx="849780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1252440" y="44280"/>
            <a:ext cx="7567560" cy="3187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2"/>
          <a:stretch/>
        </p:blipFill>
        <p:spPr>
          <a:xfrm>
            <a:off x="1344600" y="3141720"/>
            <a:ext cx="747540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J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45964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R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1979640" y="189000"/>
            <a:ext cx="6888240" cy="30654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"/>
          <p:cNvPicPr/>
          <p:nvPr/>
        </p:nvPicPr>
        <p:blipFill>
          <a:blip r:embed="rId2"/>
          <a:stretch/>
        </p:blipFill>
        <p:spPr>
          <a:xfrm>
            <a:off x="1996920" y="3213000"/>
            <a:ext cx="682308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827712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opósito y Característ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alificar de manera cuantitativa la calidad geotécnica de un macizo roco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ermitir la distinción entre un macizo y otro de manera rápida y fác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ener un parámetro para efectos de diseño de fortific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basan en apreciaciones empír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on subjetivos, a mayor experiencia mejor es la clasific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basan en sistema de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rating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en que se asigna un puntaje a diversas características y se calcula un puntaje fin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rcRect l="2469" t="0" r="0" b="0"/>
          <a:stretch/>
        </p:blipFill>
        <p:spPr>
          <a:xfrm>
            <a:off x="324000" y="115920"/>
            <a:ext cx="8156520" cy="3529080"/>
          </a:xfrm>
          <a:prstGeom prst="rect">
            <a:avLst/>
          </a:prstGeom>
          <a:ln w="0">
            <a:noFill/>
          </a:ln>
        </p:spPr>
      </p:pic>
      <p:sp>
        <p:nvSpPr>
          <p:cNvPr id="106" name="3 CuadroTexto"/>
          <p:cNvSpPr/>
          <p:nvPr/>
        </p:nvSpPr>
        <p:spPr>
          <a:xfrm>
            <a:off x="539640" y="622764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arton, 19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2"/>
          <a:stretch/>
        </p:blipFill>
        <p:spPr>
          <a:xfrm>
            <a:off x="4680" y="3429000"/>
            <a:ext cx="9167760" cy="2664000"/>
          </a:xfrm>
          <a:prstGeom prst="rect">
            <a:avLst/>
          </a:prstGeom>
          <a:ln w="0">
            <a:noFill/>
          </a:ln>
        </p:spPr>
      </p:pic>
      <p:sp>
        <p:nvSpPr>
          <p:cNvPr id="108" name="4 Rectángulo"/>
          <p:cNvSpPr/>
          <p:nvPr/>
        </p:nvSpPr>
        <p:spPr>
          <a:xfrm>
            <a:off x="8675640" y="3284640"/>
            <a:ext cx="496800" cy="10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Aplicaciones de 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1547640" y="1360440"/>
            <a:ext cx="612144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826920" y="573120"/>
            <a:ext cx="7129800" cy="588024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5563440" y="640080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seño de Fortif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Barton´s Q vs Vp"/>
          <p:cNvPicPr/>
          <p:nvPr/>
        </p:nvPicPr>
        <p:blipFill>
          <a:blip r:embed="rId1"/>
          <a:stretch/>
        </p:blipFill>
        <p:spPr>
          <a:xfrm>
            <a:off x="1023840" y="262080"/>
            <a:ext cx="7096320" cy="63338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6"/>
          <p:cNvSpPr/>
          <p:nvPr/>
        </p:nvSpPr>
        <p:spPr>
          <a:xfrm>
            <a:off x="4845600" y="6381720"/>
            <a:ext cx="374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imación de velocidad de onda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rcRect l="0" t="0" r="3017" b="0"/>
          <a:stretch/>
        </p:blipFill>
        <p:spPr>
          <a:xfrm>
            <a:off x="324000" y="58680"/>
            <a:ext cx="8415360" cy="665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Geological Strength Index (G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troducido por Hoek (1995), es un índice que indica la reducción de la resistencia de un macizo rocoso, con respecto a la roca intacta, para diferentes condiciones geológic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 define en terreno por observación de dos parámetros principales: estado de fracturamiento; y calidad de las discontinuida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GSI se debe dar en un rango de val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abla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3767040" y="0"/>
            <a:ext cx="498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12000" y="274320"/>
            <a:ext cx="180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G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16" descr="GSI chart"/>
          <p:cNvPicPr/>
          <p:nvPr/>
        </p:nvPicPr>
        <p:blipFill>
          <a:blip r:embed="rId1"/>
          <a:stretch/>
        </p:blipFill>
        <p:spPr>
          <a:xfrm>
            <a:off x="755640" y="-174600"/>
            <a:ext cx="5143680" cy="741996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117"/>
          <p:cNvSpPr/>
          <p:nvPr/>
        </p:nvSpPr>
        <p:spPr>
          <a:xfrm>
            <a:off x="6139080" y="6184800"/>
            <a:ext cx="22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oek &amp; Brown, 19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ara rocas estratificadas en que hay clara diferencia entre dos tipos de rocas (por ejemplo alternancia areniscas-lutitas), se propone usar una ponderación de valores de GS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Tabla ponderacion UCS y mi HB flysch"/>
          <p:cNvPicPr/>
          <p:nvPr/>
        </p:nvPicPr>
        <p:blipFill>
          <a:blip r:embed="rId1"/>
          <a:stretch/>
        </p:blipFill>
        <p:spPr>
          <a:xfrm>
            <a:off x="1230480" y="2133720"/>
            <a:ext cx="6581520" cy="446724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5"/>
          <p:cNvSpPr/>
          <p:nvPr/>
        </p:nvSpPr>
        <p:spPr>
          <a:xfrm>
            <a:off x="6591600" y="6375240"/>
            <a:ext cx="251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rinos &amp; Hoek, 200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GSI flysch"/>
          <p:cNvPicPr/>
          <p:nvPr/>
        </p:nvPicPr>
        <p:blipFill>
          <a:blip r:embed="rId1"/>
          <a:stretch/>
        </p:blipFill>
        <p:spPr>
          <a:xfrm>
            <a:off x="1116000" y="1073160"/>
            <a:ext cx="7223040" cy="53690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6591600" y="6375240"/>
            <a:ext cx="251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rinos &amp; Hoek, 200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148000" y="274320"/>
            <a:ext cx="353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Calidad Geotécnic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junio-julio 2004 037"/>
          <p:cNvPicPr/>
          <p:nvPr/>
        </p:nvPicPr>
        <p:blipFill>
          <a:blip r:embed="rId1"/>
          <a:stretch/>
        </p:blipFill>
        <p:spPr>
          <a:xfrm>
            <a:off x="684360" y="476280"/>
            <a:ext cx="4378320" cy="3284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007_18vert"/>
          <p:cNvPicPr/>
          <p:nvPr/>
        </p:nvPicPr>
        <p:blipFill>
          <a:blip r:embed="rId2"/>
          <a:stretch/>
        </p:blipFill>
        <p:spPr>
          <a:xfrm>
            <a:off x="5580000" y="1413000"/>
            <a:ext cx="3125880" cy="4687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024_1"/>
          <p:cNvPicPr/>
          <p:nvPr/>
        </p:nvPicPr>
        <p:blipFill>
          <a:blip r:embed="rId3"/>
          <a:stretch/>
        </p:blipFill>
        <p:spPr>
          <a:xfrm>
            <a:off x="1187280" y="4057560"/>
            <a:ext cx="352908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Aplicaciones de G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un buen descriptor de la calidad del macizo rocoso, más rápido de estimar que RMR y en especial Q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utiliza como una de las variables para obtener la resistencia del macizo rocoso mediante el criterio de falla de Hoek-Brown (se verá en las próximas clas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ra el estudio de taludes, los sistemas de clasificación más comunes son el RMR de Beniawski y el GSI de Hoek y Br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ra túneles y excavaciones subterráneas además de las anteriores se usan normalmente el método Q de Barton, el MRMR de Laubsher (minería), entre ot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lasificación de Beniawsk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ambién conocida como Clasificación Geomecánica, definida por Beniwaski (1976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ersión actualizada de 198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torga puntaje a 5 parámetros, con una suma máxima de 1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puntaje total se llama RMR, “Rock mass rating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lasificación de Beniawski (1989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rámetros a calific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sistencia de la Roca Intacta: A partir de valores de resistencia a la compresión simple (UCS) o de ensayos de carga puntual. Ptje máximo: 1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QD. Ptje Máximo: 2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paciamiento de discontinuidades. Ptje. Máximo: 2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diciones de las discontinuidades. Ptje Máximo: 3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diciones de Agua Subterránea. Ptje Máximo: 1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RMR= (1)+(2)+(3)+(4)+(5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RMR Beniawsk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"/>
          <p:cNvPicPr/>
          <p:nvPr/>
        </p:nvPicPr>
        <p:blipFill>
          <a:blip r:embed="rId1"/>
          <a:stretch/>
        </p:blipFill>
        <p:spPr>
          <a:xfrm>
            <a:off x="71280" y="1484280"/>
            <a:ext cx="8964720" cy="47973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0"/>
          <p:cNvSpPr/>
          <p:nvPr/>
        </p:nvSpPr>
        <p:spPr>
          <a:xfrm>
            <a:off x="6396480" y="6375240"/>
            <a:ext cx="25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omado de Hoek,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Detalle para puntaje condiciones de discontinuida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108000" y="2116080"/>
            <a:ext cx="8893080" cy="21272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6396480" y="6375240"/>
            <a:ext cx="25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omado de Hoek,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dicionalmente, Beniawski (1989) propuso una clasificación (clases I a V), correcciones para casos especiales y recomendaciones de valores de resistencia del macizo y aplicaciones en túne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4T18:44:29Z</dcterms:created>
  <dc:creator>Sergio Sepulveda</dc:creator>
  <dc:description/>
  <dc:language>en-US</dc:language>
  <cp:lastModifiedBy>Sergio</cp:lastModifiedBy>
  <dcterms:modified xsi:type="dcterms:W3CDTF">2011-10-17T20:36:22Z</dcterms:modified>
  <cp:revision>11</cp:revision>
  <dc:subject/>
  <dc:title>Clasificación de Macizos Rocosos</dc:title>
</cp:coreProperties>
</file>