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BBD4-B3E6-4455-8FA2-458C01227724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FB9B-174D-488E-A072-8548B30D2F22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2E4E-2325-4DF9-A1F4-285CA4F17EDD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EF9A-AA98-46DD-B3E3-CBBE0DBBAFB0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139E-7FEA-47E5-AC65-12BE75BFF46C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2CFE-A4D0-4E00-81C4-447B74B98041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A979-0262-4288-B948-3C3B76A360D2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FB54-FC7D-4C85-A652-500CAC79DF36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945D-EB89-4D34-ACDE-0BA1CDE4F126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28C1-72BB-471F-8890-853F3AE36091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462A-FE82-4F3D-BD86-4B960183FDB9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EC96-C29C-43EF-BC8C-AB887EBA232E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7FE3-2F99-4410-9A22-6EE5EBB7AD9D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E104-AAEF-416E-8723-1F7DCBFAD892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F8E1-C33B-4CB3-9965-EFC03C9A02B0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A1B2-FA4B-41F1-A5D7-853FA09D0D23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21DE-DC19-4408-B08A-808CC12EA377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AB07-A145-4119-97D4-86B203C6E954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50E4-11AA-4A03-9C1E-6DD7CFFA681A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A0CC-AC6E-499C-9874-52EAACB98E3F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D6C4-EBFD-4E32-AD4E-05A93D8643DE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B2B6-FE65-457F-9019-D5F4ADAD5B6F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21AD-3AF3-444B-A708-3A7DBC99B46B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0131-B483-41B3-951A-1FB4A210447D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C33A-25E3-4DC0-9B74-4BA31307D44B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92C8-2DA3-40F4-A686-16A25D20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5935-0B35-44E4-BFCB-2FBF8ACC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5BC-065F-427E-89B7-56D73DA5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07A-D1BE-49C1-B373-0FF763CC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9767-2498-42B4-B065-DBA19771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7B2E-0AFB-4C86-B02F-4BBA89B0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B5C4-142E-4813-B5AC-5AC3BD8D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C2C4-7026-4138-8D27-A49A19D9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88BE-4438-436E-AB11-CF91B2FB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747A-23D3-4AB0-AE9D-130FD03D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AA4D-8664-4661-9871-66D76D6C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6FB-F222-4AD9-82B8-2E2BFE94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E5BE-3C89-4A8D-A8E7-264EA898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29CF-4F5D-4830-8F1D-71BE2087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3CE5-F311-490B-BBF4-473C8DD6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D439-D715-43F0-97F1-3EC2A9C5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FFFC-C451-4645-A733-C72A97FC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9496-3BE0-44C6-B77E-5B6C5C0B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C5F6-ADF3-407D-8ACA-25D31EEB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02E0-F6C8-4CE3-8D2B-B8CC625C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06D9-90B0-466F-9758-49B71F5B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6AEC-2FB5-4BD6-A1D8-CA4FC5E0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2972-4E6A-4057-9B87-699859D8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D891-3FA2-437F-ABC0-714E1A93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1CBE-BF00-4318-B76B-A5B1B2C5261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0A97-606F-4FA6-9CEA-C6E545FBD59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ocscience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0033"/>
                </a:solidFill>
                <a:latin typeface="Times New Roman"/>
              </a:rPr>
              <a:t>Geología Aplicada a la Ingeniería</a:t>
            </a:r>
            <a:br>
              <a:rPr sz="4800"/>
            </a:br>
            <a:r>
              <a:rPr b="0" lang="es-ES_tradnl" sz="4800" spc="-1" strike="noStrike">
                <a:solidFill>
                  <a:srgbClr val="330033"/>
                </a:solidFill>
                <a:latin typeface="Times New Roman"/>
              </a:rPr>
              <a:t>GL-5201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858000" cy="24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mestre Primaver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fesor: Sergio Sepúlve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yudantes: por defin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7"/>
          <p:cNvGrpSpPr/>
          <p:nvPr/>
        </p:nvGrpSpPr>
        <p:grpSpPr>
          <a:xfrm>
            <a:off x="289440" y="1295280"/>
            <a:ext cx="4124520" cy="2616480"/>
            <a:chOff x="289440" y="1295280"/>
            <a:chExt cx="4124520" cy="2616480"/>
          </a:xfrm>
        </p:grpSpPr>
        <p:sp>
          <p:nvSpPr>
            <p:cNvPr id="125" name="Oval 2"/>
            <p:cNvSpPr/>
            <p:nvPr/>
          </p:nvSpPr>
          <p:spPr>
            <a:xfrm>
              <a:off x="1143000" y="2209680"/>
              <a:ext cx="1600200" cy="838440"/>
            </a:xfrm>
            <a:prstGeom prst="ellipse">
              <a:avLst/>
            </a:prstGeom>
            <a:solidFill>
              <a:srgbClr val="cc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g.Civ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 flipV="1">
              <a:off x="1066320" y="1752480"/>
              <a:ext cx="3812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0"/>
            <p:cNvSpPr/>
            <p:nvPr/>
          </p:nvSpPr>
          <p:spPr>
            <a:xfrm flipV="1">
              <a:off x="2133720" y="1676160"/>
              <a:ext cx="3045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 flipH="1">
              <a:off x="1142640" y="2895480"/>
              <a:ext cx="2286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>
              <a:off x="2514600" y="2895480"/>
              <a:ext cx="4572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4"/>
            <p:cNvSpPr/>
            <p:nvPr/>
          </p:nvSpPr>
          <p:spPr>
            <a:xfrm>
              <a:off x="1752120" y="1295280"/>
              <a:ext cx="266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structuras y Constru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5"/>
            <p:cNvSpPr/>
            <p:nvPr/>
          </p:nvSpPr>
          <p:spPr>
            <a:xfrm>
              <a:off x="289440" y="1333440"/>
              <a:ext cx="114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idrául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6"/>
            <p:cNvSpPr/>
            <p:nvPr/>
          </p:nvSpPr>
          <p:spPr>
            <a:xfrm>
              <a:off x="594360" y="3543480"/>
              <a:ext cx="117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7"/>
            <p:cNvSpPr/>
            <p:nvPr/>
          </p:nvSpPr>
          <p:spPr>
            <a:xfrm>
              <a:off x="2362680" y="33526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otécn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51"/>
          <p:cNvGrpSpPr/>
          <p:nvPr/>
        </p:nvGrpSpPr>
        <p:grpSpPr>
          <a:xfrm>
            <a:off x="5410800" y="1219320"/>
            <a:ext cx="3002040" cy="2928600"/>
            <a:chOff x="5410800" y="1219320"/>
            <a:chExt cx="3002040" cy="2928600"/>
          </a:xfrm>
        </p:grpSpPr>
        <p:sp>
          <p:nvSpPr>
            <p:cNvPr id="135" name="Oval 3"/>
            <p:cNvSpPr/>
            <p:nvPr/>
          </p:nvSpPr>
          <p:spPr>
            <a:xfrm>
              <a:off x="6400800" y="2133720"/>
              <a:ext cx="1600200" cy="914400"/>
            </a:xfrm>
            <a:prstGeom prst="ellipse">
              <a:avLst/>
            </a:prstGeom>
            <a:solidFill>
              <a:srgbClr val="cc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g.Min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4"/>
            <p:cNvSpPr/>
            <p:nvPr/>
          </p:nvSpPr>
          <p:spPr>
            <a:xfrm flipV="1">
              <a:off x="7162920" y="16002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6"/>
            <p:cNvSpPr/>
            <p:nvPr/>
          </p:nvSpPr>
          <p:spPr>
            <a:xfrm flipH="1">
              <a:off x="6324120" y="2971800"/>
              <a:ext cx="3812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7467480" y="3048120"/>
              <a:ext cx="152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8"/>
            <p:cNvSpPr/>
            <p:nvPr/>
          </p:nvSpPr>
          <p:spPr>
            <a:xfrm>
              <a:off x="6553440" y="1219320"/>
              <a:ext cx="118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talurg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9"/>
            <p:cNvSpPr/>
            <p:nvPr/>
          </p:nvSpPr>
          <p:spPr>
            <a:xfrm>
              <a:off x="7087680" y="3505320"/>
              <a:ext cx="132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r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ine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0"/>
            <p:cNvSpPr/>
            <p:nvPr/>
          </p:nvSpPr>
          <p:spPr>
            <a:xfrm>
              <a:off x="5410800" y="3352680"/>
              <a:ext cx="116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otec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in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50"/>
          <p:cNvSpPr/>
          <p:nvPr/>
        </p:nvSpPr>
        <p:spPr>
          <a:xfrm>
            <a:off x="2209680" y="3200400"/>
            <a:ext cx="4572000" cy="1295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3597120" y="4724280"/>
            <a:ext cx="1905120" cy="990720"/>
          </a:xfrm>
          <a:prstGeom prst="ellipse">
            <a:avLst/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>
            <a:off x="5502240" y="52578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 flipV="1">
            <a:off x="4511520" y="4343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H="1">
            <a:off x="313992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"/>
          <p:cNvSpPr/>
          <p:nvPr/>
        </p:nvSpPr>
        <p:spPr>
          <a:xfrm flipH="1">
            <a:off x="3597120" y="563868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3"/>
          <p:cNvSpPr/>
          <p:nvPr/>
        </p:nvSpPr>
        <p:spPr>
          <a:xfrm>
            <a:off x="5121360" y="5638680"/>
            <a:ext cx="5331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5714280" y="579132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ería y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886200" y="609588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leont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3"/>
          <p:cNvSpPr/>
          <p:nvPr/>
        </p:nvSpPr>
        <p:spPr>
          <a:xfrm>
            <a:off x="2412000" y="57531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4"/>
          <p:cNvSpPr/>
          <p:nvPr/>
        </p:nvSpPr>
        <p:spPr>
          <a:xfrm>
            <a:off x="1600560" y="4915080"/>
            <a:ext cx="15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bienta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droge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5"/>
          <p:cNvSpPr/>
          <p:nvPr/>
        </p:nvSpPr>
        <p:spPr>
          <a:xfrm>
            <a:off x="3979800" y="39625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lic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2"/>
          <p:cNvSpPr/>
          <p:nvPr/>
        </p:nvSpPr>
        <p:spPr>
          <a:xfrm>
            <a:off x="4572000" y="571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3"/>
          <p:cNvSpPr/>
          <p:nvPr/>
        </p:nvSpPr>
        <p:spPr>
          <a:xfrm>
            <a:off x="6246360" y="510552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uctural y Tectó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actores diferenciad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cala geológica v/s escala ingenie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empo geológico v/s antróp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nguaje geológico v/s ingenie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EOLOGIA APL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"/>
          <p:cNvSpPr/>
          <p:nvPr/>
        </p:nvSpPr>
        <p:spPr>
          <a:xfrm flipH="1">
            <a:off x="2050560" y="2421000"/>
            <a:ext cx="1513080" cy="13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5003640" y="2421000"/>
            <a:ext cx="1513080" cy="13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84360" y="4149720"/>
            <a:ext cx="3456000" cy="1440000"/>
          </a:xfrm>
          <a:prstGeom prst="rect">
            <a:avLst/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ras de ingenier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dificación, obras hidráulic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rítimas, mineras, centr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idroeléctrica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716360" y="4149720"/>
            <a:ext cx="3600720" cy="1440000"/>
          </a:xfrm>
          <a:prstGeom prst="rect">
            <a:avLst/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4788000" y="4149720"/>
            <a:ext cx="3600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vención, mitigación 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riesgos geológicos y de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actos ambientales de ob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úblicas, actividades industria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neras o urb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6516720" y="558972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5439240" y="611352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ología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4140360" y="4941720"/>
            <a:ext cx="57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53352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finir si es un sitio adecuado, cuáles son las características de los materiales, su distribución espacial, si se pueden modificar, ventajas y desventajas del terr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g. Civi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El geólogo debe asegurar que los factores geológicos que afectan la ubicación, diseño, construcción, operación y mantención de obras civiles son reconocidos y previstos adecua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g. Min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En la industria minera el geólogo geotécnico debe asegurar que el diseño y extracción sea económica y seg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0033"/>
                </a:solidFill>
                <a:latin typeface="Times New Roman"/>
              </a:rPr>
              <a:t>Tareas principales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Campo Ocupacional y Responsabilidad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xcavaciones subterráneas y Tún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zado de túneles. Estabilidad de las paredes y techo (fortificaciones), controlar el agua y sugerir métodos de exca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mportamiento de los materiales debe asegurar la evolución del proyecto según lo esperado-seguro y económico: proyectos livianos, proyectos pesados (casas, edificios pequeñ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Img09-tunnelshape"/>
          <p:cNvPicPr/>
          <p:nvPr/>
        </p:nvPicPr>
        <p:blipFill>
          <a:blip r:embed="rId1"/>
          <a:stretch/>
        </p:blipFill>
        <p:spPr>
          <a:xfrm>
            <a:off x="5076720" y="4556160"/>
            <a:ext cx="345780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bras de Corte y Rell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ablecer la pendiente de un camino o trazado lineal. Identificar los materiales a lo largo del trazado. Utilización y abandono de la obra. Estabilidad de taludes en el largo plazo,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u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egurar que el medio soporte estructuras, sin asentamientos excesiv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IMG15"/>
          <p:cNvPicPr/>
          <p:nvPr/>
        </p:nvPicPr>
        <p:blipFill>
          <a:blip r:embed="rId1"/>
          <a:stretch/>
        </p:blipFill>
        <p:spPr>
          <a:xfrm>
            <a:off x="826920" y="4076640"/>
            <a:ext cx="3810240" cy="25369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ección de la ubicación y tipo de muro, estabilidad de laderas, filtraciones, material de presa, estribos, obras anex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teriales de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úsqueda y evaluación del material, transpor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IMG02"/>
          <p:cNvPicPr/>
          <p:nvPr/>
        </p:nvPicPr>
        <p:blipFill>
          <a:blip r:embed="rId1"/>
          <a:stretch/>
        </p:blipFill>
        <p:spPr>
          <a:xfrm>
            <a:off x="4716360" y="1700280"/>
            <a:ext cx="4114800" cy="27385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lanificación Urbana y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ciente importancia del estudio de peligros geológicos en el diseño urbano, desastres, inundaciones, terremoto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geohazitem_102"/>
          <p:cNvPicPr/>
          <p:nvPr/>
        </p:nvPicPr>
        <p:blipFill>
          <a:blip r:embed="rId1"/>
          <a:stretch/>
        </p:blipFill>
        <p:spPr>
          <a:xfrm>
            <a:off x="5105520" y="1700280"/>
            <a:ext cx="3152520" cy="39243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0033"/>
                </a:solidFill>
                <a:latin typeface="Times New Roman"/>
              </a:rPr>
              <a:t>Condiciones geológicas-geotécnicas generales para emplazamiento favorable de obras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sencia de procesos geológicos activos que representen riesgos a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decuada capacidad portante del terreno para cimentación de estruc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ficiente resistencia de los materiales para mantener estabilidad en excav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ponibilidad de materiales para construcción de obras de ti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cilidad de extracción de materiales para exca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macenaje de agua o residuos sólidos o líqu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Modelos ing geologica"/>
          <p:cNvPicPr/>
          <p:nvPr/>
        </p:nvPicPr>
        <p:blipFill>
          <a:blip r:embed="rId1"/>
          <a:stretch/>
        </p:blipFill>
        <p:spPr>
          <a:xfrm>
            <a:off x="0" y="0"/>
            <a:ext cx="9144000" cy="6791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356400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1116000" y="907920"/>
            <a:ext cx="2490840" cy="2764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vestigación de la Ge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5861160" y="907920"/>
            <a:ext cx="2728800" cy="3682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racterización de Materia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2983320" y="4076640"/>
            <a:ext cx="2059560" cy="3070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spuesta del ter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Contenidos del Curs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36840" y="1628640"/>
            <a:ext cx="331452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cánica de Rocas (aprox. 3 sema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cánica de Suelos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stigación de Sitio (0.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ilidad de Laderas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plicaciones a Obras Civiles: represas, túneles, fundaciones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roducción a peligros geológicos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otecnia Minera (0,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bor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IMG01"/>
          <p:cNvPicPr/>
          <p:nvPr/>
        </p:nvPicPr>
        <p:blipFill>
          <a:blip r:embed="rId1"/>
          <a:stretch/>
        </p:blipFill>
        <p:spPr>
          <a:xfrm>
            <a:off x="457200" y="2286000"/>
            <a:ext cx="42670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0033"/>
                </a:solidFill>
                <a:latin typeface="Times New Roman"/>
              </a:rPr>
              <a:t>Investigación Preliminar o de Diagnóstico (factibilidad o viabilidad)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23270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valuar el lugar con respecto a las condiciones geológicas adversas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obvi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(de alta probabilidad) declaradas (observables) o potenciales.   Frecuentemente desarrollada como parte de la selección inicial de un lugar específico (estudios de factibilidad y/o prefactibilida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Investigación de Siti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udio geológico que proporciona una descripción de las características físicas  del lugar de la manera más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establecer solamente las condiciones esperadas basado en los datos dispon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scanline2"/>
          <p:cNvPicPr/>
          <p:nvPr/>
        </p:nvPicPr>
        <p:blipFill>
          <a:blip r:embed="rId1"/>
          <a:stretch/>
        </p:blipFill>
        <p:spPr>
          <a:xfrm>
            <a:off x="4724280" y="2819520"/>
            <a:ext cx="41911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Investigación de Siti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37976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rofundidad de la investigación depende de las necesidades del proyecto (sondajes, ensayes, geofís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luye los estudios iniciales (revisión bibliográfica, logística, planificación fases siguientes), investigación de terreno, ensayes de terreno o laboratorio y elaboración de infor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Taber SPT"/>
          <p:cNvPicPr/>
          <p:nvPr/>
        </p:nvPicPr>
        <p:blipFill>
          <a:blip r:embed="rId1"/>
          <a:stretch/>
        </p:blipFill>
        <p:spPr>
          <a:xfrm>
            <a:off x="5562720" y="2438280"/>
            <a:ext cx="2585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Investigación de Diseñ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estigación de mayor profundidad, acompañada usualmente de prospecciones y ensayos geotécnicos, desarrollada en el lugar seleccionado para obtener datos geológicos y geotécnicos de detalle, los cuales son incluidos en la ingeniería de diseño (ingeniería básica, ingeniería de detal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Examen Geológico de un Luga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Ro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ip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piedades físic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(densidad, resistencia,    porosidad, solubilidad, permeabilidad, alteración/meteoriz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uctur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estratificación,fallas, pliegues, discontinuidades, contactos y alteración por rocas ígn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8278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lasific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piedades físicas (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s o no cohesivo, compresibilidad, ángulo de fricción interna, permeabilid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Índice de plasticid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sistencia al cizall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 u="sng">
                <a:solidFill>
                  <a:srgbClr val="000000"/>
                </a:solidFill>
                <a:uFillTx/>
                <a:latin typeface="Times New Roman"/>
              </a:rPr>
              <a:t>Suel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Laborator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cripción y caracterización geotécnica de suelos y rocas (Lab. Mecesup Sól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sayos Geotécnicos en Laboratorio (Lab. Mecesup Sól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ma de datos en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con software (Lab. Geoinformática o Ing. Civi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Evaluacion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ta Cátedra (60%): 2 controles + ex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l 1: 6 dicie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l 2: 10 enero (por confirm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ta Laboratorio (40%): tareas e infor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Terren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peo de Macizos rocosos  (lunes 7 noviembre, 13:00 hrs.). Santiago (lugar por defin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Bibliografí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onzález de Vallejo, 2002. Ingeniería Geológ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ek, 2000. Practical Rock Engineering (PDF, </a:t>
            </a:r>
            <a:r>
              <a:rPr b="0" lang="es-E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rocscience.com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Hoek´s corner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mbe &amp; Whitman, 1972. Mecánica de Sue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ek y Bray, 1981. Rock Slope Enginee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Geología Aplicada a la Ingenierí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Geología Aplicada a la Ingenierí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la ciencia dedicada a la investigación, estudio y solución de problemas de la ingeniería y ambientales que surgen como resultado de la interacción entre la geología y las obras y actividades del hombre, así como la predicción y desarrollo de medidas para la prevención o remediación de peligros geológicos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Estatutos de la International Association of Engineering Geology and the Environment, 1992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Geología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Aplicada a la </a:t>
            </a: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Ingenierí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4760" y="2134800"/>
            <a:ext cx="368136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ónim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eniería Geológ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logía Geotécn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logía Ingenieri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gineering Ge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olog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952880" y="2205000"/>
            <a:ext cx="34290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rminos Relacionado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tec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cá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eniería Geo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fía Rebolledo</dc:creator>
  <dc:description/>
  <dc:language>en-US</dc:language>
  <cp:lastModifiedBy>Sergio</cp:lastModifiedBy>
  <cp:lastPrinted>1997-09-10T15:14:28Z</cp:lastPrinted>
  <dcterms:modified xsi:type="dcterms:W3CDTF">2011-10-07T14:19:23Z</dcterms:modified>
  <cp:revision>69</cp:revision>
  <dc:subject/>
  <dc:title>Geología Aplicada a la Ingeniería GL-55B</dc:title>
</cp:coreProperties>
</file>