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92EF-EFDB-43A6-B1AE-470F5FDA56C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416D-C16E-44D8-A8BC-7BA7E029860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17B7-0AF0-4197-A833-F3085E8A0B9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DBAC-316D-437C-AF54-6029D0A59A0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62B8-723B-402C-8F3A-27C6EFC5693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01A5-5D38-4C6A-8A65-628CE7AA9B6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DA5E-36EF-4B90-8787-A7246624648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51FB-3EF6-4F69-82C2-FD40D44856E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3C51-54F9-4823-A1B4-5E0EF874A20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DFCE-2765-49B4-B7B4-EAD70EB92F4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7DE0-FD93-4284-8DA8-6EAC2BC7C7A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A741-E97C-4A7A-BBC5-57E69C2ABC0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3735-B27F-40B8-A3E4-E8E3AABF2E2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125A-68D3-4CF6-9625-A5EDC18D97A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D10C-6911-456A-AD10-3F824DE460E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01EE-FA01-4BE4-9B15-2AE298ECD027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54C6-CFC8-4CED-9C54-78B8CB01BDB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8108-AC02-46A0-95EF-F4B748C473F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90D9-C3F1-4B80-8884-5F01C7862F6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A64C-C959-4083-ABB5-D23DBB49241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755D-C1FF-44BD-A536-E159065CE8B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0075-DD7E-4579-B695-485E79A68CA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3806-9D97-44EF-B2B6-84B62617D72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3B16-DC8A-4215-AE8C-9634820C1C1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7A34-ECC4-4356-B682-B94807C0646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A71-7603-48DC-94AB-EDC638E8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113-9EE0-4428-A54E-8D81DCF7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9E1-F156-48E6-BA32-93FEA2C8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F79-FB07-4A46-BBC4-EF6B3C47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4470-BE63-4869-A307-5F729308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A619-B725-4D2B-BB3A-4A1D0A8F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9AB4-9767-4C80-9D8E-42FD6858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06C8-E092-4BDE-9D2A-25A88DE6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2926-F0C7-4E87-946A-F6CCEEB9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8C24-1441-4314-BA7E-087156E0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583E-FE13-4DBD-84B9-80EEDFF7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6E2-B787-4AFE-A6B8-2E3CBF53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92F9-2389-44F7-AD59-D4B8388D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2165-A083-44B0-A517-09D420A3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730B-8C8E-4D82-9AC0-3621CCE4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E523-D66E-455E-9B2F-07D2D112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6533-A89D-4D9F-AFE1-CA9F4F65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E26-4E81-45F0-8BCB-89A51C41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FDF-ED18-47FD-9093-1563C888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D2A-0561-48E8-B753-25533C34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E5D-270E-4AD1-8180-55B13BBD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909-813B-44F7-A17C-647599C7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F89-56CD-42A8-AEFC-F3AFC11F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D1B-C5AC-4889-B765-7CA641A9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C264-C7E1-457F-9D7F-04709C87740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F471-DB1A-4363-A6AE-E7A6B326A5E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ocscience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br>
              <a:rPr sz="4800"/>
            </a:b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GL-5201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858000" cy="24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mestre Primaver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: Sergio Sepúlve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yudantes: por defin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7"/>
          <p:cNvGrpSpPr/>
          <p:nvPr/>
        </p:nvGrpSpPr>
        <p:grpSpPr>
          <a:xfrm>
            <a:off x="289440" y="1295280"/>
            <a:ext cx="4124520" cy="2616480"/>
            <a:chOff x="289440" y="1295280"/>
            <a:chExt cx="4124520" cy="2616480"/>
          </a:xfrm>
        </p:grpSpPr>
        <p:sp>
          <p:nvSpPr>
            <p:cNvPr id="125" name="Oval 2"/>
            <p:cNvSpPr/>
            <p:nvPr/>
          </p:nvSpPr>
          <p:spPr>
            <a:xfrm>
              <a:off x="1143000" y="2209680"/>
              <a:ext cx="1600200" cy="838440"/>
            </a:xfrm>
            <a:prstGeom prst="ellipse">
              <a:avLst/>
            </a:prstGeom>
            <a:solidFill>
              <a:srgbClr val="cc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g.Civ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 flipV="1">
              <a:off x="1066320" y="17524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V="1">
              <a:off x="2133720" y="167616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 flipH="1">
              <a:off x="1142640" y="2895480"/>
              <a:ext cx="228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2514600" y="289548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>
              <a:off x="1752120" y="1295280"/>
              <a:ext cx="26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ructuras y Constr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5"/>
            <p:cNvSpPr/>
            <p:nvPr/>
          </p:nvSpPr>
          <p:spPr>
            <a:xfrm>
              <a:off x="289440" y="133344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idrául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6"/>
            <p:cNvSpPr/>
            <p:nvPr/>
          </p:nvSpPr>
          <p:spPr>
            <a:xfrm>
              <a:off x="594360" y="354348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7"/>
            <p:cNvSpPr/>
            <p:nvPr/>
          </p:nvSpPr>
          <p:spPr>
            <a:xfrm>
              <a:off x="2362680" y="33526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otéc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51"/>
          <p:cNvGrpSpPr/>
          <p:nvPr/>
        </p:nvGrpSpPr>
        <p:grpSpPr>
          <a:xfrm>
            <a:off x="5410800" y="1219320"/>
            <a:ext cx="3002040" cy="2928600"/>
            <a:chOff x="5410800" y="1219320"/>
            <a:chExt cx="3002040" cy="2928600"/>
          </a:xfrm>
        </p:grpSpPr>
        <p:sp>
          <p:nvSpPr>
            <p:cNvPr id="135" name="Oval 3"/>
            <p:cNvSpPr/>
            <p:nvPr/>
          </p:nvSpPr>
          <p:spPr>
            <a:xfrm>
              <a:off x="6400800" y="2133720"/>
              <a:ext cx="1600200" cy="914400"/>
            </a:xfrm>
            <a:prstGeom prst="ellipse">
              <a:avLst/>
            </a:prstGeom>
            <a:solidFill>
              <a:srgbClr val="cc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g.Min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 flipV="1">
              <a:off x="7162920" y="16002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6"/>
            <p:cNvSpPr/>
            <p:nvPr/>
          </p:nvSpPr>
          <p:spPr>
            <a:xfrm flipH="1">
              <a:off x="6324120" y="2971800"/>
              <a:ext cx="381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7467480" y="3048120"/>
              <a:ext cx="152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6553440" y="1219320"/>
              <a:ext cx="118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alur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7087680" y="3505320"/>
              <a:ext cx="132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ne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0"/>
            <p:cNvSpPr/>
            <p:nvPr/>
          </p:nvSpPr>
          <p:spPr>
            <a:xfrm>
              <a:off x="5410800" y="3352680"/>
              <a:ext cx="11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otec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in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50"/>
          <p:cNvSpPr/>
          <p:nvPr/>
        </p:nvSpPr>
        <p:spPr>
          <a:xfrm>
            <a:off x="2209680" y="3200400"/>
            <a:ext cx="4572000" cy="1295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3597120" y="4724280"/>
            <a:ext cx="1905120" cy="99072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5502240" y="5257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451152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313992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H="1">
            <a:off x="3597120" y="56386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5121360" y="5638680"/>
            <a:ext cx="5331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5714280" y="579132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ería y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886200" y="60958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leont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2412000" y="5753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600560" y="491508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bienta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droge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3979800" y="3962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li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457200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6246360" y="510552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uctural y Tect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ores diferenciad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ala geológica v/s escala ingenie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geológico v/s antróp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nguaje geológico v/s ingenie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EOLOGIA APL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2050560" y="2421000"/>
            <a:ext cx="151308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003640" y="2421000"/>
            <a:ext cx="151308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84360" y="4149720"/>
            <a:ext cx="3456000" cy="1440000"/>
          </a:xfrm>
          <a:prstGeom prst="rect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ras de ingenier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dificación, obras hidráulic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rítimas, mineras, cent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idroeléctric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716360" y="4149720"/>
            <a:ext cx="3600720" cy="1440000"/>
          </a:xfrm>
          <a:prstGeom prst="rect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788000" y="4149720"/>
            <a:ext cx="3600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vención, mitigación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iesgos geológicos y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actos ambientales de o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úblicas, actividades industri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eras o urb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6516720" y="5589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5439240" y="611352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ología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4140360" y="4941720"/>
            <a:ext cx="57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53352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r si es un sitio adecuado, cuáles son las características de los materiales, su distribución espacial, si se pueden modificar, ventajas y desventajas del terr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g. Civi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l geólogo debe asegurar que los factores geológicos que afectan la ubicación, diseño, construcción, operación y mantención de obras civiles son reconocidos y previstos adecu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g. Mi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n la industria minera el geólogo geotécnico debe asegurar que el diseño y extracción sea económica y se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Tareas principales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ampo Ocupacional y Responsabil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xcavaciones subterráneas y Tún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zado de túneles. Estabilidad de las paredes y techo (fortificaciones), controlar el agua y sugerir métodos de exca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portamiento de los materiales debe asegurar la evolución del proyecto según lo esperado-seguro y económico: proyectos livianos, proyectos pesados (casas, edificios peque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mg09-tunnelshape"/>
          <p:cNvPicPr/>
          <p:nvPr/>
        </p:nvPicPr>
        <p:blipFill>
          <a:blip r:embed="rId1"/>
          <a:stretch/>
        </p:blipFill>
        <p:spPr>
          <a:xfrm>
            <a:off x="5076720" y="4556160"/>
            <a:ext cx="34578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ras de Corte y Rell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ecer la pendiente de un camino o trazado lineal. Identificar los materiales a lo largo del trazado. Utilización y abandono de la obra. Estabilidad de taludes en el largo plazo,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egurar que el medio soporte estructuras, sin asentamientos excesiv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IMG15"/>
          <p:cNvPicPr/>
          <p:nvPr/>
        </p:nvPicPr>
        <p:blipFill>
          <a:blip r:embed="rId1"/>
          <a:stretch/>
        </p:blipFill>
        <p:spPr>
          <a:xfrm>
            <a:off x="826920" y="4076640"/>
            <a:ext cx="3810240" cy="2536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cción de la ubicación y tipo de muro, estabilidad de laderas, filtraciones, material de presa, estribos, obras anex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teriales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úsqueda y evaluación del material,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IMG02"/>
          <p:cNvPicPr/>
          <p:nvPr/>
        </p:nvPicPr>
        <p:blipFill>
          <a:blip r:embed="rId1"/>
          <a:stretch/>
        </p:blipFill>
        <p:spPr>
          <a:xfrm>
            <a:off x="4716360" y="1700280"/>
            <a:ext cx="4114800" cy="273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ificación Urbana y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ciente importancia del estudio de peligros geológicos en el diseño urbano, desastres, inundaciones, terremoto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geohazitem_102"/>
          <p:cNvPicPr/>
          <p:nvPr/>
        </p:nvPicPr>
        <p:blipFill>
          <a:blip r:embed="rId1"/>
          <a:stretch/>
        </p:blipFill>
        <p:spPr>
          <a:xfrm>
            <a:off x="5105520" y="1700280"/>
            <a:ext cx="3152520" cy="3924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0033"/>
                </a:solidFill>
                <a:latin typeface="Times New Roman"/>
              </a:rPr>
              <a:t>Condiciones geológicas-geotécnicas generales para emplazamiento favorable de obras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sencia de procesos geológicos activos que representen riesgos a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ecuada capacidad portante del terreno para cimentación de estru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ficiente resistencia de los materiales para mantener estabilidad en excav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materiales para construcción de obras de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cilidad de extracción de materiales para exca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macenaje de agua o residuos sólidos o 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Modelos ing geologica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56400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116000" y="907920"/>
            <a:ext cx="2490840" cy="2764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vestigación de la Ge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861160" y="907920"/>
            <a:ext cx="2728800" cy="36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acterización de Materi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983320" y="4076640"/>
            <a:ext cx="2059560" cy="3070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uesta del 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tenidos del Cur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36840" y="1628640"/>
            <a:ext cx="331452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ánica de Rocas (aprox. 3 sema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ánica de Suelo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stigación de Sitio (0.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ilidad de Laderas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licaciones a Obras Civiles: represas, túneles, fundaciones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ción a peligros geológicos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otecnia Minera (0,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MG01"/>
          <p:cNvPicPr/>
          <p:nvPr/>
        </p:nvPicPr>
        <p:blipFill>
          <a:blip r:embed="rId1"/>
          <a:stretch/>
        </p:blipFill>
        <p:spPr>
          <a:xfrm>
            <a:off x="457200" y="2286000"/>
            <a:ext cx="42670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0033"/>
                </a:solidFill>
                <a:latin typeface="Times New Roman"/>
              </a:rPr>
              <a:t>Investigación Preliminar o de Diagnóstico (factibilidad o viabilidad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r el lugar con respecto a las condiciones geológicas adversas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obvi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de alta probabilidad) declaradas (observables) o potenciales.   Frecuentemente desarrollada como parte de la selección inicial de un lugar específico (estudios de factibilidad y/o prefactibilid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Sit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 geológico que proporciona una descripción de las características físicas  del lugar de la manera más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establecer solamente las condiciones esperadas basado en los datos dispon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scanline2"/>
          <p:cNvPicPr/>
          <p:nvPr/>
        </p:nvPicPr>
        <p:blipFill>
          <a:blip r:embed="rId1"/>
          <a:stretch/>
        </p:blipFill>
        <p:spPr>
          <a:xfrm>
            <a:off x="4724280" y="2819520"/>
            <a:ext cx="41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Sit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3797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rofundidad de la investigación depende de las necesidades del proyecto (sondajes, ensayes, geofís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luye los estudios iniciales (revisión bibliográfica, logística, planificación fases siguientes), investigación de terreno, ensayes de terreno o laboratorio y elaboración de infor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Taber SPT"/>
          <p:cNvPicPr/>
          <p:nvPr/>
        </p:nvPicPr>
        <p:blipFill>
          <a:blip r:embed="rId1"/>
          <a:stretch/>
        </p:blipFill>
        <p:spPr>
          <a:xfrm>
            <a:off x="5562720" y="2438280"/>
            <a:ext cx="258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Diseñ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stigación de mayor profundidad, acompañada usualmente de prospecciones y ensayos geotécnicos, desarrollada en el lugar seleccionado para obtener datos geológicos y geotécnicos de detalle, los cuales son incluidos en la ingeniería de diseño (ingeniería básica, ingeniería de detal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Examen Geológico de un Lug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densidad, resistencia,    porosidad, solubilidad, permeabilidad, alteración/meteor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estratificación,fallas, pliegues, discontinuidades, contactos y alteración por rocas ígn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278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lasific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iedades física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s o no cohesivo, compresibilidad, ángulo de fricción interna, permeabili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Índice de plasticid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istencia al cizall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 u="sng">
                <a:solidFill>
                  <a:srgbClr val="000000"/>
                </a:solidFill>
                <a:uFillTx/>
                <a:latin typeface="Times New Roman"/>
              </a:rPr>
              <a:t>Suel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Laborato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ripción y caracterización geotécnica de suelos y rocas (Lab. Mecesup Sól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sayos Geotécnicos en Laboratorio (Lab. Mecesup Sól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 datos en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con software (Lab. Geoinformática o Ing. Civi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Evaluacion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ta Cátedra (60%): 2 controles +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1: 6 dic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2: 10 enero (por confir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ta Laboratorio (40%): tareas e infor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Terren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peo de Macizos rocosos  (lunes 7 noviembre, 13:00 hrs.). Santiago (lugar por defin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Bibliograf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onzález de Vallejo, 2002. Ingeniería Geo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ek, 2000. Practical Rock Engineering (PDF, </a:t>
            </a:r>
            <a:r>
              <a:rPr b="0" lang="es-E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rocscience.co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Hoek´s corn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mbe &amp; Whitman, 1972. Mecánica de Sue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ek y Bray, 1981. Rock Slope Engine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ciencia dedicada a la investigación, estudio y solución de problemas de la ingeniería y ambientales que surgen como resultado de la interacción entre la geología y las obras y actividades del hombre, así como la predicción y desarrollo de medidas para la prevención o remediación de peligros geológicos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Estatutos de la International Association of Engineering Geology and the Environment, 199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Geologí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Aplicada a la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4760" y="2134800"/>
            <a:ext cx="368136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óni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eniería Geológ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ía Geotécn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ía Ingenieri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gineering G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olog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52880" y="2205000"/>
            <a:ext cx="3429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rminos Relacionado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tec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cá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niería Geo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fía Rebolledo</dc:creator>
  <dc:description/>
  <dc:language>en-US</dc:language>
  <cp:lastModifiedBy>Sergio</cp:lastModifiedBy>
  <cp:lastPrinted>1997-09-10T15:14:28Z</cp:lastPrinted>
  <dcterms:modified xsi:type="dcterms:W3CDTF">2011-10-07T14:19:23Z</dcterms:modified>
  <cp:revision>69</cp:revision>
  <dc:subject/>
  <dc:title>Geología Aplicada a la Ingeniería GL-55B</dc:title>
</cp:coreProperties>
</file>