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889-7F65-4D48-AD28-94272A0DE41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F3CD-AA7F-4C27-A807-AB8F618D13D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35C-A7B5-42B2-8DA8-19D3FD63153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434A-450D-4719-A7CA-FD47992C24A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64F-D31E-4A05-9EA7-187A5E49448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9E9-107B-4A4E-9634-EAE393E1DEF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D57-04C6-4FFE-90C0-DC59B100E8E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D1C-F132-4C3A-AEED-2DC8F66D928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829-BCD1-4D53-AD4A-52BA0665346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0E6C-2DB0-4893-B583-ED33E2563B6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899A-58BA-4F8B-BCA6-858FB0DB473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E71-FCA9-4F64-9850-C5DF00F22EA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6E2-7214-4BFC-971B-5E7FD58A55B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652-E59F-48B0-92AA-43468D31EEE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621-F977-4E1C-A2D7-BA35F53A83C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825F-A378-4199-AAA7-16DC81254B0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AE4-70BF-45AE-AA07-A0BB754DEB9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326-5E1E-441F-BE05-441FF57D7F3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83D-EA4E-4EC1-87FE-4A5D2195110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083-6011-4DE1-A0F0-83234C11CDE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6C7-D92D-49CC-A654-26FEC12CCEE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1AF-357E-4C78-AA73-C893BC0547E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602C-C5DD-4116-91CF-B51C68ADC51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48D1-6E48-40B8-9060-CA56C826FFB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9E8F-5DB2-4E4D-9EEC-79275D8FE2D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709-9118-48DF-A4ED-F9CB41BD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137-3F2A-4558-91BB-F6B48AD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1EC-097D-4A3D-BF72-B2A9B364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335-B57A-48E8-ABEA-95A567A6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BB21-F3AA-470C-9B40-CADBA18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80AB-7798-4920-AE43-E03450BB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1BA3-D291-40FB-80F9-96F2926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267-495E-4DE8-9A2A-75EF1DD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C9DE-7CCA-467D-98F2-81337285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062C-2B2C-43EC-AF1F-5DB75DAF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C511-6F13-4C16-8941-EA7617E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9B5-591D-4917-AC3F-AE13459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A37-9AF6-41D0-829B-97474E1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FFA-45AE-44ED-900E-B3DADA3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65C-49EC-4280-80C5-4396F6C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393-545D-41B2-BBBB-FD9B94FD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0ABD-9EBD-448C-96D8-CD11A960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072-2CB6-4196-BF5E-8CFE1CA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D83-F7D0-42AA-87C1-4867EED8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743-BD34-4735-A3B8-3ECC804A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8CF-2AA2-4752-8AF5-D4B7301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00A-BBB0-480D-87AD-316A71D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F90-00F0-417C-B256-9726787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778-BA7D-4A26-B8A7-4614065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C46-5BDD-4548-B035-0B3DD250837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7A0B-373D-44B7-A2D1-500B2714EC2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cscienc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br>
              <a:rPr sz="4800"/>
            </a:b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L-520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58000" cy="24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mestre Primaver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: Sergio Sepúlve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ntes: por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7"/>
          <p:cNvGrpSpPr/>
          <p:nvPr/>
        </p:nvGrpSpPr>
        <p:grpSpPr>
          <a:xfrm>
            <a:off x="289440" y="1295280"/>
            <a:ext cx="4124520" cy="2616480"/>
            <a:chOff x="289440" y="1295280"/>
            <a:chExt cx="4124520" cy="2616480"/>
          </a:xfrm>
        </p:grpSpPr>
        <p:sp>
          <p:nvSpPr>
            <p:cNvPr id="125" name="Oval 2"/>
            <p:cNvSpPr/>
            <p:nvPr/>
          </p:nvSpPr>
          <p:spPr>
            <a:xfrm>
              <a:off x="1143000" y="2209680"/>
              <a:ext cx="1600200" cy="83844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Ci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 flipV="1">
              <a:off x="1066320" y="17524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V="1">
              <a:off x="2133720" y="167616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142640" y="2895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514600" y="28954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1752120" y="1295280"/>
              <a:ext cx="26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ucturas y 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5"/>
            <p:cNvSpPr/>
            <p:nvPr/>
          </p:nvSpPr>
          <p:spPr>
            <a:xfrm>
              <a:off x="289440" y="133344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dráu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594360" y="354348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2362680" y="33526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5410800" y="1219320"/>
            <a:ext cx="3002040" cy="2928600"/>
            <a:chOff x="5410800" y="1219320"/>
            <a:chExt cx="3002040" cy="2928600"/>
          </a:xfrm>
        </p:grpSpPr>
        <p:sp>
          <p:nvSpPr>
            <p:cNvPr id="135" name="Oval 3"/>
            <p:cNvSpPr/>
            <p:nvPr/>
          </p:nvSpPr>
          <p:spPr>
            <a:xfrm>
              <a:off x="6400800" y="2133720"/>
              <a:ext cx="1600200" cy="91440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Mi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V="1">
              <a:off x="7162920" y="16002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 flipH="1">
              <a:off x="6324120" y="297180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467480" y="304812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6553440" y="1219320"/>
              <a:ext cx="11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lu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7087680" y="35053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10800" y="335268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ec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n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50"/>
          <p:cNvSpPr/>
          <p:nvPr/>
        </p:nvSpPr>
        <p:spPr>
          <a:xfrm>
            <a:off x="2209680" y="3200400"/>
            <a:ext cx="45720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597120" y="4724280"/>
            <a:ext cx="1905120" cy="9907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550224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4511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13992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3597120" y="56386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21360" y="5638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14280" y="57913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ería y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886200" y="60958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eon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2412000" y="5753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00560" y="4915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oge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97980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46360" y="51055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ctural y Tect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iferenciad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 geológica v/s escala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geológico v/s antró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geológico v/s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IA 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05056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0364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84360" y="4149720"/>
            <a:ext cx="345600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ngeni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ificación, obras hidrául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ítimas, mineras, cent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droeléctric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149720"/>
            <a:ext cx="360072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88000" y="4149720"/>
            <a:ext cx="360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ención, mitig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iesgos geológicos y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actos ambientales de 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úblicas, actividades indust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eras o urb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516720" y="5589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439240" y="611352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logí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140360" y="494172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335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si es un sitio adecuado, cuáles son las características de los materiales, su distribución espacial, si se pueden modificar, ventajas y desventajas de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Civ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geólogo debe asegurar que los factores geológicos que afectan la ubicación, diseño, construcción, operación y mantención de obras civiles son reconocidos y previstos adec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la industria minera el geólogo geotécnico debe asegurar que el diseño y extracción sea económica y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Tareas principales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ampo Ocupacional y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cavaciones subterráneas y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zado de túneles. Estabilidad de las paredes y techo (fortificaciones), controlar el agua y sugerir métodos de exca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de los materiales debe asegurar la evolución del proyecto según lo esperado-seguro y económico: proyectos livianos, proyectos pesados (casas, edificio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mg09-tunnelshape"/>
          <p:cNvPicPr/>
          <p:nvPr/>
        </p:nvPicPr>
        <p:blipFill>
          <a:blip r:embed="rId1"/>
          <a:stretch/>
        </p:blipFill>
        <p:spPr>
          <a:xfrm>
            <a:off x="5076720" y="4556160"/>
            <a:ext cx="345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ras de Corte y Rel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er la pendiente de un camino o trazado lineal. Identificar los materiales a lo largo del trazado. Utilización y abandono de la obra. Estabilidad de taludes en el largo plazo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que el medio soporte estructuras, sin asentamientos excesiv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MG15"/>
          <p:cNvPicPr/>
          <p:nvPr/>
        </p:nvPicPr>
        <p:blipFill>
          <a:blip r:embed="rId1"/>
          <a:stretch/>
        </p:blipFill>
        <p:spPr>
          <a:xfrm>
            <a:off x="826920" y="4076640"/>
            <a:ext cx="3810240" cy="2536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ción de la ubicación y tipo de muro, estabilidad de laderas, filtraciones, material de presa, estribos, obras anex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l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y evaluación del material,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G02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ificación Urbana 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iente importancia del estudio de peligros geológicos en el diseño urbano, desastres, inundaciones, terremot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geohazitem_102"/>
          <p:cNvPicPr/>
          <p:nvPr/>
        </p:nvPicPr>
        <p:blipFill>
          <a:blip r:embed="rId1"/>
          <a:stretch/>
        </p:blipFill>
        <p:spPr>
          <a:xfrm>
            <a:off x="5105520" y="1700280"/>
            <a:ext cx="3152520" cy="3924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33"/>
                </a:solidFill>
                <a:latin typeface="Times New Roman"/>
              </a:rPr>
              <a:t>Condiciones geológicas-geotécnicas generales para emplazamiento favorable de obras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sencia de procesos geológicos activos que representen riesgos a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ecuada capacidad portante del terreno para cimentación de 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ficiente resistencia de los materiales para mantener estabilidad en exca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materiales para construcción de obras de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dad de extracción de materiales para exca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je de agua o residuos sólidos o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odelos ing geologica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564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907920"/>
            <a:ext cx="24908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stigación de la G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861160" y="907920"/>
            <a:ext cx="272880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acterización de Mater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83320" y="4076640"/>
            <a:ext cx="2059560" cy="3070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uesta del 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6840" y="1628640"/>
            <a:ext cx="331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Rocas (aprox. 3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Suelo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ón de Sitio (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 de Laderas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ciones a Obras Civiles: represas, túneles, fundacione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ción a peligros geológico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tecnia Minera (0,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G01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Investigación Preliminar o de Diagnóstico (factibilidad o viabilidad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el lugar con respecto a las condiciones geológicas advers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bv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 alta probabilidad) declaradas (observables) o potenciales.   Frecuentemente desarrollada como parte de la selección inicial de un lugar específico (estudios de factibilidad y/o prefact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 geológico que proporciona una descripción de las características físicas  del lugar de la manera más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blecer solamente las condiciones esperadas basado en los dat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scanline2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9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fundidad de la investigación depende de las necesidades del proyecto (sondajes, ensayes, geofí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los estudios iniciales (revisión bibliográfica, logística, planificación fases siguientes), investigación de terreno, ensayes de terreno o laboratorio y elaboración de info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Taber SPT"/>
          <p:cNvPicPr/>
          <p:nvPr/>
        </p:nvPicPr>
        <p:blipFill>
          <a:blip r:embed="rId1"/>
          <a:stretch/>
        </p:blipFill>
        <p:spPr>
          <a:xfrm>
            <a:off x="5562720" y="243828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stigación de mayor profundidad, acompañada usualmente de prospecciones y ensayos geotécnicos, desarrollada en el lugar seleccionado para obtener datos geológicos y geotécnicos de detalle, los cuales son incluidos en la ingeniería de diseño (ingeniería básica, ingeniería de detal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xamen Geológico de un Lug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nsidad, resistencia,    porosidad, solubilidad, permeabilidad, alteración/meteor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stratificación,fallas, pliegues, discontinuidades, contactos y alteración por rocas ígn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edades física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s o no cohesivo, compresibilidad, ángulo de fricción interna, perme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Índice de plastic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stencia al cizal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Laborato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y caracterización geotécnica de suelos y rocas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ayos Geotécnicos en Laboratorio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datos en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on software (Lab. Geoinformática o Ing. Civ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valuac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Cátedra (60%): 2 controles +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1: 6 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2: 10 enero (por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Laboratorio (40%): tareas e in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Terre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peo de Macizos rocosos  (lunes 7 noviembre, 13:00 hrs.). Santiago (lugar por defi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Bibliograf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nzález de Vallejo, 2002. Ingeniería Ge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, 2000. Practical Rock Engineering (PDF, </a:t>
            </a:r>
            <a:r>
              <a:rPr b="0" lang="es-E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rocscience.co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oek´s corn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mbe &amp; Whitman, 1972. Mecánica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 y Bray, 1981. Rock Slope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iencia dedicada a la investigación, estudio y solución de problemas de la ingeniería y ambientales que surgen como resultado de la interacción entre la geología y las obras y actividades del hombre, así como la predicción y desarrollo de medidas para la prevención o remediación de peligros geológico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tatutos de la International Association of Engineering Geology and the Environment, 199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Geologí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Aplicada a la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4760" y="2134800"/>
            <a:ext cx="36813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óni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niería Geoló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Geotécn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Ingenier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olog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52880" y="220500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rminos Relacionado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tec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iería Geo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ergio</cp:lastModifiedBy>
  <cp:lastPrinted>1997-09-10T15:14:28Z</cp:lastPrinted>
  <dcterms:modified xsi:type="dcterms:W3CDTF">2011-10-07T14:19:23Z</dcterms:modified>
  <cp:revision>69</cp:revision>
  <dc:subject/>
  <dc:title>Geología Aplicada a la Ingeniería GL-55B</dc:title>
</cp:coreProperties>
</file>