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8060-167C-4407-9199-FB19A404557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B373-1508-47B7-8086-B441E82998F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8BEE-27D7-4921-A59B-5BE47E52353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CF2-5BEC-4B82-8AE5-C8E2850F94D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239C-F8D0-47E1-BCF6-5D47E41BAA4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A580-8028-4BE8-A55E-674695B5DBB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17FD-E2A2-407F-85B9-D5FF8841DF8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D78D-FB3C-4B3C-B3E2-4AF3501C1B0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B4EA-E7CF-423F-9609-08ED0457770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615A-C277-4EE2-AB09-3D6C6775283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7A3C-18C1-4AC9-B3B0-4A473D10C33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291A-0AED-4077-8612-6747D5681A0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83F-5377-4DA6-AFFE-C34F43BAB8E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A885-53AC-46FA-935F-122ACE510BC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8B4D-D2F0-4E8F-B002-8246B8E08F2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6B7-7F74-407D-8312-36DD438B6BA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8A2C-0800-4667-964E-D9D7518A795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09D4-0E96-4B10-925C-7D0F1DA9322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7EA0-728C-407F-9892-155E6E80E01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6204-73FA-4EC7-9DED-7185CBF3A2A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A3F-6C51-417E-8F18-26658DC0D5E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D188-7032-4E05-A5EB-A92B4B6F4E1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C569-2F42-4514-AB57-0903AC7DB28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630-13EB-4BCD-A52A-D29B22ADD0F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EEA-ED1D-4FAC-834A-FB634853C65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79A-4220-4C91-B604-040590F4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6D0-FF7E-46A1-A42F-1ADE4512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102-ED5A-4356-B9E8-371692E4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B13-23A3-47B7-A75E-241BC7FE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231E-969F-43FD-97E9-E3E82645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ED4-F205-4703-B5CA-6AB1F667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07A3-0726-40D1-BD1A-612CC09E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4270-1B8F-4F6A-AF8B-96FD601D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DC8-6131-48AD-B277-49BD570B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8C7C-A86C-4195-AB99-5C33E85D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E76E-0D30-4B69-AA2E-345EF86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9F8-7D49-4B3B-B650-427DDC07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551-464F-4780-9001-01AC0FB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0129-6298-44CC-BD31-B3B6AE4D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1E1B-CF80-42BA-BD52-3CA17211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D1C5-0E8F-4CD6-A49A-9A7B2B25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AC40-F0A2-42F1-B7C4-D1242CFD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2FC-0D24-42EA-9E15-47A4910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706-B38C-41EC-A18C-D74B5998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B71-E3A1-4163-9B67-3325519D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C9C-A9C8-4166-B70F-B4C5C89E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862-E615-48AB-8FB8-42FD2C37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DB5-C86B-4F05-8B5A-F755130D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7E2-3CFC-4A2F-8DC6-3AC49D0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5250-0055-4A3E-BC90-199EF5AD6C8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02A9-6C83-43C5-AB07-AB759273E76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cscienc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br>
              <a:rPr sz="4800"/>
            </a:b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L-520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58000" cy="24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mestre Primaver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: Sergio Sepúlve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yudantes: por de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7"/>
          <p:cNvGrpSpPr/>
          <p:nvPr/>
        </p:nvGrpSpPr>
        <p:grpSpPr>
          <a:xfrm>
            <a:off x="289440" y="1295280"/>
            <a:ext cx="4124520" cy="2616480"/>
            <a:chOff x="289440" y="1295280"/>
            <a:chExt cx="4124520" cy="2616480"/>
          </a:xfrm>
        </p:grpSpPr>
        <p:sp>
          <p:nvSpPr>
            <p:cNvPr id="125" name="Oval 2"/>
            <p:cNvSpPr/>
            <p:nvPr/>
          </p:nvSpPr>
          <p:spPr>
            <a:xfrm>
              <a:off x="1143000" y="2209680"/>
              <a:ext cx="1600200" cy="83844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Civ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 flipV="1">
              <a:off x="1066320" y="17524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V="1">
              <a:off x="2133720" y="167616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1142640" y="28954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2514600" y="289548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1752120" y="1295280"/>
              <a:ext cx="26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ucturas y 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5"/>
            <p:cNvSpPr/>
            <p:nvPr/>
          </p:nvSpPr>
          <p:spPr>
            <a:xfrm>
              <a:off x="289440" y="133344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dráu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6"/>
            <p:cNvSpPr/>
            <p:nvPr/>
          </p:nvSpPr>
          <p:spPr>
            <a:xfrm>
              <a:off x="594360" y="354348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2362680" y="33526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"/>
          <p:cNvGrpSpPr/>
          <p:nvPr/>
        </p:nvGrpSpPr>
        <p:grpSpPr>
          <a:xfrm>
            <a:off x="5410800" y="1219320"/>
            <a:ext cx="3002040" cy="2928600"/>
            <a:chOff x="5410800" y="1219320"/>
            <a:chExt cx="3002040" cy="2928600"/>
          </a:xfrm>
        </p:grpSpPr>
        <p:sp>
          <p:nvSpPr>
            <p:cNvPr id="135" name="Oval 3"/>
            <p:cNvSpPr/>
            <p:nvPr/>
          </p:nvSpPr>
          <p:spPr>
            <a:xfrm>
              <a:off x="6400800" y="2133720"/>
              <a:ext cx="1600200" cy="91440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Mi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 flipV="1">
              <a:off x="7162920" y="16002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6"/>
            <p:cNvSpPr/>
            <p:nvPr/>
          </p:nvSpPr>
          <p:spPr>
            <a:xfrm flipH="1">
              <a:off x="6324120" y="2971800"/>
              <a:ext cx="381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7467480" y="304812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6553440" y="1219320"/>
              <a:ext cx="118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alu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7087680" y="35053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5410800" y="335268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ec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n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50"/>
          <p:cNvSpPr/>
          <p:nvPr/>
        </p:nvSpPr>
        <p:spPr>
          <a:xfrm>
            <a:off x="2209680" y="3200400"/>
            <a:ext cx="45720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3597120" y="4724280"/>
            <a:ext cx="1905120" cy="9907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550224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451152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13992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3597120" y="56386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121360" y="5638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5714280" y="579132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ería y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886200" y="60958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eon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2412000" y="5753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600560" y="49150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bient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droge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397980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45720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6246360" y="51055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uctural y Tect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iferenciad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ala geológica v/s escala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geológico v/s antróp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geológico v/s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OLOGIA AP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05056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0364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84360" y="4149720"/>
            <a:ext cx="345600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ngeni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ificación, obras hidrául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ítimas, mineras, cent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droeléctric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716360" y="4149720"/>
            <a:ext cx="360072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788000" y="4149720"/>
            <a:ext cx="360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ención, mitig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iesgos geológicos y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actos ambientales de 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úblicas, actividades indust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eras o urb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516720" y="5589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439240" y="611352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ologí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140360" y="494172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53352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si es un sitio adecuado, cuáles son las características de los materiales, su distribución espacial, si se pueden modificar, ventajas y desventajas de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Civi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geólogo debe asegurar que los factores geológicos que afectan la ubicación, diseño, construcción, operación y mantención de obras civiles son reconocidos y previstos adec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n la industria minera el geólogo geotécnico debe asegurar que el diseño y extracción sea económica y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Tareas principales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ampo Ocupacional y Responsabi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cavaciones subterráneas y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zado de túneles. Estabilidad de las paredes y techo (fortificaciones), controlar el agua y sugerir métodos de exca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de los materiales debe asegurar la evolución del proyecto según lo esperado-seguro y económico: proyectos livianos, proyectos pesados (casas, edificio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mg09-tunnelshape"/>
          <p:cNvPicPr/>
          <p:nvPr/>
        </p:nvPicPr>
        <p:blipFill>
          <a:blip r:embed="rId1"/>
          <a:stretch/>
        </p:blipFill>
        <p:spPr>
          <a:xfrm>
            <a:off x="5076720" y="4556160"/>
            <a:ext cx="345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ras de Corte y Rel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er la pendiente de un camino o trazado lineal. Identificar los materiales a lo largo del trazado. Utilización y abandono de la obra. Estabilidad de taludes en el largo plazo,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egurar que el medio soporte estructuras, sin asentamientos excesiv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MG15"/>
          <p:cNvPicPr/>
          <p:nvPr/>
        </p:nvPicPr>
        <p:blipFill>
          <a:blip r:embed="rId1"/>
          <a:stretch/>
        </p:blipFill>
        <p:spPr>
          <a:xfrm>
            <a:off x="826920" y="4076640"/>
            <a:ext cx="3810240" cy="2536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ción de la ubicación y tipo de muro, estabilidad de laderas, filtraciones, material de presa, estribos, obras anex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l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squeda y evaluación del material,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G02"/>
          <p:cNvPicPr/>
          <p:nvPr/>
        </p:nvPicPr>
        <p:blipFill>
          <a:blip r:embed="rId1"/>
          <a:stretch/>
        </p:blipFill>
        <p:spPr>
          <a:xfrm>
            <a:off x="4716360" y="1700280"/>
            <a:ext cx="4114800" cy="273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ificación Urbana 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ciente importancia del estudio de peligros geológicos en el diseño urbano, desastres, inundaciones, terremoto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geohazitem_102"/>
          <p:cNvPicPr/>
          <p:nvPr/>
        </p:nvPicPr>
        <p:blipFill>
          <a:blip r:embed="rId1"/>
          <a:stretch/>
        </p:blipFill>
        <p:spPr>
          <a:xfrm>
            <a:off x="5105520" y="1700280"/>
            <a:ext cx="3152520" cy="3924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33"/>
                </a:solidFill>
                <a:latin typeface="Times New Roman"/>
              </a:rPr>
              <a:t>Condiciones geológicas-geotécnicas generales para emplazamiento favorable de obras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sencia de procesos geológicos activos que representen riesgos a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ecuada capacidad portante del terreno para cimentación de estru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ficiente resistencia de los materiales para mantener estabilidad en excav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materiales para construcción de obras de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dad de extracción de materiales para exca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je de agua o residuos sólidos o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Modelos ing geologica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56400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116000" y="907920"/>
            <a:ext cx="24908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vestigación de la G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861160" y="907920"/>
            <a:ext cx="272880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acterización de Mater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983320" y="4076640"/>
            <a:ext cx="2059560" cy="3070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uesta del 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36840" y="1628640"/>
            <a:ext cx="33145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Rocas (aprox. 3 sema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Suelo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ón de Sitio (0.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 de Laderas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ciones a Obras Civiles: represas, túneles, fundacione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ción a peligros geológico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tecnia Minera (0,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MG01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Investigación Preliminar o de Diagnóstico (factibilidad o viabilidad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r el lugar con respecto a las condiciones geológicas advers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bvi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 alta probabilidad) declaradas (observables) o potenciales.   Frecuentemente desarrollada como parte de la selección inicial de un lugar específico (estudios de factibilidad y/o prefact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 geológico que proporciona una descripción de las características físicas  del lugar de la manera más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stablecer solamente las condiciones esperadas basado en los dat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scanline2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797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ofundidad de la investigación depende de las necesidades del proyecto (sondajes, ensayes, geofís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los estudios iniciales (revisión bibliográfica, logística, planificación fases siguientes), investigación de terreno, ensayes de terreno o laboratorio y elaboración de infor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Taber SPT"/>
          <p:cNvPicPr/>
          <p:nvPr/>
        </p:nvPicPr>
        <p:blipFill>
          <a:blip r:embed="rId1"/>
          <a:stretch/>
        </p:blipFill>
        <p:spPr>
          <a:xfrm>
            <a:off x="5562720" y="2438280"/>
            <a:ext cx="258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stigación de mayor profundidad, acompañada usualmente de prospecciones y ensayos geotécnicos, desarrollada en el lugar seleccionado para obtener datos geológicos y geotécnicos de detalle, los cuales son incluidos en la ingeniería de diseño (ingeniería básica, ingeniería de detal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xamen Geológico de un Lug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nsidad, resistencia,    porosidad, solubilidad, permeabilidad, alteración/meteor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stratificación,fallas, pliegues, discontinuidades, contactos y alteración por rocas ígn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278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iedades física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s o no cohesivo, compresibilidad, ángulo de fricción interna, permeabil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Índice de plastic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stencia al cizal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 u="sng">
                <a:solidFill>
                  <a:srgbClr val="000000"/>
                </a:solidFill>
                <a:uFillTx/>
                <a:latin typeface="Times New Roman"/>
              </a:rPr>
              <a:t>Suel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Laborato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y caracterización geotécnica de suelos y rocas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sayos Geotécnicos en Laboratorio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datos en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on software (Lab. Geoinformática o Ing. Civ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Evaluac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Cátedra (60%): 2 controles +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1: 6 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2: 10 enero (por confir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Laboratorio (40%): tareas e info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Terren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peo de Macizos rocosos  (lunes 7 noviembre, 13:00 hrs.). Santiago (lugar por defi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Bibliograf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nzález de Vallejo, 2002. Ingeniería Ge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, 2000. Practical Rock Engineering (PDF, </a:t>
            </a:r>
            <a:r>
              <a:rPr b="0" lang="es-E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rocscience.co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Hoek´s corn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mbe &amp; Whitman, 1972. Mecánica de Su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 y Bray, 1981. Rock Slope 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iencia dedicada a la investigación, estudio y solución de problemas de la ingeniería y ambientales que surgen como resultado de la interacción entre la geología y las obras y actividades del hombre, así como la predicción y desarrollo de medidas para la prevención o remediación de peligros geológico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statutos de la International Association of Engineering Geology and the Environment, 199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Geologí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Aplicada a la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4760" y="2134800"/>
            <a:ext cx="36813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óni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eniería Geológ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Geotécn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Ingenieri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olog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52880" y="2205000"/>
            <a:ext cx="3429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rminos Relacionado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tec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iería Geo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fía Rebolledo</dc:creator>
  <dc:description/>
  <dc:language>en-US</dc:language>
  <cp:lastModifiedBy>Sergio</cp:lastModifiedBy>
  <cp:lastPrinted>1997-09-10T15:14:28Z</cp:lastPrinted>
  <dcterms:modified xsi:type="dcterms:W3CDTF">2011-10-07T14:19:23Z</dcterms:modified>
  <cp:revision>69</cp:revision>
  <dc:subject/>
  <dc:title>Geología Aplicada a la Ingeniería GL-55B</dc:title>
</cp:coreProperties>
</file>