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526B-8F4F-4343-B40D-9A96DBE567C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C6ED-BE44-4D20-B97B-DD868ED41F1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876-AF9E-497E-B759-09B489F66A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ED95-2AC3-4D98-8E6A-B383681023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4542-C969-4FA6-BD35-50EAC83421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26F9-52FB-4E01-9621-B4D10E44191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D85A-56C0-48EA-B042-6E486100AE7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926E-F4B6-4210-A240-8A547D978C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D5AC-7B61-4071-9448-715C76C8EF1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6695-5598-4645-8460-E57A61F52D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AD88-6B45-4690-8BD3-3FEA3230D8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D65A-47C9-4BB8-AC61-EBFBA9DE1B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ECC6-AF64-4A88-8B76-4263868D27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3F2C-0DF7-4535-80C3-F5D62312FCD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5D1-EF42-4EC7-9201-1B0B7991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D62-15B2-42EE-A849-0C89146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1E0-884C-47C1-9033-F24E8998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55D-A643-406F-877C-D535729A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A53-B0FA-42AF-8C66-3259AB2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4253-6E75-4C47-88D6-0085C892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AAE3-3EB5-412E-BF42-E7F50CB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4337-3FEF-4270-ABCE-FA5A1599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6A9-F780-4C40-AA27-CA497129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309-EDBA-4BA4-8DB1-84CD811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BE1-9E26-4D13-AF0F-F70DA1B0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A7F-EB2A-45F5-9019-489225F2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69BE-49FF-4E27-B735-3FCB2AA5211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astro.unl.edu/naap/blackbody/naap_blackbody_sg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49416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148360" y="907920"/>
            <a:ext cx="0" cy="28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2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6199200" y="5373720"/>
            <a:ext cx="12524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1008000" y="14130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ey de Dalton</a:t>
            </a:r>
            <a:endParaRPr b="1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716360" y="3884760"/>
            <a:ext cx="42483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Comprobación de la distribución de Maxwell-Boltzmann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79520" y="2133720"/>
            <a:ext cx="37940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ma de las Presiones Parciales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cada uno de sus componentes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da uno de las componentes aport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 presión parcial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 = {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= {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k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B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15 CuadroTexto"/>
          <p:cNvSpPr/>
          <p:nvPr/>
        </p:nvSpPr>
        <p:spPr>
          <a:xfrm>
            <a:off x="527760" y="4614840"/>
            <a:ext cx="284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onde 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i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e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átomos de la familia i-ésima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n el gas considerad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3" name="16 Rectángulo"/>
          <p:cNvSpPr/>
          <p:nvPr/>
        </p:nvSpPr>
        <p:spPr>
          <a:xfrm>
            <a:off x="7166520" y="19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6" name="8 CuadroTexto"/>
          <p:cNvSpPr/>
          <p:nvPr/>
        </p:nvSpPr>
        <p:spPr>
          <a:xfrm>
            <a:off x="1033200" y="2781360"/>
            <a:ext cx="751428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a.- Compare la Energía cinética típica de las moléculas de aire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on la diferencia en la energía gravitacional entre el piso y el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ielo.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Por qué no cae el aire al piso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Cómo podremos hacerlo caer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b.-En la casa es preciso limpiar el polvo!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Suponga que una partícula de polvo pesa tanto como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50 </a:t>
            </a:r>
            <a:r>
              <a:rPr b="0" lang="el-GR" sz="2000" spc="-1" strike="noStrike">
                <a:solidFill>
                  <a:srgbClr val="3333ff"/>
                </a:solidFill>
                <a:latin typeface="Verdana"/>
              </a:rPr>
              <a:t>μ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m cúbico de agua. ¿Por qué el polvo cae al piso?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1318680" y="1916280"/>
            <a:ext cx="6792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Problema para entregar en clase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Verdana"/>
              </a:rPr>
              <a:t>, individual</a:t>
            </a: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, puede consultar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con sus compañeros…  (15 minutos)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111200" y="609300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Comic Sans MS"/>
              </a:rPr>
              <a:t>Biological Physics, P. Nelson, p81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105732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050920" y="2398680"/>
            <a:ext cx="704880" cy="2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4"/>
          <a:stretch/>
        </p:blipFill>
        <p:spPr>
          <a:xfrm>
            <a:off x="1979640" y="3087720"/>
            <a:ext cx="866880" cy="48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9" name="12 Conector recto"/>
          <p:cNvSpPr/>
          <p:nvPr/>
        </p:nvSpPr>
        <p:spPr>
          <a:xfrm flipV="1">
            <a:off x="826920" y="4510080"/>
            <a:ext cx="3745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988200" y="105264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5 y 7.6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04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258920" y="1920960"/>
            <a:ext cx="2733480" cy="42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31525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54304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102888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6"/>
          <a:stretch/>
        </p:blipFill>
        <p:spPr>
          <a:xfrm>
            <a:off x="1258920" y="566100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6300720" y="2060640"/>
            <a:ext cx="79056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"/>
          <p:cNvPicPr/>
          <p:nvPr/>
        </p:nvPicPr>
        <p:blipFill>
          <a:blip r:embed="rId8"/>
          <a:stretch/>
        </p:blipFill>
        <p:spPr>
          <a:xfrm>
            <a:off x="6300720" y="2924280"/>
            <a:ext cx="123840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0" name="20 CuadroTexto"/>
          <p:cNvSpPr/>
          <p:nvPr/>
        </p:nvSpPr>
        <p:spPr>
          <a:xfrm>
            <a:off x="1140120" y="1197000"/>
            <a:ext cx="30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7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812000" y="0"/>
          <a:ext cx="1332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0"/>
                    <a:ext cx="1332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0" y="995400"/>
          <a:ext cx="9144000" cy="58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5400"/>
                    <a:ext cx="9144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"/>
          <p:cNvGraphicFramePr/>
          <p:nvPr/>
        </p:nvGraphicFramePr>
        <p:xfrm>
          <a:off x="7908840" y="6381720"/>
          <a:ext cx="12351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8840" y="6381720"/>
                    <a:ext cx="1235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9"/>
          <p:cNvSpPr/>
          <p:nvPr/>
        </p:nvSpPr>
        <p:spPr>
          <a:xfrm>
            <a:off x="4260600" y="638172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edwardtufte.com/tufte/posters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873560" y="11016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Comic Sans MS"/>
              </a:rPr>
              <a:t>Clase 1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024000" cy="305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35600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8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44808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22798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684360" y="6111720"/>
            <a:ext cx="2447640" cy="63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81" name="20 Conector recto de flecha"/>
          <p:cNvCxnSpPr/>
          <p:nvPr/>
        </p:nvCxnSpPr>
        <p:spPr>
          <a:xfrm flipH="1" flipV="1">
            <a:off x="2050560" y="4220640"/>
            <a:ext cx="289440" cy="187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21 CuadroTexto"/>
          <p:cNvSpPr/>
          <p:nvPr/>
        </p:nvSpPr>
        <p:spPr>
          <a:xfrm>
            <a:off x="4716360" y="42210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odemos ver que este rango es proporcional a la velocidad de las partículas, de manera que a mayores velocidades, mayor es el rango posible y de esta forma se favorece a las partículas más rápidas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Esto da cuenta de una potencia de v en la curva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La otra proviene de la efusión.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3" name="20 CuadroTexto"/>
          <p:cNvSpPr/>
          <p:nvPr/>
        </p:nvSpPr>
        <p:spPr>
          <a:xfrm>
            <a:off x="4591440" y="1916280"/>
            <a:ext cx="43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bido al ancho del canal (</a:t>
            </a: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) que conduc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, se genera un rang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velocidades posibles que viajan a través de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nal, que está dado por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4" name="23 CuadroTexto"/>
          <p:cNvSpPr/>
          <p:nvPr/>
        </p:nvSpPr>
        <p:spPr>
          <a:xfrm>
            <a:off x="270360" y="981000"/>
            <a:ext cx="39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distribución de velocidades  deberí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omar esta forma 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5" name="25 CuadroTexto"/>
          <p:cNvSpPr/>
          <p:nvPr/>
        </p:nvSpPr>
        <p:spPr>
          <a:xfrm>
            <a:off x="321480" y="536400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l gráfico se ajusta bien con un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función cuártica en la velocidad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6"/>
          <a:stretch/>
        </p:blipFill>
        <p:spPr>
          <a:xfrm>
            <a:off x="5219640" y="1052640"/>
            <a:ext cx="93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07672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286160" cy="34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7008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10 Rectángulo"/>
          <p:cNvSpPr/>
          <p:nvPr/>
        </p:nvSpPr>
        <p:spPr>
          <a:xfrm>
            <a:off x="1452960" y="580536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Spectral Plot of a white dwarf star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7" name="11 Rectángulo"/>
          <p:cNvSpPr/>
          <p:nvPr/>
        </p:nvSpPr>
        <p:spPr>
          <a:xfrm>
            <a:off x="1793880" y="6093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Image Source: SDSS Collaboration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946080" y="645336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http://astro.unl.edu/naap/blackbody/spectra.htm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9" name="13 Rectángulo"/>
          <p:cNvSpPr/>
          <p:nvPr/>
        </p:nvSpPr>
        <p:spPr>
          <a:xfrm>
            <a:off x="6564960" y="530064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lackbody Curv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14 Rectángulo"/>
          <p:cNvSpPr/>
          <p:nvPr/>
        </p:nvSpPr>
        <p:spPr>
          <a:xfrm>
            <a:off x="298080" y="1052640"/>
            <a:ext cx="44755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101" name="16 Conector recto de flecha"/>
          <p:cNvCxnSpPr/>
          <p:nvPr/>
        </p:nvCxnSpPr>
        <p:spPr>
          <a:xfrm flipV="1">
            <a:off x="2626920" y="2060280"/>
            <a:ext cx="3313800" cy="25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7 Conector recto de flecha"/>
          <p:cNvCxnSpPr/>
          <p:nvPr/>
        </p:nvCxnSpPr>
        <p:spPr>
          <a:xfrm flipV="1">
            <a:off x="1403280" y="1627920"/>
            <a:ext cx="446472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 flipV="1">
            <a:off x="1042560" y="1483560"/>
            <a:ext cx="4537800" cy="12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22 CuadroTexto"/>
          <p:cNvSpPr/>
          <p:nvPr/>
        </p:nvSpPr>
        <p:spPr>
          <a:xfrm>
            <a:off x="5997240" y="1413000"/>
            <a:ext cx="16894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Líneas de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absorción del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Hidrógeno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637236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08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82400" y="1052640"/>
            <a:ext cx="4475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847800" cy="2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324000" y="3165480"/>
            <a:ext cx="137160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303192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12840" y="5589720"/>
            <a:ext cx="23875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331164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780920" cy="52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8"/>
          <a:stretch/>
        </p:blipFill>
        <p:spPr>
          <a:xfrm>
            <a:off x="6443640" y="1268280"/>
            <a:ext cx="267804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9"/>
          <a:stretch/>
        </p:blipFill>
        <p:spPr>
          <a:xfrm>
            <a:off x="7035840" y="5661000"/>
            <a:ext cx="185724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2" name="Picture 19" descr=""/>
          <p:cNvPicPr/>
          <p:nvPr/>
        </p:nvPicPr>
        <p:blipFill>
          <a:blip r:embed="rId10"/>
          <a:stretch/>
        </p:blipFill>
        <p:spPr>
          <a:xfrm>
            <a:off x="2004840" y="3021120"/>
            <a:ext cx="3791160" cy="552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4" name="22 CuadroTexto"/>
          <p:cNvSpPr/>
          <p:nvPr/>
        </p:nvSpPr>
        <p:spPr>
          <a:xfrm>
            <a:off x="440640" y="1628640"/>
            <a:ext cx="57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 de la estrella emiten una radiación que l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racteriza. Debido a su velocidad de alejamiento 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acercamiento que lo caracteriza la frecruencia angula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emisión fluctúa continuamente entre dos valor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5" name="23 CuadroTexto"/>
          <p:cNvSpPr/>
          <p:nvPr/>
        </p:nvSpPr>
        <p:spPr>
          <a:xfrm>
            <a:off x="1631520" y="31417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,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6" name="24 CuadroTexto"/>
          <p:cNvSpPr/>
          <p:nvPr/>
        </p:nvSpPr>
        <p:spPr>
          <a:xfrm>
            <a:off x="447120" y="3645000"/>
            <a:ext cx="48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reemplaza la nueva velocidad en la expresión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ara describir la intensidad de la emisión: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9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absorcion"/>
          <p:cNvPicPr/>
          <p:nvPr/>
        </p:nvPicPr>
        <p:blipFill>
          <a:blip r:embed="rId2"/>
          <a:stretch/>
        </p:blipFill>
        <p:spPr>
          <a:xfrm>
            <a:off x="228600" y="2355840"/>
            <a:ext cx="607212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179280" y="642312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ff"/>
                </a:solidFill>
                <a:latin typeface="Comic Sans MS"/>
              </a:rPr>
              <a:t>VER, por ejemplo: http://www.learner.org/teacherslab/science/light/color/spectra/spectra_1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2" name="7 CuadroTexto"/>
          <p:cNvSpPr/>
          <p:nvPr/>
        </p:nvSpPr>
        <p:spPr>
          <a:xfrm>
            <a:off x="549720" y="981000"/>
            <a:ext cx="607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íneas de emisión, absorción y la original. El ancho de la líne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emisión o absorción, refleja la temperatura de la nube de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gas que atraviesa la radiación proveniente de la estrella, qu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comporta como un cuerpo negr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3080" y="76500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3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videncia de AN"/>
          <p:cNvPicPr/>
          <p:nvPr/>
        </p:nvPicPr>
        <p:blipFill>
          <a:blip r:embed="rId2"/>
          <a:stretch/>
        </p:blipFill>
        <p:spPr>
          <a:xfrm>
            <a:off x="34920" y="1197000"/>
            <a:ext cx="750564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403200" y="836640"/>
            <a:ext cx="437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Para ver las huellas de un Agujero negro en el centro de una galaxia, 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vea, por ejemplo: http://chandra.as.utexas.edu/~kormendy/bhpix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7" descr="medicion de velocidades"/>
          <p:cNvPicPr/>
          <p:nvPr/>
        </p:nvPicPr>
        <p:blipFill>
          <a:blip r:embed="rId2"/>
          <a:stretch/>
        </p:blipFill>
        <p:spPr>
          <a:xfrm>
            <a:off x="34920" y="1004760"/>
            <a:ext cx="77281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5292720" y="1052640"/>
            <a:ext cx="0" cy="5256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46" name="6 CuadroTexto"/>
          <p:cNvSpPr/>
          <p:nvPr/>
        </p:nvSpPr>
        <p:spPr>
          <a:xfrm>
            <a:off x="250920" y="1125360"/>
            <a:ext cx="4968720" cy="277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Verdana"/>
              </a:rPr>
              <a:t>Efusión</a:t>
            </a:r>
            <a:endParaRPr b="1" lang="en-US" sz="4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 hacemos un orificio en un envase llen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as, obviamente aparece una fug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do el orificio es muy pequeño (defini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é se entiende por pequeño más tarde)  pode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tificar esta fuga. Este proceso, bajo esta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diciones  se denomina  </a:t>
            </a:r>
            <a:r>
              <a:rPr b="0" i="1" lang="es-ES" sz="1600" spc="-1" strike="noStrike">
                <a:solidFill>
                  <a:srgbClr val="0000cc"/>
                </a:solidFill>
                <a:latin typeface="Verdana"/>
              </a:rPr>
              <a:t>efu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250920" y="4149720"/>
            <a:ext cx="4752720" cy="2162520"/>
          </a:xfrm>
          <a:prstGeom prst="rect">
            <a:avLst/>
          </a:prstGeom>
          <a:solidFill>
            <a:srgbClr val="a0f3f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or fuga entendemo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ículas que escapan del envase por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idad de tiempo.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 el mismo número de partículas qu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lpean contra las paredes del envas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onces se puede cuantificar a parti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sió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!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186876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454880" y="4410000"/>
            <a:ext cx="16891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5435640" y="4019400"/>
            <a:ext cx="264780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5651640" y="5143680"/>
            <a:ext cx="143640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6"/>
          <a:stretch/>
        </p:blipFill>
        <p:spPr>
          <a:xfrm>
            <a:off x="5435640" y="2563920"/>
            <a:ext cx="34956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23 Conector recto"/>
          <p:cNvSpPr/>
          <p:nvPr/>
        </p:nvSpPr>
        <p:spPr>
          <a:xfrm>
            <a:off x="5364000" y="23493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5486040" y="19162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?????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7" name="16 CuadroTexto"/>
          <p:cNvSpPr/>
          <p:nvPr/>
        </p:nvSpPr>
        <p:spPr>
          <a:xfrm>
            <a:off x="6203880" y="1952640"/>
            <a:ext cx="26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Comic Sans MS"/>
              </a:rPr>
              <a:t>Ver Schroeder, page 14, prob 1.22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1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13204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188568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324000" y="4560840"/>
            <a:ext cx="185580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54280" y="1645200"/>
            <a:ext cx="2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tretch/>
        </p:blipFill>
        <p:spPr>
          <a:xfrm>
            <a:off x="2050920" y="1052640"/>
            <a:ext cx="153684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6"/>
          <a:stretch/>
        </p:blipFill>
        <p:spPr>
          <a:xfrm>
            <a:off x="1403280" y="328464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7"/>
          <a:stretch/>
        </p:blipFill>
        <p:spPr>
          <a:xfrm>
            <a:off x="2438280" y="4292640"/>
            <a:ext cx="2278080" cy="100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7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7" name="24 CuadroTexto"/>
          <p:cNvSpPr/>
          <p:nvPr/>
        </p:nvSpPr>
        <p:spPr>
          <a:xfrm>
            <a:off x="5249880" y="1943280"/>
            <a:ext cx="3733200" cy="423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o relevante es que aparece l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 la fórmul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esta forma al igual que la le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Dalton gases con distint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tómica se comportan en form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ferent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ordar las limitacion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gas al interior NO cambia su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portamiento en forma drástic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puede obtener un tiemp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racterístico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del cambi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piedades del gas 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área del agujero debe ser mucho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nor que el camino libre medi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3384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1-10-28T18:17:44Z</dcterms:modified>
  <cp:revision>190</cp:revision>
  <dc:subject/>
  <dc:title>FI-2004 Termodinámica</dc:title>
</cp:coreProperties>
</file>