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725-D750-4D4F-932F-BC3BF394E4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D019-1560-4CB4-B3E3-1EC7D48410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D74-90D2-4E6E-B0EA-00065BBC4C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030F-6A8F-4A68-A89E-B3BFFF8DBD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0D56-5510-4696-88B0-EC82189D77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D7CA-2464-4EE0-8834-32CBAA438A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521D-2B11-49DA-BFB0-23A1D24F19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AC6-3C04-4230-8098-23893322FA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612A-5273-4387-A5BA-44C582F75B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B98B-1B9D-4D69-A0C5-57A2E342C7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D79-C4DF-484C-92BD-F1DF9D0892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D818-C5D0-49AE-9C73-7D863F85AA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239-B2ED-49D6-A51C-70D2FB3D05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11A-FF2A-4001-80CE-AF06349B8F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D16-B828-4618-95E0-1A041FE8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3A4-BE2C-4071-812B-42505753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331-3255-43E1-8C61-5AE74472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F00-C9E0-4EC8-BFB9-7623842C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9D7-6711-46B3-BB59-ADC7DB64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5BC-EFF5-437D-A24E-395A6A42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092-73A6-4021-AD45-C1EBF705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7A3-C374-45FC-AF00-ECE1E1D2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563-D7BF-4839-BB5C-1D26A549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D62-3EFD-497B-A2C7-CCA6A52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08D-D032-49CE-B0B5-0530349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BF8-3379-4B56-B279-77DB9E24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6399-4846-4716-B35C-70788E2C03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astro.unl.edu/naap/blackbody/naap_blackbody_sg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349416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148360" y="907920"/>
            <a:ext cx="0" cy="288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2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>
            <a:off x="6199200" y="5373720"/>
            <a:ext cx="125244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1008000" y="14130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Ley de Dalton</a:t>
            </a:r>
            <a:endParaRPr b="1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716360" y="3884760"/>
            <a:ext cx="424836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Comprobación de la distribución de Maxwell-Boltzmann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79520" y="2133720"/>
            <a:ext cx="37940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ma de las Presiones Parciales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cada uno de sus componentes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da uno de las componentes aport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 presión parcial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 = {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= {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k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B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15 CuadroTexto"/>
          <p:cNvSpPr/>
          <p:nvPr/>
        </p:nvSpPr>
        <p:spPr>
          <a:xfrm>
            <a:off x="527760" y="4614840"/>
            <a:ext cx="284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onde 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i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e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átomos de la familia i-ésima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n el gas considerad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3" name="16 Rectángulo"/>
          <p:cNvSpPr/>
          <p:nvPr/>
        </p:nvSpPr>
        <p:spPr>
          <a:xfrm>
            <a:off x="7166520" y="198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6" name="8 CuadroTexto"/>
          <p:cNvSpPr/>
          <p:nvPr/>
        </p:nvSpPr>
        <p:spPr>
          <a:xfrm>
            <a:off x="1033200" y="2781360"/>
            <a:ext cx="7514280" cy="28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a.- Compare la Energía cinética típica de las moléculas de aire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on la diferencia en la energía gravitacional entre el piso y el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ielo.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Por qué no cae el aire al piso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Cómo podremos hacerlo caer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b.-En la casa es preciso limpiar el polvo!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Suponga que una partícula de polvo pesa tanto como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50 </a:t>
            </a:r>
            <a:r>
              <a:rPr b="0" lang="el-GR" sz="2000" spc="-1" strike="noStrike">
                <a:solidFill>
                  <a:srgbClr val="3333ff"/>
                </a:solidFill>
                <a:latin typeface="Verdana"/>
              </a:rPr>
              <a:t>μ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m cúbico de agua. ¿Por qué el polvo cae al piso?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1318680" y="1916280"/>
            <a:ext cx="6792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Problema para entregar en clase</a:t>
            </a:r>
            <a:r>
              <a:rPr b="0" lang="es-ES" sz="1800" spc="-1" strike="noStrike" u="sng">
                <a:solidFill>
                  <a:srgbClr val="3333ff"/>
                </a:solidFill>
                <a:uFillTx/>
                <a:latin typeface="Verdana"/>
              </a:rPr>
              <a:t>, individual</a:t>
            </a: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, puede consultar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con sus compañeros…  (15 minutos)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111200" y="609300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Comic Sans MS"/>
              </a:rPr>
              <a:t>Biological Physics, P. Nelson, p81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1979640" y="1793880"/>
            <a:ext cx="105732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2050920" y="2398680"/>
            <a:ext cx="704880" cy="2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4"/>
          <a:stretch/>
        </p:blipFill>
        <p:spPr>
          <a:xfrm>
            <a:off x="1979640" y="3087720"/>
            <a:ext cx="866880" cy="485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9" name="12 Conector recto"/>
          <p:cNvSpPr/>
          <p:nvPr/>
        </p:nvSpPr>
        <p:spPr>
          <a:xfrm flipV="1">
            <a:off x="826920" y="4510080"/>
            <a:ext cx="374508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0" name="12 CuadroTexto"/>
          <p:cNvSpPr/>
          <p:nvPr/>
        </p:nvSpPr>
        <p:spPr>
          <a:xfrm>
            <a:off x="988200" y="1052640"/>
            <a:ext cx="36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5 y 7.6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04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258920" y="1920960"/>
            <a:ext cx="2733480" cy="42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315252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254304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5"/>
          <a:stretch/>
        </p:blipFill>
        <p:spPr>
          <a:xfrm>
            <a:off x="1908000" y="4508640"/>
            <a:ext cx="102888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6"/>
          <a:stretch/>
        </p:blipFill>
        <p:spPr>
          <a:xfrm>
            <a:off x="1258920" y="5661000"/>
            <a:ext cx="1800360" cy="47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6300720" y="2060640"/>
            <a:ext cx="790560" cy="48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" descr=""/>
          <p:cNvPicPr/>
          <p:nvPr/>
        </p:nvPicPr>
        <p:blipFill>
          <a:blip r:embed="rId8"/>
          <a:stretch/>
        </p:blipFill>
        <p:spPr>
          <a:xfrm>
            <a:off x="6300720" y="2924280"/>
            <a:ext cx="1238400" cy="485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0" name="20 CuadroTexto"/>
          <p:cNvSpPr/>
          <p:nvPr/>
        </p:nvSpPr>
        <p:spPr>
          <a:xfrm>
            <a:off x="1140120" y="1197000"/>
            <a:ext cx="30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7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7812000" y="0"/>
          <a:ext cx="1332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0"/>
                    <a:ext cx="1332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0" y="995400"/>
          <a:ext cx="9144000" cy="586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5400"/>
                    <a:ext cx="91440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8"/>
          <p:cNvGraphicFramePr/>
          <p:nvPr/>
        </p:nvGraphicFramePr>
        <p:xfrm>
          <a:off x="7908840" y="6381720"/>
          <a:ext cx="12351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08840" y="6381720"/>
                    <a:ext cx="12351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9"/>
          <p:cNvSpPr/>
          <p:nvPr/>
        </p:nvSpPr>
        <p:spPr>
          <a:xfrm>
            <a:off x="4260600" y="638172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edwardtufte.com/tufte/posters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7873560" y="11016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Comic Sans MS"/>
              </a:rPr>
              <a:t>Clase 1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3024000" cy="305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35600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8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3448080" cy="743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22798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684360" y="6111720"/>
            <a:ext cx="2447640" cy="630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81" name="20 Conector recto de flecha"/>
          <p:cNvCxnSpPr/>
          <p:nvPr/>
        </p:nvCxnSpPr>
        <p:spPr>
          <a:xfrm flipH="1" flipV="1">
            <a:off x="2050560" y="4220640"/>
            <a:ext cx="289440" cy="187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21 CuadroTexto"/>
          <p:cNvSpPr/>
          <p:nvPr/>
        </p:nvSpPr>
        <p:spPr>
          <a:xfrm>
            <a:off x="4716360" y="4221000"/>
            <a:ext cx="4176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odemos ver que este rango es proporcional a la velocidad de las partículas, de manera que a mayores velocidades, mayor es el rango posible y de esta forma se favorece a las partículas más rápidas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Esto da cuenta de una potencia de v en la curva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La otra proviene de la efusión.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3" name="20 CuadroTexto"/>
          <p:cNvSpPr/>
          <p:nvPr/>
        </p:nvSpPr>
        <p:spPr>
          <a:xfrm>
            <a:off x="4591440" y="1916280"/>
            <a:ext cx="432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bido al ancho del canal (</a:t>
            </a: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) que conduc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, se genera un rang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velocidades posibles que viajan a través de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nal, que está dado por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4" name="23 CuadroTexto"/>
          <p:cNvSpPr/>
          <p:nvPr/>
        </p:nvSpPr>
        <p:spPr>
          <a:xfrm>
            <a:off x="270360" y="981000"/>
            <a:ext cx="393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distribución de velocidades  deberí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omar esta forma 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5" name="25 CuadroTexto"/>
          <p:cNvSpPr/>
          <p:nvPr/>
        </p:nvSpPr>
        <p:spPr>
          <a:xfrm>
            <a:off x="321480" y="536400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l gráfico se ajusta bien con un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función cuártica en la velocidad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6"/>
          <a:stretch/>
        </p:blipFill>
        <p:spPr>
          <a:xfrm>
            <a:off x="5219640" y="1052640"/>
            <a:ext cx="936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07672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286160" cy="34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307008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10 Rectángulo"/>
          <p:cNvSpPr/>
          <p:nvPr/>
        </p:nvSpPr>
        <p:spPr>
          <a:xfrm>
            <a:off x="1452960" y="580536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Spectral Plot of a white dwarf star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7" name="11 Rectángulo"/>
          <p:cNvSpPr/>
          <p:nvPr/>
        </p:nvSpPr>
        <p:spPr>
          <a:xfrm>
            <a:off x="1793880" y="6093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Image Source: SDSS Collaboration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12 Rectángulo"/>
          <p:cNvSpPr/>
          <p:nvPr/>
        </p:nvSpPr>
        <p:spPr>
          <a:xfrm>
            <a:off x="946080" y="645336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http://astro.unl.edu/naap/blackbody/spectra.htm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9" name="13 Rectángulo"/>
          <p:cNvSpPr/>
          <p:nvPr/>
        </p:nvSpPr>
        <p:spPr>
          <a:xfrm>
            <a:off x="6564960" y="530064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Blackbody Curv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14 Rectángulo"/>
          <p:cNvSpPr/>
          <p:nvPr/>
        </p:nvSpPr>
        <p:spPr>
          <a:xfrm>
            <a:off x="298080" y="1052640"/>
            <a:ext cx="44755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101" name="16 Conector recto de flecha"/>
          <p:cNvCxnSpPr/>
          <p:nvPr/>
        </p:nvCxnSpPr>
        <p:spPr>
          <a:xfrm flipV="1">
            <a:off x="2626920" y="2060280"/>
            <a:ext cx="3313800" cy="259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17 Conector recto de flecha"/>
          <p:cNvCxnSpPr/>
          <p:nvPr/>
        </p:nvCxnSpPr>
        <p:spPr>
          <a:xfrm flipV="1">
            <a:off x="1403280" y="1627920"/>
            <a:ext cx="4464720" cy="273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18 Conector recto de flecha"/>
          <p:cNvCxnSpPr/>
          <p:nvPr/>
        </p:nvCxnSpPr>
        <p:spPr>
          <a:xfrm flipV="1">
            <a:off x="1042560" y="1483560"/>
            <a:ext cx="4537800" cy="129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22 CuadroTexto"/>
          <p:cNvSpPr/>
          <p:nvPr/>
        </p:nvSpPr>
        <p:spPr>
          <a:xfrm>
            <a:off x="5997240" y="1413000"/>
            <a:ext cx="16894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Líneas de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absorción del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Hidrógeno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637236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08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8 CuadroTexto"/>
          <p:cNvSpPr/>
          <p:nvPr/>
        </p:nvSpPr>
        <p:spPr>
          <a:xfrm>
            <a:off x="482400" y="1052640"/>
            <a:ext cx="4475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2"/>
          <a:stretch/>
        </p:blipFill>
        <p:spPr>
          <a:xfrm>
            <a:off x="7885080" y="6308640"/>
            <a:ext cx="847800" cy="21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324000" y="3165480"/>
            <a:ext cx="1371600" cy="33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3031920" cy="71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312840" y="5589720"/>
            <a:ext cx="238752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2771640" y="5445000"/>
            <a:ext cx="331164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7"/>
          <a:stretch/>
        </p:blipFill>
        <p:spPr>
          <a:xfrm>
            <a:off x="7093080" y="4797360"/>
            <a:ext cx="1780920" cy="52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8"/>
          <a:stretch/>
        </p:blipFill>
        <p:spPr>
          <a:xfrm>
            <a:off x="6443640" y="1268280"/>
            <a:ext cx="267804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9"/>
          <a:stretch/>
        </p:blipFill>
        <p:spPr>
          <a:xfrm>
            <a:off x="7035840" y="5661000"/>
            <a:ext cx="1857240" cy="52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2" name="Picture 19" descr=""/>
          <p:cNvPicPr/>
          <p:nvPr/>
        </p:nvPicPr>
        <p:blipFill>
          <a:blip r:embed="rId10"/>
          <a:stretch/>
        </p:blipFill>
        <p:spPr>
          <a:xfrm>
            <a:off x="2004840" y="3021120"/>
            <a:ext cx="3791160" cy="552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1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4" name="22 CuadroTexto"/>
          <p:cNvSpPr/>
          <p:nvPr/>
        </p:nvSpPr>
        <p:spPr>
          <a:xfrm>
            <a:off x="440640" y="1628640"/>
            <a:ext cx="57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 de la estrella emiten una radiación que l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racteriza. Debido a su velocidad de alejamiento 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acercamiento que lo caracteriza la frecruencia angula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emisión fluctúa continuamente entre dos valor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5" name="23 CuadroTexto"/>
          <p:cNvSpPr/>
          <p:nvPr/>
        </p:nvSpPr>
        <p:spPr>
          <a:xfrm>
            <a:off x="1631520" y="314172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,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6" name="24 CuadroTexto"/>
          <p:cNvSpPr/>
          <p:nvPr/>
        </p:nvSpPr>
        <p:spPr>
          <a:xfrm>
            <a:off x="447120" y="3645000"/>
            <a:ext cx="483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reemplaza la nueva velocidad en la expresión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ara describir la intensidad de la emisión: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9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absorcion"/>
          <p:cNvPicPr/>
          <p:nvPr/>
        </p:nvPicPr>
        <p:blipFill>
          <a:blip r:embed="rId2"/>
          <a:stretch/>
        </p:blipFill>
        <p:spPr>
          <a:xfrm>
            <a:off x="228600" y="2355840"/>
            <a:ext cx="6072120" cy="4025880"/>
          </a:xfrm>
          <a:prstGeom prst="rect">
            <a:avLst/>
          </a:prstGeom>
          <a:ln w="0">
            <a:noFill/>
          </a:ln>
        </p:spPr>
      </p:pic>
      <p:sp>
        <p:nvSpPr>
          <p:cNvPr id="131" name="6 Rectángulo"/>
          <p:cNvSpPr/>
          <p:nvPr/>
        </p:nvSpPr>
        <p:spPr>
          <a:xfrm>
            <a:off x="179280" y="642312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ff"/>
                </a:solidFill>
                <a:latin typeface="Comic Sans MS"/>
              </a:rPr>
              <a:t>VER, por ejemplo: http://www.learner.org/teacherslab/science/light/color/spectra/spectra_1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2" name="7 CuadroTexto"/>
          <p:cNvSpPr/>
          <p:nvPr/>
        </p:nvSpPr>
        <p:spPr>
          <a:xfrm>
            <a:off x="549720" y="981000"/>
            <a:ext cx="607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íneas de emisión, absorción y la original. El ancho de la líne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emisión o absorción, refleja la temperatura de la nube de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gas que atraviesa la radiación proveniente de la estrella, qu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comporta como un cuerpo negr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73080" y="76500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3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videncia de AN"/>
          <p:cNvPicPr/>
          <p:nvPr/>
        </p:nvPicPr>
        <p:blipFill>
          <a:blip r:embed="rId2"/>
          <a:stretch/>
        </p:blipFill>
        <p:spPr>
          <a:xfrm>
            <a:off x="34920" y="1197000"/>
            <a:ext cx="7505640" cy="5616720"/>
          </a:xfrm>
          <a:prstGeom prst="rect">
            <a:avLst/>
          </a:prstGeom>
          <a:ln w="0">
            <a:noFill/>
          </a:ln>
        </p:spPr>
      </p:pic>
      <p:sp>
        <p:nvSpPr>
          <p:cNvPr id="137" name="6 CuadroTexto"/>
          <p:cNvSpPr/>
          <p:nvPr/>
        </p:nvSpPr>
        <p:spPr>
          <a:xfrm>
            <a:off x="403200" y="836640"/>
            <a:ext cx="437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Para ver las huellas de un Agujero negro en el centro de una galaxia, 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vea, por ejemplo: http://chandra.as.utexas.edu/~kormendy/bhpix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7" descr="medicion de velocidades"/>
          <p:cNvPicPr/>
          <p:nvPr/>
        </p:nvPicPr>
        <p:blipFill>
          <a:blip r:embed="rId2"/>
          <a:stretch/>
        </p:blipFill>
        <p:spPr>
          <a:xfrm>
            <a:off x="34920" y="1004760"/>
            <a:ext cx="77281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5292720" y="1052640"/>
            <a:ext cx="0" cy="5256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46" name="6 CuadroTexto"/>
          <p:cNvSpPr/>
          <p:nvPr/>
        </p:nvSpPr>
        <p:spPr>
          <a:xfrm>
            <a:off x="250920" y="1125360"/>
            <a:ext cx="4968720" cy="2772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Verdana"/>
              </a:rPr>
              <a:t>Efusión</a:t>
            </a:r>
            <a:endParaRPr b="1" lang="en-US" sz="4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i hacemos un orificio en un envase llen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as, obviamente aparece una fug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do el orificio es muy pequeño (defini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qué se entiende por pequeño más tarde)  pode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tificar esta fuga. Este proceso, bajo esta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diciones  se denomina  </a:t>
            </a:r>
            <a:r>
              <a:rPr b="0" i="1" lang="es-ES" sz="1600" spc="-1" strike="noStrike">
                <a:solidFill>
                  <a:srgbClr val="0000cc"/>
                </a:solidFill>
                <a:latin typeface="Verdana"/>
              </a:rPr>
              <a:t>efus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7" name="7 CuadroTexto"/>
          <p:cNvSpPr/>
          <p:nvPr/>
        </p:nvSpPr>
        <p:spPr>
          <a:xfrm>
            <a:off x="250920" y="4149720"/>
            <a:ext cx="4752720" cy="2162520"/>
          </a:xfrm>
          <a:prstGeom prst="rect">
            <a:avLst/>
          </a:prstGeom>
          <a:solidFill>
            <a:srgbClr val="a0f3f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or fuga entendemo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artículas que escapan del envase por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unidad de tiempo.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 el mismo número de partículas qu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lpean contra las paredes del envas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onces se puede cuantificar a parti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sión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!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724360" y="1052640"/>
            <a:ext cx="186876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7454880" y="4410000"/>
            <a:ext cx="1689120" cy="244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5435640" y="4019400"/>
            <a:ext cx="2647800" cy="70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>
            <a:off x="5651640" y="5143680"/>
            <a:ext cx="1436400" cy="877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6"/>
          <a:stretch/>
        </p:blipFill>
        <p:spPr>
          <a:xfrm>
            <a:off x="5435640" y="2563920"/>
            <a:ext cx="34956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23 Conector recto"/>
          <p:cNvSpPr/>
          <p:nvPr/>
        </p:nvSpPr>
        <p:spPr>
          <a:xfrm>
            <a:off x="5364000" y="2349360"/>
            <a:ext cx="36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6" name="26 CuadroTexto"/>
          <p:cNvSpPr/>
          <p:nvPr/>
        </p:nvSpPr>
        <p:spPr>
          <a:xfrm>
            <a:off x="5486040" y="19162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?????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7" name="16 CuadroTexto"/>
          <p:cNvSpPr/>
          <p:nvPr/>
        </p:nvSpPr>
        <p:spPr>
          <a:xfrm>
            <a:off x="6203880" y="1952640"/>
            <a:ext cx="26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Comic Sans MS"/>
              </a:rPr>
              <a:t>Ver Schroeder, page 14, prob 1.22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1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132048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1885680" cy="115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324000" y="4560840"/>
            <a:ext cx="1855800" cy="739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454280" y="1645200"/>
            <a:ext cx="23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5"/>
          <a:stretch/>
        </p:blipFill>
        <p:spPr>
          <a:xfrm>
            <a:off x="2050920" y="1052640"/>
            <a:ext cx="153684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6"/>
          <a:stretch/>
        </p:blipFill>
        <p:spPr>
          <a:xfrm>
            <a:off x="1403280" y="3284640"/>
            <a:ext cx="252720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7"/>
          <a:stretch/>
        </p:blipFill>
        <p:spPr>
          <a:xfrm>
            <a:off x="2438280" y="4292640"/>
            <a:ext cx="2278080" cy="100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7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7" name="24 CuadroTexto"/>
          <p:cNvSpPr/>
          <p:nvPr/>
        </p:nvSpPr>
        <p:spPr>
          <a:xfrm>
            <a:off x="5249880" y="1943280"/>
            <a:ext cx="3733200" cy="4231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o relevante es que aparece l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 la fórmul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esta forma al igual que la le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Dalton gases con distint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tómica se comportan en form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iferent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cordar las limitacion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gas al interior NO cambia su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mportamiento en forma drástic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 puede obtener un tiemp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aracterístico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del cambi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opiedades del gas 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área del agujero debe ser mucho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enor que el camino libre medi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Picture 18" descr=""/>
          <p:cNvPicPr/>
          <p:nvPr/>
        </p:nvPicPr>
        <p:blipFill>
          <a:blip r:embed="rId8"/>
          <a:stretch/>
        </p:blipFill>
        <p:spPr>
          <a:xfrm>
            <a:off x="900000" y="5516640"/>
            <a:ext cx="3384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1-10-28T18:17:44Z</dcterms:modified>
  <cp:revision>190</cp:revision>
  <dc:subject/>
  <dc:title>FI-2004 Termodinámica</dc:title>
</cp:coreProperties>
</file>