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F91577-BCA9-46F8-89E8-A2D805ECBD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C30C98-FFE7-44D3-8DA7-5DF1AC1B65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D5D3E6-79BB-488D-9707-B6E413AB5C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C207C3-FEB8-4503-B7F5-1C59438D44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1EA9A3-9528-4C83-88ED-F6AD7894B4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82E43D-CE3C-4369-AC4E-45494D9D8F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2EDEF9-8622-4B3B-98B8-B6BF9CB7F1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813C27-04DF-4BB7-83FD-3D54E4F570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3995F8-837C-4F4A-BE9D-33E3F4E79C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FF5606-C1AB-4D6D-95CC-6CE5CE1556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A0DDB2-1898-4642-919A-6A110B9846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FA368C-9F18-4803-973E-8031BEAAE1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C64B7D-6CC5-45D6-81CF-0CCE172061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CCB33A-5AA8-4C83-AA7F-C716481121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095DC8-EBEB-4B98-A424-817D77817C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3D3333-4224-4DF8-9DBC-2A6949B3EB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E57D97-5356-4D0E-B452-C0468E6FFF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838037-D12B-4D6D-9802-578A19A1F5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7A0F64-FA81-4F7E-A160-104CD9C14B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331FA2-9807-4574-B636-FAC959B37C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E8B8B1-47A2-46BE-A6EB-CD0630C6D0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231D46-E1F4-471D-BA8D-A7727A0DCF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7E9EAE-78CE-4637-9EED-948C5CB64E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B219B4-9A13-4028-B33A-EAE56E4648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A0A7D4-C3CF-4078-A63A-BC42BD05AE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D5AA04-F432-49A4-A6BF-5D84F75E99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31A-B557-4A89-9612-330830FF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3BCF-C069-4F1B-90D3-8CE5FE39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C0C0-15F2-4136-A758-4EB34146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B8D0-C7A0-4CBB-98EA-52ED5D76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0787-9D4B-42E9-ACD5-0FE415E3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FE70-54D9-43F5-8713-F1C027C6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0C84-F86F-40B8-A125-8E6B4999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0ED-EE55-448E-93C5-8A036591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7C1F-0DA7-44D6-A301-5BC08BDF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6890-38A6-4D67-A0B0-7154CB7D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37B3-6148-442F-9467-F83B5830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B78-807B-43C4-AE5C-87328C46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1ACD81-6F4E-4CFA-831D-C588ECB8EC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Rene Garreaud</cp:lastModifiedBy>
  <dcterms:modified xsi:type="dcterms:W3CDTF">2011-10-11T13:56:00Z</dcterms:modified>
  <cp:revision>1</cp:revision>
  <dc:subject/>
  <dc:title>Diapositiva 1</dc:title>
</cp:coreProperties>
</file>