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DED5E7-4C90-4722-B8AA-11AEB686D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82F8B7-404F-472D-8F74-FA030C554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9E3A1-A555-42D7-8931-D9C0F593C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ADAB8C-CF18-41EB-9C8B-7F486B44B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8D7C8E-B809-4494-8C88-655F46A7D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9760C7-7572-4023-A18C-40641BEC1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EBACC2-F17B-4FC8-9316-E9EEF1B65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3E490A-46F5-4E0D-A6C4-FC1100713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60274-1FCC-4EEE-9658-983B1D239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A9F087-B28A-4198-BED3-6F6B03821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DFDF1-3DEA-4E89-8D35-34B573C97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C5FF92-2D71-4E21-B5EB-CEDC68892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B499B3-0CCD-43A9-BDCB-8C14898AF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97D1F-B805-42D9-8483-3FE5DF037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DAEE4D-DB19-429A-ACB7-776F7FEAC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3129C-BC5D-4563-B127-7646FA49A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8D9F92-C8E6-43EC-AE9B-C7CC9125A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7D8A4-E3EC-4836-8ED5-2B7F88D0D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D014A2-58DA-4DE4-85F4-E7A3A3320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61368C-9D96-480B-8010-58F999F2F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97F0DC-E821-484F-B78C-CD250939A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901A6E-6D5D-4E3E-A457-50E53E9AC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E88B83-5A66-4006-948E-FFA026CBE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F5547A-B5A1-444B-83C7-36037C909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0CF3D8-F9AF-47E3-9C44-E42E5C989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e 30: MAT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-junio J.Alvar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54D999-20B4-4F03-BB8C-6308432CE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A4E-4EA6-4DE8-89D0-10ABFE44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208-C641-44B6-A0D6-3DFAB99C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AA9-C6DA-4220-8EA5-C2F2AC5B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CB6-1922-4705-90DF-A35857F2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15B-42CD-4247-82D7-3FFD9F0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67B-1BC3-4644-9683-B6D832B5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F8D-56CB-4DD6-87D3-8FA2FC3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DB7-6746-4B0F-A2A4-47C01BD2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F6C-4837-4333-B738-5F5BD9C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9B7-D2F3-44B5-AF66-9A16C06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886-17E3-40E4-B74B-49D06F4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995-54C6-4145-BBD8-FE31C196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0D6594-A45D-464C-A088-C0855F8F6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Rene Garreaud</cp:lastModifiedBy>
  <dcterms:modified xsi:type="dcterms:W3CDTF">2011-10-11T13:56:00Z</dcterms:modified>
  <cp:revision>1</cp:revision>
  <dc:subject/>
  <dc:title>Diapositiva 1</dc:title>
</cp:coreProperties>
</file>