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68F203-7E6E-4A67-9724-A400DE201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6D8E9E-FAEC-4FEF-A524-07FC5C23D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FEE6A-8836-46D2-A00C-22960D1203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BE34B6-D758-48AC-AF9F-2C69630E2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1E3E10-40D7-4C70-AF05-8D11B009B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B63E1-3270-46A7-8343-8C2DC9A35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48DA71-83C3-4FFF-ADB6-D1A888E52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9C1346-018D-472E-9442-CF1D20D13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D5E6F-8733-4449-A07C-1FAA87EE6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ADBD9-35FC-46EB-8F00-FA2CABA12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54402E-D432-4972-8332-85D326929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190F25-8833-4527-BC1A-1A10C844DB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F126EE-E1EC-4835-AF39-BD7F5692B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55267B-A382-4CC0-AEB9-B1D28B9D2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2C453-4948-4137-8B2A-25ED3BE57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3BF55-9A34-42BF-871F-FF4589EB7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E06CC0-E5A1-4F51-82C4-A43C9ED4A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F5BD95-69D9-472F-932C-E8A54D305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A790B3-3C30-4F10-9397-77C509B87A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E30AEE-07FA-40BD-B056-35ACDEB54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D10AE-EEA4-4085-8227-9F02FFCFE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310E8A-B610-4D54-AE76-88E20F349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EF7D8-3FCD-4BBE-A0DE-81023F94D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33D2C4-9C3B-41CA-8789-2DDE5E5BF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D5657E-BB70-4B9A-BB25-44DA71D65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B8C229-9808-4EBB-BE61-593A3377E5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7B7-D2F3-47D6-94FF-F17A67C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031-6746-40D2-AE1B-5993A171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706-C789-4F2D-A3D7-CBB5BDED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94B-1D33-4E28-AAF4-23F3242E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83E-FA37-42C0-B47F-340DE1C2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E72-ADF6-4BF9-89F6-0DA87036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7D0-054A-4F01-9772-E7D7FA4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3E2-6B57-4EEE-B342-773390A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A28-331B-49CB-AE6C-D57E44A0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345-A9CA-47D3-AF7F-A4AE39D9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887-BCF9-4E0F-BF4C-17CB407C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59F-E18E-4D1D-8C8B-D6894F0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F64925-F49A-440D-A06D-D67F3B3E85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Rene Garreaud</cp:lastModifiedBy>
  <dcterms:modified xsi:type="dcterms:W3CDTF">2011-10-11T13:56:00Z</dcterms:modified>
  <cp:revision>1</cp:revision>
  <dc:subject/>
  <dc:title>Diapositiva 1</dc:title>
</cp:coreProperties>
</file>