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442F45-9F59-43DA-9292-0EE0C457F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169BDD-9CAE-4F1F-A958-D0BD4FC1C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8D0AC2-661F-4240-A618-D28B0D8EFE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AA9D98-82A7-4B79-8172-76C1CE5FBE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3936F-0618-4540-97C3-E5F7E12A6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7F7EC1-EAF1-4435-ABE7-710B09E2F8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D18139-33BD-48D0-86E0-DE18230728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824D5D-332B-456E-8185-C539EBA82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C2D8BB-F137-46D1-B617-7BB7525348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32091E-1102-4E16-8246-A42EA5FB1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CD4449-B606-420F-996C-B45C0163F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9E45FD-6E35-4473-804C-A82ADA7CB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A51D61-0DFF-4C31-929A-87A748E98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F7066C-3268-4D1D-875D-5D12EB6AF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10AE33-05BE-4E1F-AC43-2F35509CF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61AEE7-3CB7-4A3A-91D1-F42AB8B5C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C7EEDF-8D3C-44FA-9E5B-FF97F1F93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E42CF9-38C4-4DAF-BE1A-599A176E19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168ACE-FE75-465C-ABBB-68B25E87E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417799-93EF-4D81-B3E3-924D5A044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9325AA-CF3F-44BB-BD4F-4DF8776BC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D927DE-76E8-410A-BF68-EBE1E4BD8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0262EC-56ED-43FC-9E82-1E513C01D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16B6E3-25B0-47BB-9574-B261C8C9E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C7CA1E-4035-4E64-8C7C-AA8FA4126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CF64F6-28F4-4DED-80C1-BC8EA2CE8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2CB-0484-4556-8FA2-68C1B1EF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417-8C3A-4728-A359-97D63139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01F-76B8-408E-AF39-1DA04797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9B5-2B16-489D-8E5E-60D0D7A2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866-07D4-45D8-A337-4885B2F4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C27-78E5-4545-849F-C868E911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E12-E32E-43CE-B37E-9EFBB7BE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1C4-7A37-4714-AC9C-4A09D5F9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47A-32F6-4832-BD87-48D1D23F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174-675F-4B51-9684-00E115D4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5DF-A81F-4D30-A74B-C671A05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711-704A-4CE3-9835-BFBB3F3A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296103-47FC-4CE7-AFFD-98EF4C2096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457200" y="1600200"/>
            <a:ext cx="8227800" cy="4522320"/>
            <a:chOff x="457200" y="1600200"/>
            <a:chExt cx="8227800" cy="4522320"/>
          </a:xfrm>
        </p:grpSpPr>
        <p:sp>
          <p:nvSpPr>
            <p:cNvPr id="115" name="Rectangle 3"/>
            <p:cNvSpPr/>
            <p:nvPr/>
          </p:nvSpPr>
          <p:spPr>
            <a:xfrm>
              <a:off x="662724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457056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251388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45720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662724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457056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251388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45720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662724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57056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251388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45720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662724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57056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251388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45720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457200" y="160020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457200" y="273096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457200" y="386208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>
              <a:off x="457200" y="612144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457200" y="1600200"/>
              <a:ext cx="108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251388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457056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662724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8683920" y="1600200"/>
              <a:ext cx="108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457200" y="499176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539640" y="333360"/>
            <a:ext cx="8216640" cy="6132240"/>
            <a:chOff x="539640" y="333360"/>
            <a:chExt cx="8216640" cy="6132240"/>
          </a:xfrm>
        </p:grpSpPr>
        <p:sp>
          <p:nvSpPr>
            <p:cNvPr id="148" name="Rectangle 2"/>
            <p:cNvSpPr/>
            <p:nvPr/>
          </p:nvSpPr>
          <p:spPr>
            <a:xfrm>
              <a:off x="6657120" y="59212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3"/>
            <p:cNvSpPr/>
            <p:nvPr/>
          </p:nvSpPr>
          <p:spPr>
            <a:xfrm>
              <a:off x="3278520" y="59212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539640" y="59212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6657120" y="538020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3278520" y="538020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539640" y="538020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6657120" y="48376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3278520" y="48376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539640" y="48376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6657120" y="4296960"/>
              <a:ext cx="2097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3278520" y="4296960"/>
              <a:ext cx="33786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539640" y="4296960"/>
              <a:ext cx="27388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6657120" y="3753720"/>
              <a:ext cx="20973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278520" y="3753720"/>
              <a:ext cx="33786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539640" y="3753720"/>
              <a:ext cx="27388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6657120" y="3213000"/>
              <a:ext cx="2097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18"/>
            <p:cNvSpPr/>
            <p:nvPr/>
          </p:nvSpPr>
          <p:spPr>
            <a:xfrm>
              <a:off x="3278520" y="3213000"/>
              <a:ext cx="33786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539640" y="3213000"/>
              <a:ext cx="27388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6657120" y="26704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1"/>
            <p:cNvSpPr/>
            <p:nvPr/>
          </p:nvSpPr>
          <p:spPr>
            <a:xfrm>
              <a:off x="3278520" y="26704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2"/>
            <p:cNvSpPr/>
            <p:nvPr/>
          </p:nvSpPr>
          <p:spPr>
            <a:xfrm>
              <a:off x="539640" y="26704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3"/>
            <p:cNvSpPr/>
            <p:nvPr/>
          </p:nvSpPr>
          <p:spPr>
            <a:xfrm>
              <a:off x="6657120" y="212940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3278520" y="212940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539640" y="212940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26"/>
            <p:cNvSpPr/>
            <p:nvPr/>
          </p:nvSpPr>
          <p:spPr>
            <a:xfrm>
              <a:off x="6657120" y="15868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3278520" y="15868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539640" y="15868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6657120" y="104544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0"/>
            <p:cNvSpPr/>
            <p:nvPr/>
          </p:nvSpPr>
          <p:spPr>
            <a:xfrm>
              <a:off x="3278520" y="104544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1"/>
            <p:cNvSpPr/>
            <p:nvPr/>
          </p:nvSpPr>
          <p:spPr>
            <a:xfrm>
              <a:off x="539640" y="104544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32"/>
            <p:cNvSpPr/>
            <p:nvPr/>
          </p:nvSpPr>
          <p:spPr>
            <a:xfrm>
              <a:off x="6657120" y="333360"/>
              <a:ext cx="209736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33"/>
            <p:cNvSpPr/>
            <p:nvPr/>
          </p:nvSpPr>
          <p:spPr>
            <a:xfrm>
              <a:off x="3278520" y="333360"/>
              <a:ext cx="337860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34"/>
            <p:cNvSpPr/>
            <p:nvPr/>
          </p:nvSpPr>
          <p:spPr>
            <a:xfrm>
              <a:off x="539640" y="333360"/>
              <a:ext cx="273888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539640" y="333360"/>
              <a:ext cx="8215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539640" y="104544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539640" y="15868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539640" y="212940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9"/>
            <p:cNvSpPr/>
            <p:nvPr/>
          </p:nvSpPr>
          <p:spPr>
            <a:xfrm>
              <a:off x="539640" y="26704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40"/>
            <p:cNvSpPr/>
            <p:nvPr/>
          </p:nvSpPr>
          <p:spPr>
            <a:xfrm>
              <a:off x="539640" y="321300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41"/>
            <p:cNvSpPr/>
            <p:nvPr/>
          </p:nvSpPr>
          <p:spPr>
            <a:xfrm>
              <a:off x="539640" y="375372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42"/>
            <p:cNvSpPr/>
            <p:nvPr/>
          </p:nvSpPr>
          <p:spPr>
            <a:xfrm>
              <a:off x="539640" y="429696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43"/>
            <p:cNvSpPr/>
            <p:nvPr/>
          </p:nvSpPr>
          <p:spPr>
            <a:xfrm>
              <a:off x="539640" y="483768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44"/>
            <p:cNvSpPr/>
            <p:nvPr/>
          </p:nvSpPr>
          <p:spPr>
            <a:xfrm>
              <a:off x="539640" y="538020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45"/>
            <p:cNvSpPr/>
            <p:nvPr/>
          </p:nvSpPr>
          <p:spPr>
            <a:xfrm>
              <a:off x="539640" y="59212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6"/>
            <p:cNvSpPr/>
            <p:nvPr/>
          </p:nvSpPr>
          <p:spPr>
            <a:xfrm>
              <a:off x="539640" y="6464160"/>
              <a:ext cx="821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7"/>
            <p:cNvSpPr/>
            <p:nvPr/>
          </p:nvSpPr>
          <p:spPr>
            <a:xfrm>
              <a:off x="539640" y="333360"/>
              <a:ext cx="1440" cy="61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8"/>
            <p:cNvSpPr/>
            <p:nvPr/>
          </p:nvSpPr>
          <p:spPr>
            <a:xfrm>
              <a:off x="3278520" y="333360"/>
              <a:ext cx="1440" cy="613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9"/>
            <p:cNvSpPr/>
            <p:nvPr/>
          </p:nvSpPr>
          <p:spPr>
            <a:xfrm>
              <a:off x="6657120" y="333360"/>
              <a:ext cx="1080" cy="613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8754840" y="333360"/>
              <a:ext cx="1440" cy="61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457200" y="1600200"/>
            <a:ext cx="8227800" cy="4524120"/>
            <a:chOff x="457200" y="1600200"/>
            <a:chExt cx="8227800" cy="4524120"/>
          </a:xfrm>
        </p:grpSpPr>
        <p:sp>
          <p:nvSpPr>
            <p:cNvPr id="65" name="Rectangle 3"/>
            <p:cNvSpPr/>
            <p:nvPr/>
          </p:nvSpPr>
          <p:spPr>
            <a:xfrm>
              <a:off x="662724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457056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251388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45720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662724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457056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251388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45720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662724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457056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251388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45720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662724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457056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251388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45720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662724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457056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251388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22"/>
            <p:cNvSpPr/>
            <p:nvPr/>
          </p:nvSpPr>
          <p:spPr>
            <a:xfrm>
              <a:off x="45720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662724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457056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251388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45720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662724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457056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251388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45720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662724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32"/>
            <p:cNvSpPr/>
            <p:nvPr/>
          </p:nvSpPr>
          <p:spPr>
            <a:xfrm>
              <a:off x="457056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251388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45720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457200" y="160020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>
              <a:off x="457200" y="2164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>
              <a:off x="457200" y="273096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38"/>
            <p:cNvSpPr/>
            <p:nvPr/>
          </p:nvSpPr>
          <p:spPr>
            <a:xfrm>
              <a:off x="457200" y="32958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39"/>
            <p:cNvSpPr/>
            <p:nvPr/>
          </p:nvSpPr>
          <p:spPr>
            <a:xfrm>
              <a:off x="457200" y="386208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40"/>
            <p:cNvSpPr/>
            <p:nvPr/>
          </p:nvSpPr>
          <p:spPr>
            <a:xfrm>
              <a:off x="457200" y="442692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>
              <a:off x="457200" y="499176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457200" y="555804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457200" y="6122880"/>
              <a:ext cx="822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>
              <a:off x="457200" y="1600200"/>
              <a:ext cx="1080" cy="452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45"/>
            <p:cNvSpPr/>
            <p:nvPr/>
          </p:nvSpPr>
          <p:spPr>
            <a:xfrm>
              <a:off x="251388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46"/>
            <p:cNvSpPr/>
            <p:nvPr/>
          </p:nvSpPr>
          <p:spPr>
            <a:xfrm>
              <a:off x="457056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47"/>
            <p:cNvSpPr/>
            <p:nvPr/>
          </p:nvSpPr>
          <p:spPr>
            <a:xfrm>
              <a:off x="662724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48"/>
            <p:cNvSpPr/>
            <p:nvPr/>
          </p:nvSpPr>
          <p:spPr>
            <a:xfrm>
              <a:off x="8683920" y="1600200"/>
              <a:ext cx="1080" cy="452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Rene Garreaud</cp:lastModifiedBy>
  <dcterms:modified xsi:type="dcterms:W3CDTF">2011-10-11T13:56:16Z</dcterms:modified>
  <cp:revision>1</cp:revision>
  <dc:subject/>
  <dc:title>Programación en MATLAB</dc:title>
</cp:coreProperties>
</file>