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8F8808-7F62-45A5-BB9E-C62A515AF4D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E043248-2B97-4406-BFF4-2B75FADB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FC4EDE0-E392-4078-8527-4477F99D3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1963A217-1756-4277-9D6C-6C4C2B681B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B3DA0B3-88F8-4EB7-8867-B859470A5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F43A870-321F-4648-BCD4-06676A30B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84963AB-C2B9-4320-8D81-D75442197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6947200-68AE-4065-B53C-3B2D43F0C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6B88EECC-89B8-46E0-89F9-DCA4CC4D6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9EFEA2B-5440-478F-826E-6EAA2DC3F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93A9F6B-76BF-49FC-83D5-B36042DF8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DFB91CB-F8A3-4EE7-B1EE-967D5F7FD07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600B-1744-4C8C-BDEF-E0F340F0E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11</a:t>
            </a:r>
            <a:endParaRPr b="0" lang="en-US" sz="2400" spc="-1" strike="noStrike">
              <a:solidFill>
                <a:srgbClr val="000000"/>
              </a:solidFill>
              <a:latin typeface="Times New Roman"/>
            </a:endParaRPr>
          </a:p>
        </p:txBody>
      </p:sp>
      <p:grpSp>
        <p:nvGrpSpPr>
          <p:cNvPr id="42" name="Group 11"/>
          <p:cNvGrpSpPr/>
          <p:nvPr/>
        </p:nvGrpSpPr>
        <p:grpSpPr>
          <a:xfrm>
            <a:off x="1714680" y="3254400"/>
            <a:ext cx="5715000" cy="350640"/>
            <a:chOff x="1714680" y="3254400"/>
            <a:chExt cx="5715000" cy="350640"/>
          </a:xfrm>
        </p:grpSpPr>
        <p:sp>
          <p:nvSpPr>
            <p:cNvPr id="43" name="Rectangle 4"/>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 name="Group 10"/>
            <p:cNvGrpSpPr/>
            <p:nvPr/>
          </p:nvGrpSpPr>
          <p:grpSpPr>
            <a:xfrm>
              <a:off x="1714680" y="3254400"/>
              <a:ext cx="4379760" cy="350640"/>
              <a:chOff x="1714680" y="3254400"/>
              <a:chExt cx="4379760" cy="350640"/>
            </a:xfrm>
          </p:grpSpPr>
          <p:sp>
            <p:nvSpPr>
              <p:cNvPr id="45" name="Rectangle 5"/>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Group 9"/>
              <p:cNvGrpSpPr/>
              <p:nvPr/>
            </p:nvGrpSpPr>
            <p:grpSpPr>
              <a:xfrm>
                <a:off x="1714680" y="3254400"/>
                <a:ext cx="4379760" cy="350640"/>
                <a:chOff x="1714680" y="3254400"/>
                <a:chExt cx="4379760" cy="350640"/>
              </a:xfrm>
            </p:grpSpPr>
            <p:sp>
              <p:nvSpPr>
                <p:cNvPr id="47" name="Rectangle 6"/>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7"/>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Group 27"/>
          <p:cNvGrpSpPr/>
          <p:nvPr/>
        </p:nvGrpSpPr>
        <p:grpSpPr>
          <a:xfrm>
            <a:off x="1714680" y="3254400"/>
            <a:ext cx="5715000" cy="350640"/>
            <a:chOff x="1714680" y="3254400"/>
            <a:chExt cx="5715000" cy="350640"/>
          </a:xfrm>
        </p:grpSpPr>
        <p:sp>
          <p:nvSpPr>
            <p:cNvPr id="50" name="Rectangle 20"/>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26"/>
            <p:cNvGrpSpPr/>
            <p:nvPr/>
          </p:nvGrpSpPr>
          <p:grpSpPr>
            <a:xfrm>
              <a:off x="1714680" y="3254400"/>
              <a:ext cx="4379760" cy="350640"/>
              <a:chOff x="1714680" y="3254400"/>
              <a:chExt cx="4379760" cy="350640"/>
            </a:xfrm>
          </p:grpSpPr>
          <p:sp>
            <p:nvSpPr>
              <p:cNvPr id="52" name="Rectangle 21"/>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Group 25"/>
              <p:cNvGrpSpPr/>
              <p:nvPr/>
            </p:nvGrpSpPr>
            <p:grpSpPr>
              <a:xfrm>
                <a:off x="1714680" y="3254400"/>
                <a:ext cx="4379760" cy="350640"/>
                <a:chOff x="1714680" y="3254400"/>
                <a:chExt cx="4379760" cy="350640"/>
              </a:xfrm>
            </p:grpSpPr>
            <p:sp>
              <p:nvSpPr>
                <p:cNvPr id="54" name="Rectangle 22"/>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3"/>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DE79-5851-4FE5-A8BF-0D06FDE86E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82" name="PlaceHolder 2"/>
          <p:cNvSpPr>
            <a:spLocks noGrp="1"/>
          </p:cNvSpPr>
          <p:nvPr>
            <p:ph/>
          </p:nvPr>
        </p:nvSpPr>
        <p:spPr>
          <a:xfrm>
            <a:off x="609120" y="1219320"/>
            <a:ext cx="8458200" cy="2225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83" name="Text Box 4"/>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81F2-F464-4718-9A6B-138557EEE6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Rectangle 8"/>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7"/>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88" name="PlaceHolder 2"/>
          <p:cNvSpPr>
            <a:spLocks noGrp="1"/>
          </p:cNvSpPr>
          <p:nvPr>
            <p:ph/>
          </p:nvPr>
        </p:nvSpPr>
        <p:spPr>
          <a:xfrm>
            <a:off x="533160" y="1422360"/>
            <a:ext cx="8458200" cy="1631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89" name="Text Box 5"/>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90" name="Text Box 6"/>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4A4A-C996-4993-B1EC-1B82C1826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3" name="PlaceHolder 2"/>
          <p:cNvSpPr>
            <a:spLocks noGrp="1"/>
          </p:cNvSpPr>
          <p:nvPr>
            <p:ph/>
          </p:nvPr>
        </p:nvSpPr>
        <p:spPr>
          <a:xfrm>
            <a:off x="533160" y="1294920"/>
            <a:ext cx="8458200" cy="28047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94" name="Rectangle 8"/>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0"/>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96" name="Text Box 11"/>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97" name="Oval 12"/>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3"/>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48C8-4399-4CA6-A373-786DA9263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101" name="PlaceHolder 2"/>
          <p:cNvSpPr>
            <a:spLocks noGrp="1"/>
          </p:cNvSpPr>
          <p:nvPr>
            <p:ph/>
          </p:nvPr>
        </p:nvSpPr>
        <p:spPr>
          <a:xfrm>
            <a:off x="533160" y="1294920"/>
            <a:ext cx="8458200" cy="53334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02ED-7153-4D65-A203-7DC6C8602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104" name="PlaceHolder 2"/>
          <p:cNvSpPr>
            <a:spLocks noGrp="1"/>
          </p:cNvSpPr>
          <p:nvPr>
            <p:ph/>
          </p:nvPr>
        </p:nvSpPr>
        <p:spPr>
          <a:xfrm>
            <a:off x="533160" y="1295280"/>
            <a:ext cx="8458200" cy="52585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2D4F6-CBC9-4E78-979C-9CCAAC639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Rectangle 2"/>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107" name="Rectangle 4"/>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108" name="Text Box 5"/>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88E8-7E8D-4D6A-94BF-3FC33B5C5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Rectangle 2"/>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Line 6"/>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7"/>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8"/>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9"/>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Text Box 10"/>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17" name="Text Box 11"/>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18" name="Line 12"/>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3"/>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4"/>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5"/>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6"/>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7"/>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8"/>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Arc 19"/>
          <p:cNvSpPr/>
          <p:nvPr/>
        </p:nvSpPr>
        <p:spPr>
          <a:xfrm flipV="1">
            <a:off x="4829040" y="3657600"/>
            <a:ext cx="990720" cy="1447920"/>
          </a:xfrm>
          <a:custGeom>
            <a:avLst/>
            <a:gdLst>
              <a:gd name="textAreaLeft" fmla="*/ 0 w 990720"/>
              <a:gd name="textAreaRight" fmla="*/ 991080 w 99072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26" name="Arc 20"/>
          <p:cNvSpPr/>
          <p:nvPr/>
        </p:nvSpPr>
        <p:spPr>
          <a:xfrm flipH="1" flipV="1">
            <a:off x="3990960" y="3809160"/>
            <a:ext cx="914400" cy="1295640"/>
          </a:xfrm>
          <a:custGeom>
            <a:avLst/>
            <a:gdLst>
              <a:gd name="textAreaLeft" fmla="*/ 360 w 914400"/>
              <a:gd name="textAreaRight" fmla="*/ 915120 w 914400"/>
              <a:gd name="textAreaTop" fmla="*/ -360 h 1295640"/>
              <a:gd name="textAreaBottom" fmla="*/ 1295640 h 129564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21"/>
          <p:cNvSpPr/>
          <p:nvPr/>
        </p:nvSpPr>
        <p:spPr>
          <a:xfrm flipV="1">
            <a:off x="6734160" y="3657600"/>
            <a:ext cx="609480" cy="990720"/>
          </a:xfrm>
          <a:custGeom>
            <a:avLst/>
            <a:gdLst>
              <a:gd name="textAreaLeft" fmla="*/ 0 w 609480"/>
              <a:gd name="textAreaRight" fmla="*/ 609840 w 609480"/>
              <a:gd name="textAreaTop" fmla="*/ 360 h 990720"/>
              <a:gd name="textAreaBottom" fmla="*/ 991440 h 990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28" name="Arc 22"/>
          <p:cNvSpPr/>
          <p:nvPr/>
        </p:nvSpPr>
        <p:spPr>
          <a:xfrm flipH="1" flipV="1">
            <a:off x="6048360" y="396180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Arc 23"/>
          <p:cNvSpPr/>
          <p:nvPr/>
        </p:nvSpPr>
        <p:spPr>
          <a:xfrm flipV="1">
            <a:off x="7877160" y="3831480"/>
            <a:ext cx="533520" cy="662040"/>
          </a:xfrm>
          <a:custGeom>
            <a:avLst/>
            <a:gdLst>
              <a:gd name="textAreaLeft" fmla="*/ 0 w 533520"/>
              <a:gd name="textAreaRight" fmla="*/ 533880 w 533520"/>
              <a:gd name="textAreaTop" fmla="*/ -360 h 662040"/>
              <a:gd name="textAreaBottom" fmla="*/ 662040 h 662040"/>
            </a:gdLst>
            <a:ahLst/>
            <a:rect l="textAreaLeft" t="textAreaTop" r="textAreaRight" b="textAreaBottom"/>
            <a:pathLst>
              <a:path fill="none" w="21600" h="23474">
                <a:moveTo>
                  <a:pt x="-1" y="0"/>
                </a:moveTo>
                <a:cubicBezTo>
                  <a:pt x="11929" y="0"/>
                  <a:pt x="21600" y="9670"/>
                  <a:pt x="21600" y="21600"/>
                </a:cubicBezTo>
                <a:cubicBezTo>
                  <a:pt x="21600" y="22225"/>
                  <a:pt x="21572" y="22850"/>
                  <a:pt x="21518" y="23473"/>
                </a:cubicBezTo>
              </a:path>
              <a:path stroke="0" w="21600" h="23474">
                <a:moveTo>
                  <a:pt x="-1" y="0"/>
                </a:moveTo>
                <a:cubicBezTo>
                  <a:pt x="11929" y="0"/>
                  <a:pt x="21600" y="9670"/>
                  <a:pt x="21600" y="21600"/>
                </a:cubicBezTo>
                <a:cubicBezTo>
                  <a:pt x="21600" y="22225"/>
                  <a:pt x="21572" y="22850"/>
                  <a:pt x="21518" y="2347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Arc 24"/>
          <p:cNvSpPr/>
          <p:nvPr/>
        </p:nvSpPr>
        <p:spPr>
          <a:xfrm flipH="1" flipV="1">
            <a:off x="7722360" y="388476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25"/>
          <p:cNvSpPr/>
          <p:nvPr/>
        </p:nvSpPr>
        <p:spPr>
          <a:xfrm flipV="1">
            <a:off x="4371840" y="3581280"/>
            <a:ext cx="760680" cy="1828800"/>
          </a:xfrm>
          <a:custGeom>
            <a:avLst/>
            <a:gdLst>
              <a:gd name="textAreaLeft" fmla="*/ 0 w 760680"/>
              <a:gd name="textAreaRight" fmla="*/ 761040 w 760680"/>
              <a:gd name="textAreaTop" fmla="*/ 360 h 1828800"/>
              <a:gd name="textAreaBottom" fmla="*/ 1829520 h 1828800"/>
            </a:gdLst>
            <a:ahLst/>
            <a:rect l="textAreaLeft" t="textAreaTop" r="textAreaRight" b="textAreaBottom"/>
            <a:pathLst>
              <a:path fill="none" w="21560" h="21600">
                <a:moveTo>
                  <a:pt x="-1" y="0"/>
                </a:moveTo>
                <a:cubicBezTo>
                  <a:pt x="11418" y="0"/>
                  <a:pt x="20864" y="8886"/>
                  <a:pt x="21559" y="20284"/>
                </a:cubicBezTo>
              </a:path>
              <a:path stroke="0" w="21560" h="21600">
                <a:moveTo>
                  <a:pt x="-1" y="0"/>
                </a:moveTo>
                <a:cubicBezTo>
                  <a:pt x="11418" y="0"/>
                  <a:pt x="20864" y="8886"/>
                  <a:pt x="21559" y="20284"/>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26"/>
          <p:cNvSpPr/>
          <p:nvPr/>
        </p:nvSpPr>
        <p:spPr>
          <a:xfrm flipV="1">
            <a:off x="6124680" y="3733200"/>
            <a:ext cx="914400" cy="1447560"/>
          </a:xfrm>
          <a:custGeom>
            <a:avLst/>
            <a:gdLst>
              <a:gd name="textAreaLeft" fmla="*/ 0 w 914400"/>
              <a:gd name="textAreaRight" fmla="*/ 914760 w 914400"/>
              <a:gd name="textAreaTop" fmla="*/ -360 h 1447560"/>
              <a:gd name="textAreaBottom" fmla="*/ 1447560 h 1447560"/>
            </a:gdLst>
            <a:ahLst/>
            <a:rect l="textAreaLeft" t="textAreaTop" r="textAreaRight" b="textAreaBottom"/>
            <a:pathLst>
              <a:path fill="none" w="21600" h="20994">
                <a:moveTo>
                  <a:pt x="5081" y="0"/>
                </a:moveTo>
                <a:cubicBezTo>
                  <a:pt x="14773" y="2346"/>
                  <a:pt x="21600" y="11022"/>
                  <a:pt x="21600" y="20994"/>
                </a:cubicBezTo>
              </a:path>
              <a:path stroke="0" w="21600" h="20994">
                <a:moveTo>
                  <a:pt x="5081" y="0"/>
                </a:moveTo>
                <a:cubicBezTo>
                  <a:pt x="14773" y="2346"/>
                  <a:pt x="21600" y="11022"/>
                  <a:pt x="21600" y="2099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33" name="Arc 27"/>
          <p:cNvSpPr/>
          <p:nvPr/>
        </p:nvSpPr>
        <p:spPr>
          <a:xfrm flipV="1">
            <a:off x="7648560" y="3733200"/>
            <a:ext cx="457200" cy="1447560"/>
          </a:xfrm>
          <a:custGeom>
            <a:avLst/>
            <a:gdLst>
              <a:gd name="textAreaLeft" fmla="*/ 0 w 457200"/>
              <a:gd name="textAreaRight" fmla="*/ 457560 w 457200"/>
              <a:gd name="textAreaTop" fmla="*/ -360 h 1447560"/>
              <a:gd name="textAreaBottom" fmla="*/ 1447560 h 144756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34" name="Text Box 28"/>
          <p:cNvSpPr/>
          <p:nvPr/>
        </p:nvSpPr>
        <p:spPr>
          <a:xfrm>
            <a:off x="3862440" y="56055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A</a:t>
            </a:r>
            <a:endParaRPr b="0" lang="en-US" sz="2000" spc="-1" strike="noStrike">
              <a:solidFill>
                <a:srgbClr val="000000"/>
              </a:solidFill>
              <a:latin typeface="Times New Roman"/>
            </a:endParaRPr>
          </a:p>
        </p:txBody>
      </p:sp>
      <p:sp>
        <p:nvSpPr>
          <p:cNvPr id="135" name="Text Box 29"/>
          <p:cNvSpPr/>
          <p:nvPr/>
        </p:nvSpPr>
        <p:spPr>
          <a:xfrm>
            <a:off x="5853240" y="5605560"/>
            <a:ext cx="165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B</a:t>
            </a:r>
            <a:endParaRPr b="0" lang="en-US" sz="2000" spc="-1" strike="noStrike">
              <a:solidFill>
                <a:srgbClr val="000000"/>
              </a:solidFill>
              <a:latin typeface="Times New Roman"/>
            </a:endParaRPr>
          </a:p>
        </p:txBody>
      </p:sp>
      <p:sp>
        <p:nvSpPr>
          <p:cNvPr id="136" name="Text Box 30"/>
          <p:cNvSpPr/>
          <p:nvPr/>
        </p:nvSpPr>
        <p:spPr>
          <a:xfrm>
            <a:off x="7451640" y="5605560"/>
            <a:ext cx="156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C</a:t>
            </a:r>
            <a:endParaRPr b="0" lang="en-US" sz="2000" spc="-1" strike="noStrike">
              <a:solidFill>
                <a:srgbClr val="000000"/>
              </a:solidFill>
              <a:latin typeface="Times New Roman"/>
            </a:endParaRPr>
          </a:p>
        </p:txBody>
      </p:sp>
      <p:sp>
        <p:nvSpPr>
          <p:cNvPr id="137" name="Text Box 31"/>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38" name="Text Box 32"/>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33"/>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40" name="Text Box 34"/>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41" name="Text Box 35"/>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2" name="Text Box 36"/>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43" name="Text Box 37"/>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44" name="Text Box 38"/>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5" name="Text Box 39"/>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46" name="Line 40"/>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41"/>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42"/>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43"/>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Text Box 44"/>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51" name="Rectangle 45"/>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46"/>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47"/>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48"/>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49"/>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50"/>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Rectangle 51"/>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58" name="Rectangle 52"/>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59" name="Line 53"/>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Text Box 54"/>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61" name="Text Box 55"/>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516F-D5E6-424A-A0E4-3F6A78983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Line 1027"/>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1028"/>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1029"/>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1030"/>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Text Box 1031"/>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68" name="Text Box 1032"/>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69" name="Line 1033"/>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1034"/>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1035"/>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1036"/>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1037"/>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1038"/>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1039"/>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Arc 1040"/>
          <p:cNvSpPr/>
          <p:nvPr/>
        </p:nvSpPr>
        <p:spPr>
          <a:xfrm flipV="1">
            <a:off x="4952880" y="4190400"/>
            <a:ext cx="990720" cy="1447560"/>
          </a:xfrm>
          <a:custGeom>
            <a:avLst/>
            <a:gdLst>
              <a:gd name="textAreaLeft" fmla="*/ 0 w 990720"/>
              <a:gd name="textAreaRight" fmla="*/ 991080 w 990720"/>
              <a:gd name="textAreaTop" fmla="*/ -360 h 1447560"/>
              <a:gd name="textAreaBottom" fmla="*/ 1447560 h 144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77" name="Arc 1041"/>
          <p:cNvSpPr/>
          <p:nvPr/>
        </p:nvSpPr>
        <p:spPr>
          <a:xfrm flipH="1" flipV="1">
            <a:off x="4114800" y="4343400"/>
            <a:ext cx="914400" cy="1295280"/>
          </a:xfrm>
          <a:custGeom>
            <a:avLst/>
            <a:gdLst>
              <a:gd name="textAreaLeft" fmla="*/ 360 w 914400"/>
              <a:gd name="textAreaRight" fmla="*/ 915120 w 9144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Arc 1042"/>
          <p:cNvSpPr/>
          <p:nvPr/>
        </p:nvSpPr>
        <p:spPr>
          <a:xfrm flipV="1">
            <a:off x="6858000" y="4190400"/>
            <a:ext cx="609480" cy="990360"/>
          </a:xfrm>
          <a:custGeom>
            <a:avLst/>
            <a:gdLst>
              <a:gd name="textAreaLeft" fmla="*/ 0 w 609480"/>
              <a:gd name="textAreaRight" fmla="*/ 609840 w 609480"/>
              <a:gd name="textAreaTop" fmla="*/ -360 h 990360"/>
              <a:gd name="textAreaBottom" fmla="*/ 99036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79" name="Arc 1043"/>
          <p:cNvSpPr/>
          <p:nvPr/>
        </p:nvSpPr>
        <p:spPr>
          <a:xfrm flipH="1" flipV="1">
            <a:off x="6172200" y="449496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044"/>
          <p:cNvSpPr/>
          <p:nvPr/>
        </p:nvSpPr>
        <p:spPr>
          <a:xfrm flipV="1">
            <a:off x="8001000" y="4342680"/>
            <a:ext cx="533520" cy="617400"/>
          </a:xfrm>
          <a:custGeom>
            <a:avLst/>
            <a:gdLst>
              <a:gd name="textAreaLeft" fmla="*/ 0 w 533520"/>
              <a:gd name="textAreaRight" fmla="*/ 533880 w 533520"/>
              <a:gd name="textAreaTop" fmla="*/ -360 h 617400"/>
              <a:gd name="textAreaBottom" fmla="*/ 617400 h 617400"/>
            </a:gdLst>
            <a:ahLst/>
            <a:rect l="textAreaLeft" t="textAreaTop" r="textAreaRight" b="textAreaBottom"/>
            <a:pathLst>
              <a:path fill="none" w="21600" h="21868">
                <a:moveTo>
                  <a:pt x="8172" y="-1"/>
                </a:moveTo>
                <a:cubicBezTo>
                  <a:pt x="16293" y="3318"/>
                  <a:pt x="21600" y="11220"/>
                  <a:pt x="21600" y="19994"/>
                </a:cubicBezTo>
                <a:cubicBezTo>
                  <a:pt x="21600" y="20619"/>
                  <a:pt x="21572" y="21244"/>
                  <a:pt x="21518" y="21867"/>
                </a:cubicBezTo>
              </a:path>
              <a:path stroke="0" w="21600" h="21868">
                <a:moveTo>
                  <a:pt x="8172" y="-1"/>
                </a:moveTo>
                <a:cubicBezTo>
                  <a:pt x="16293" y="3318"/>
                  <a:pt x="21600" y="11220"/>
                  <a:pt x="21600" y="19994"/>
                </a:cubicBezTo>
                <a:cubicBezTo>
                  <a:pt x="21600" y="20619"/>
                  <a:pt x="21572" y="21244"/>
                  <a:pt x="21518" y="21867"/>
                </a:cubicBezTo>
                <a:lnTo>
                  <a:pt x="0" y="19994"/>
                </a:lnTo>
                <a:lnTo>
                  <a:pt x="8172"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045"/>
          <p:cNvSpPr/>
          <p:nvPr/>
        </p:nvSpPr>
        <p:spPr>
          <a:xfrm flipH="1" flipV="1">
            <a:off x="7848000" y="441972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046"/>
          <p:cNvSpPr/>
          <p:nvPr/>
        </p:nvSpPr>
        <p:spPr>
          <a:xfrm flipV="1">
            <a:off x="4495680" y="4114800"/>
            <a:ext cx="760680" cy="1828800"/>
          </a:xfrm>
          <a:custGeom>
            <a:avLst/>
            <a:gdLst>
              <a:gd name="textAreaLeft" fmla="*/ 0 w 760680"/>
              <a:gd name="textAreaRight" fmla="*/ 761040 w 760680"/>
              <a:gd name="textAreaTop" fmla="*/ 360 h 1828800"/>
              <a:gd name="textAreaBottom" fmla="*/ 1829520 h 1828800"/>
            </a:gdLst>
            <a:ahLst/>
            <a:rect l="textAreaLeft" t="textAreaTop" r="textAreaRight" b="textAreaBottom"/>
            <a:pathLst>
              <a:path fill="none" w="21564" h="21600">
                <a:moveTo>
                  <a:pt x="-1" y="0"/>
                </a:moveTo>
                <a:cubicBezTo>
                  <a:pt x="11445" y="0"/>
                  <a:pt x="20903" y="8927"/>
                  <a:pt x="21564" y="20353"/>
                </a:cubicBezTo>
              </a:path>
              <a:path stroke="0" w="21564" h="21600">
                <a:moveTo>
                  <a:pt x="-1" y="0"/>
                </a:moveTo>
                <a:cubicBezTo>
                  <a:pt x="11445" y="0"/>
                  <a:pt x="20903" y="8927"/>
                  <a:pt x="21564" y="2035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Arc 1047"/>
          <p:cNvSpPr/>
          <p:nvPr/>
        </p:nvSpPr>
        <p:spPr>
          <a:xfrm flipV="1">
            <a:off x="6248520" y="4190400"/>
            <a:ext cx="838080" cy="1523880"/>
          </a:xfrm>
          <a:custGeom>
            <a:avLst/>
            <a:gdLst>
              <a:gd name="textAreaLeft" fmla="*/ 0 w 838080"/>
              <a:gd name="textAreaRight" fmla="*/ 838440 w 838080"/>
              <a:gd name="textAreaTop" fmla="*/ -360 h 1523880"/>
              <a:gd name="textAreaBottom" fmla="*/ 1523880 h 1523880"/>
            </a:gdLst>
            <a:ahLst/>
            <a:rect l="textAreaLeft" t="textAreaTop" r="textAreaRight" b="textAreaBottom"/>
            <a:pathLst>
              <a:path fill="none" w="21589" h="20994">
                <a:moveTo>
                  <a:pt x="5081" y="0"/>
                </a:moveTo>
                <a:cubicBezTo>
                  <a:pt x="14528" y="2286"/>
                  <a:pt x="21283" y="10600"/>
                  <a:pt x="21589" y="20314"/>
                </a:cubicBezTo>
              </a:path>
              <a:path stroke="0" w="21589" h="20994">
                <a:moveTo>
                  <a:pt x="5081" y="0"/>
                </a:moveTo>
                <a:cubicBezTo>
                  <a:pt x="14528" y="2286"/>
                  <a:pt x="21283" y="10600"/>
                  <a:pt x="21589" y="2031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84" name="Arc 1048"/>
          <p:cNvSpPr/>
          <p:nvPr/>
        </p:nvSpPr>
        <p:spPr>
          <a:xfrm flipV="1">
            <a:off x="7772400" y="4267080"/>
            <a:ext cx="457200" cy="1447920"/>
          </a:xfrm>
          <a:custGeom>
            <a:avLst/>
            <a:gdLst>
              <a:gd name="textAreaLeft" fmla="*/ 0 w 457200"/>
              <a:gd name="textAreaRight" fmla="*/ 457560 w 457200"/>
              <a:gd name="textAreaTop" fmla="*/ 360 h 1447920"/>
              <a:gd name="textAreaBottom" fmla="*/ 1448640 h 144792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85" name="Text Box 1052"/>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6" name="Text Box 1053"/>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Text Box 1054"/>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8" name="Text Box 1055"/>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89" name="Text Box 1056"/>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0" name="Text Box 1057"/>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91" name="Text Box 1058"/>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92" name="Text Box 1059"/>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3" name="Text Box 1060"/>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94" name="Line 1061"/>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Line 1062"/>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Line 1063"/>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Line 1064"/>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Line 1066"/>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Line 1067"/>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1068"/>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1069"/>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1070"/>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Text Box 1071"/>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1072"/>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73"/>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Text Box 1074"/>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207" name="Text Box 1075"/>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208" name="Rectangle 1076"/>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1080"/>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Text Box 1081"/>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11" name="Rectangle 1082"/>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212" name="Rectangle 1084"/>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13" name="Text Box 1085"/>
          <p:cNvSpPr/>
          <p:nvPr/>
        </p:nvSpPr>
        <p:spPr>
          <a:xfrm>
            <a:off x="3862440" y="61279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A</a:t>
            </a:r>
            <a:endParaRPr b="0" lang="en-US" sz="2000" spc="-1" strike="noStrike">
              <a:solidFill>
                <a:srgbClr val="000000"/>
              </a:solidFill>
              <a:latin typeface="Times New Roman"/>
            </a:endParaRPr>
          </a:p>
        </p:txBody>
      </p:sp>
      <p:sp>
        <p:nvSpPr>
          <p:cNvPr id="214" name="Text Box 1086"/>
          <p:cNvSpPr/>
          <p:nvPr/>
        </p:nvSpPr>
        <p:spPr>
          <a:xfrm>
            <a:off x="5853240" y="6127920"/>
            <a:ext cx="165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B</a:t>
            </a:r>
            <a:endParaRPr b="0" lang="en-US" sz="2000" spc="-1" strike="noStrike">
              <a:solidFill>
                <a:srgbClr val="000000"/>
              </a:solidFill>
              <a:latin typeface="Times New Roman"/>
            </a:endParaRPr>
          </a:p>
        </p:txBody>
      </p:sp>
      <p:sp>
        <p:nvSpPr>
          <p:cNvPr id="215" name="Text Box 1087"/>
          <p:cNvSpPr/>
          <p:nvPr/>
        </p:nvSpPr>
        <p:spPr>
          <a:xfrm>
            <a:off x="7451640" y="6127920"/>
            <a:ext cx="1568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añía 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9378-5C72-4F80-B26A-446FE67377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4"/>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19" name="Line 5"/>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Line 6"/>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Line 7"/>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Line 8"/>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Text Box 9"/>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24" name="Text Box 10"/>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25" name="Line 11"/>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Line 12"/>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Line 13"/>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Line 14"/>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15"/>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16"/>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17"/>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Arc 18"/>
          <p:cNvSpPr/>
          <p:nvPr/>
        </p:nvSpPr>
        <p:spPr>
          <a:xfrm flipV="1">
            <a:off x="4876920" y="3809880"/>
            <a:ext cx="990360" cy="1447920"/>
          </a:xfrm>
          <a:custGeom>
            <a:avLst/>
            <a:gdLst>
              <a:gd name="textAreaLeft" fmla="*/ 0 w 990360"/>
              <a:gd name="textAreaRight" fmla="*/ 990720 w 99036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33" name="Arc 19"/>
          <p:cNvSpPr/>
          <p:nvPr/>
        </p:nvSpPr>
        <p:spPr>
          <a:xfrm flipH="1" flipV="1">
            <a:off x="4038480" y="3962520"/>
            <a:ext cx="914400" cy="1295280"/>
          </a:xfrm>
          <a:custGeom>
            <a:avLst/>
            <a:gdLst>
              <a:gd name="textAreaLeft" fmla="*/ 360 w 914400"/>
              <a:gd name="textAreaRight" fmla="*/ 915120 w 9144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Arc 20"/>
          <p:cNvSpPr/>
          <p:nvPr/>
        </p:nvSpPr>
        <p:spPr>
          <a:xfrm flipV="1">
            <a:off x="6781680" y="3809160"/>
            <a:ext cx="609840" cy="685800"/>
          </a:xfrm>
          <a:custGeom>
            <a:avLst/>
            <a:gdLst>
              <a:gd name="textAreaLeft" fmla="*/ 0 w 609840"/>
              <a:gd name="textAreaRight" fmla="*/ 610200 w 60984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35" name="Arc 21"/>
          <p:cNvSpPr/>
          <p:nvPr/>
        </p:nvSpPr>
        <p:spPr>
          <a:xfrm flipH="1" flipV="1">
            <a:off x="6095880" y="3809160"/>
            <a:ext cx="673200" cy="685800"/>
          </a:xfrm>
          <a:custGeom>
            <a:avLst/>
            <a:gdLst>
              <a:gd name="textAreaLeft" fmla="*/ 360 w 673200"/>
              <a:gd name="textAreaRight" fmla="*/ 673920 w 673200"/>
              <a:gd name="textAreaTop" fmla="*/ -360 h 685800"/>
              <a:gd name="textAreaBottom" fmla="*/ 685800 h 685800"/>
            </a:gdLst>
            <a:ahLst/>
            <a:rect l="textAreaLeft" t="textAreaTop" r="textAreaRight" b="textAreaBottom"/>
            <a:pathLst>
              <a:path fill="none" w="23841" h="21600">
                <a:moveTo>
                  <a:pt x="-1" y="116"/>
                </a:moveTo>
                <a:cubicBezTo>
                  <a:pt x="744" y="38"/>
                  <a:pt x="1492" y="-1"/>
                  <a:pt x="2241" y="0"/>
                </a:cubicBezTo>
                <a:cubicBezTo>
                  <a:pt x="14170" y="0"/>
                  <a:pt x="23841" y="9670"/>
                  <a:pt x="23841" y="21600"/>
                </a:cubicBezTo>
              </a:path>
              <a:path stroke="0" w="23841" h="21600">
                <a:moveTo>
                  <a:pt x="-1" y="116"/>
                </a:moveTo>
                <a:cubicBezTo>
                  <a:pt x="744" y="38"/>
                  <a:pt x="1492" y="-1"/>
                  <a:pt x="2241" y="0"/>
                </a:cubicBezTo>
                <a:cubicBezTo>
                  <a:pt x="14170" y="0"/>
                  <a:pt x="23841" y="9670"/>
                  <a:pt x="23841" y="21600"/>
                </a:cubicBezTo>
                <a:lnTo>
                  <a:pt x="2241" y="21600"/>
                </a:lnTo>
                <a:lnTo>
                  <a:pt x="-1" y="11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Arc 22"/>
          <p:cNvSpPr/>
          <p:nvPr/>
        </p:nvSpPr>
        <p:spPr>
          <a:xfrm flipV="1">
            <a:off x="7924680" y="3733200"/>
            <a:ext cx="533520" cy="662040"/>
          </a:xfrm>
          <a:custGeom>
            <a:avLst/>
            <a:gdLst>
              <a:gd name="textAreaLeft" fmla="*/ 0 w 533520"/>
              <a:gd name="textAreaRight" fmla="*/ 533880 w 533520"/>
              <a:gd name="textAreaTop" fmla="*/ -360 h 662040"/>
              <a:gd name="textAreaBottom" fmla="*/ 662040 h 662040"/>
            </a:gdLst>
            <a:ahLst/>
            <a:rect l="textAreaLeft" t="textAreaTop" r="textAreaRight" b="textAreaBottom"/>
            <a:pathLst>
              <a:path fill="none" w="21600" h="23474">
                <a:moveTo>
                  <a:pt x="-1" y="0"/>
                </a:moveTo>
                <a:cubicBezTo>
                  <a:pt x="11929" y="0"/>
                  <a:pt x="21600" y="9670"/>
                  <a:pt x="21600" y="21600"/>
                </a:cubicBezTo>
                <a:cubicBezTo>
                  <a:pt x="21600" y="22225"/>
                  <a:pt x="21572" y="22850"/>
                  <a:pt x="21518" y="23473"/>
                </a:cubicBezTo>
              </a:path>
              <a:path stroke="0" w="21600" h="23474">
                <a:moveTo>
                  <a:pt x="-1" y="0"/>
                </a:moveTo>
                <a:cubicBezTo>
                  <a:pt x="11929" y="0"/>
                  <a:pt x="21600" y="9670"/>
                  <a:pt x="21600" y="21600"/>
                </a:cubicBezTo>
                <a:cubicBezTo>
                  <a:pt x="21600" y="22225"/>
                  <a:pt x="21572" y="22850"/>
                  <a:pt x="21518" y="23473"/>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Arc 23"/>
          <p:cNvSpPr/>
          <p:nvPr/>
        </p:nvSpPr>
        <p:spPr>
          <a:xfrm flipH="1" flipV="1">
            <a:off x="7619400" y="3886200"/>
            <a:ext cx="639720" cy="528480"/>
          </a:xfrm>
          <a:custGeom>
            <a:avLst/>
            <a:gdLst>
              <a:gd name="textAreaLeft" fmla="*/ -360 w 639720"/>
              <a:gd name="textAreaRight" fmla="*/ 639720 w 639720"/>
              <a:gd name="textAreaTop" fmla="*/ 0 h 528480"/>
              <a:gd name="textAreaBottom" fmla="*/ 528480 h 528480"/>
            </a:gdLst>
            <a:ahLst/>
            <a:rect l="textAreaLeft" t="textAreaTop" r="textAreaRight" b="textAreaBottom"/>
            <a:pathLst>
              <a:path fill="none" w="21600" h="18710">
                <a:moveTo>
                  <a:pt x="10793" y="-1"/>
                </a:moveTo>
                <a:cubicBezTo>
                  <a:pt x="17480" y="3857"/>
                  <a:pt x="21600" y="10990"/>
                  <a:pt x="21600" y="18710"/>
                </a:cubicBezTo>
              </a:path>
              <a:path stroke="0" w="21600" h="18710">
                <a:moveTo>
                  <a:pt x="10793" y="-1"/>
                </a:moveTo>
                <a:cubicBezTo>
                  <a:pt x="17480" y="3857"/>
                  <a:pt x="21600" y="10990"/>
                  <a:pt x="21600" y="18710"/>
                </a:cubicBezTo>
                <a:lnTo>
                  <a:pt x="0" y="18710"/>
                </a:lnTo>
                <a:lnTo>
                  <a:pt x="10793" y="-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Arc 24"/>
          <p:cNvSpPr/>
          <p:nvPr/>
        </p:nvSpPr>
        <p:spPr>
          <a:xfrm flipV="1">
            <a:off x="4419720" y="3733920"/>
            <a:ext cx="760320" cy="1828800"/>
          </a:xfrm>
          <a:custGeom>
            <a:avLst/>
            <a:gdLst>
              <a:gd name="textAreaLeft" fmla="*/ 0 w 760320"/>
              <a:gd name="textAreaRight" fmla="*/ 760680 w 760320"/>
              <a:gd name="textAreaTop" fmla="*/ 360 h 1828800"/>
              <a:gd name="textAreaBottom" fmla="*/ 1829520 h 1828800"/>
            </a:gdLst>
            <a:ahLst/>
            <a:rect l="textAreaLeft" t="textAreaTop" r="textAreaRight" b="textAreaBottom"/>
            <a:pathLst>
              <a:path fill="none" w="21560" h="21600">
                <a:moveTo>
                  <a:pt x="-1" y="0"/>
                </a:moveTo>
                <a:cubicBezTo>
                  <a:pt x="11418" y="0"/>
                  <a:pt x="20864" y="8886"/>
                  <a:pt x="21559" y="20284"/>
                </a:cubicBezTo>
              </a:path>
              <a:path stroke="0" w="21560" h="21600">
                <a:moveTo>
                  <a:pt x="-1" y="0"/>
                </a:moveTo>
                <a:cubicBezTo>
                  <a:pt x="11418" y="0"/>
                  <a:pt x="20864" y="8886"/>
                  <a:pt x="21559" y="20284"/>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Arc 25"/>
          <p:cNvSpPr/>
          <p:nvPr/>
        </p:nvSpPr>
        <p:spPr>
          <a:xfrm flipV="1">
            <a:off x="5943600" y="3809880"/>
            <a:ext cx="914400" cy="1447920"/>
          </a:xfrm>
          <a:custGeom>
            <a:avLst/>
            <a:gdLst>
              <a:gd name="textAreaLeft" fmla="*/ 0 w 914400"/>
              <a:gd name="textAreaRight" fmla="*/ 914760 w 914400"/>
              <a:gd name="textAreaTop" fmla="*/ 360 h 1447920"/>
              <a:gd name="textAreaBottom" fmla="*/ 1448640 h 1447920"/>
            </a:gdLst>
            <a:ahLst/>
            <a:rect l="textAreaLeft" t="textAreaTop" r="textAreaRight" b="textAreaBottom"/>
            <a:pathLst>
              <a:path fill="none" w="21600" h="20994">
                <a:moveTo>
                  <a:pt x="5081" y="0"/>
                </a:moveTo>
                <a:cubicBezTo>
                  <a:pt x="14773" y="2346"/>
                  <a:pt x="21600" y="11022"/>
                  <a:pt x="21600" y="20994"/>
                </a:cubicBezTo>
              </a:path>
              <a:path stroke="0" w="21600" h="20994">
                <a:moveTo>
                  <a:pt x="5081" y="0"/>
                </a:moveTo>
                <a:cubicBezTo>
                  <a:pt x="14773" y="2346"/>
                  <a:pt x="21600" y="11022"/>
                  <a:pt x="21600" y="20994"/>
                </a:cubicBezTo>
                <a:lnTo>
                  <a:pt x="0" y="20994"/>
                </a:lnTo>
                <a:lnTo>
                  <a:pt x="508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40" name="Arc 26"/>
          <p:cNvSpPr/>
          <p:nvPr/>
        </p:nvSpPr>
        <p:spPr>
          <a:xfrm flipV="1">
            <a:off x="7543800" y="3886200"/>
            <a:ext cx="457200" cy="1393920"/>
          </a:xfrm>
          <a:custGeom>
            <a:avLst/>
            <a:gdLst>
              <a:gd name="textAreaLeft" fmla="*/ 0 w 457200"/>
              <a:gd name="textAreaRight" fmla="*/ 457560 w 457200"/>
              <a:gd name="textAreaTop" fmla="*/ 360 h 1393920"/>
              <a:gd name="textAreaBottom" fmla="*/ 1394640 h 1393920"/>
            </a:gdLst>
            <a:ahLst/>
            <a:rect l="textAreaLeft" t="textAreaTop" r="textAreaRight" b="textAreaBottom"/>
            <a:pathLst>
              <a:path fill="none" w="21600" h="21083">
                <a:moveTo>
                  <a:pt x="5908" y="-1"/>
                </a:moveTo>
                <a:cubicBezTo>
                  <a:pt x="15193" y="2640"/>
                  <a:pt x="21600" y="11122"/>
                  <a:pt x="21600" y="20776"/>
                </a:cubicBezTo>
                <a:cubicBezTo>
                  <a:pt x="21600" y="20878"/>
                  <a:pt x="21599" y="20980"/>
                  <a:pt x="21597" y="21082"/>
                </a:cubicBezTo>
              </a:path>
              <a:path stroke="0" w="21600" h="21083">
                <a:moveTo>
                  <a:pt x="5908" y="-1"/>
                </a:moveTo>
                <a:cubicBezTo>
                  <a:pt x="15193" y="2640"/>
                  <a:pt x="21600" y="11122"/>
                  <a:pt x="21600" y="20776"/>
                </a:cubicBezTo>
                <a:cubicBezTo>
                  <a:pt x="21600" y="20878"/>
                  <a:pt x="21599" y="20980"/>
                  <a:pt x="21597" y="21082"/>
                </a:cubicBezTo>
                <a:lnTo>
                  <a:pt x="0" y="20776"/>
                </a:lnTo>
                <a:lnTo>
                  <a:pt x="5908" y="-1"/>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241" name="Text Box 28"/>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42" name="Text Box 29"/>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43" name="Text Box 30"/>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4" name="Text Box 31"/>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32"/>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6" name="Text Box 33"/>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47" name="Text Box 34"/>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48" name="Text Box 35"/>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49" name="Text Box 36"/>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50" name="Text Box 37"/>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51" name="Text Box 38"/>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52" name="Line 39"/>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Line 40"/>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Line 41"/>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Text Box 42"/>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56" name="Line 43"/>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44"/>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45"/>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46"/>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47"/>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48"/>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Rectangle 49"/>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50"/>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1"/>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65" name="Text Box 52"/>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5BE0-27C1-46A4-BCC7-D0AF5B59D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7" name="Text Box 5"/>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68" name="Line 7"/>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8"/>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9"/>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0"/>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11"/>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12"/>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Text Box 13"/>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75" name="Text Box 14"/>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76" name="Text Box 15"/>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77" name="Arc 16"/>
          <p:cNvSpPr/>
          <p:nvPr/>
        </p:nvSpPr>
        <p:spPr>
          <a:xfrm flipV="1">
            <a:off x="1509840" y="3566520"/>
            <a:ext cx="2877840" cy="1447560"/>
          </a:xfrm>
          <a:custGeom>
            <a:avLst/>
            <a:gdLst>
              <a:gd name="textAreaLeft" fmla="*/ 0 w 2877840"/>
              <a:gd name="textAreaRight" fmla="*/ 2878200 w 2877840"/>
              <a:gd name="textAreaTop" fmla="*/ -360 h 1447560"/>
              <a:gd name="textAreaBottom" fmla="*/ 1447560 h 1447560"/>
            </a:gdLst>
            <a:ahLst/>
            <a:rect l="textAreaLeft" t="textAreaTop" r="textAreaRight" b="textAreaBottom"/>
            <a:pathLst>
              <a:path fill="none" w="24164" h="21600">
                <a:moveTo>
                  <a:pt x="-1" y="2062"/>
                </a:moveTo>
                <a:cubicBezTo>
                  <a:pt x="2880" y="704"/>
                  <a:pt x="6026" y="-1"/>
                  <a:pt x="9211" y="0"/>
                </a:cubicBezTo>
                <a:cubicBezTo>
                  <a:pt x="14784" y="0"/>
                  <a:pt x="20142" y="2154"/>
                  <a:pt x="24164" y="6012"/>
                </a:cubicBezTo>
              </a:path>
              <a:path stroke="0" w="24164" h="21600">
                <a:moveTo>
                  <a:pt x="-1" y="2062"/>
                </a:moveTo>
                <a:cubicBezTo>
                  <a:pt x="2880" y="704"/>
                  <a:pt x="6026" y="-1"/>
                  <a:pt x="9211" y="0"/>
                </a:cubicBezTo>
                <a:cubicBezTo>
                  <a:pt x="14784" y="0"/>
                  <a:pt x="20142" y="2154"/>
                  <a:pt x="24164" y="6012"/>
                </a:cubicBezTo>
                <a:lnTo>
                  <a:pt x="9211" y="21600"/>
                </a:lnTo>
                <a:lnTo>
                  <a:pt x="-1" y="206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Text Box 17"/>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79" name="Text Box 18"/>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0" name="Text Box 19"/>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81" name="Line 20"/>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21"/>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3" name="Line 22"/>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Line 23"/>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5" name="Freeform 25"/>
          <p:cNvSpPr/>
          <p:nvPr/>
        </p:nvSpPr>
        <p:spPr>
          <a:xfrm>
            <a:off x="1692360" y="4176720"/>
            <a:ext cx="2361960" cy="1447920"/>
          </a:xfrm>
          <a:custGeom>
            <a:avLst/>
            <a:gdLst>
              <a:gd name="textAreaLeft" fmla="*/ 0 w 2361960"/>
              <a:gd name="textAreaRight" fmla="*/ 2362320 w 2361960"/>
              <a:gd name="textAreaTop" fmla="*/ 0 h 1447920"/>
              <a:gd name="textAreaBottom" fmla="*/ 1448280 h 1447920"/>
            </a:gdLst>
            <a:ahLst/>
            <a:rect l="textAreaLeft" t="textAreaTop" r="textAreaRight" b="textAreaBottom"/>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Text Box 26"/>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87" name="Rectangle 27"/>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88" name="Line 29"/>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30"/>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7FA7-497D-427B-83A1-2CA7F4101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752120"/>
            <a:ext cx="80773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240852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mtorrest@gmail.co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2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C5CC-9543-4EB2-A163-BC6BC7C45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Text Box 5"/>
          <p:cNvSpPr/>
          <p:nvPr/>
        </p:nvSpPr>
        <p:spPr>
          <a:xfrm>
            <a:off x="291960" y="1219320"/>
            <a:ext cx="854712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0 mm de líneas fijas, pero 16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depende fuertemente de la estimación de costos medios y del CCPP o tasa de descuento de los activos</a:t>
            </a:r>
            <a:endParaRPr b="0" lang="en-US" sz="2400" spc="-1" strike="noStrike">
              <a:solidFill>
                <a:srgbClr val="000000"/>
              </a:solidFill>
              <a:latin typeface="Times New Roman"/>
            </a:endParaRPr>
          </a:p>
        </p:txBody>
      </p:sp>
      <p:sp>
        <p:nvSpPr>
          <p:cNvPr id="292" name="Line 7"/>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8"/>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9"/>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Line 10"/>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Line 11"/>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Line 12"/>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Text Box 13"/>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99" name="Text Box 14"/>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300" name="Text Box 15"/>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301" name="Arc 16"/>
          <p:cNvSpPr/>
          <p:nvPr/>
        </p:nvSpPr>
        <p:spPr>
          <a:xfrm flipV="1">
            <a:off x="1405080" y="3768120"/>
            <a:ext cx="2877840" cy="1447560"/>
          </a:xfrm>
          <a:custGeom>
            <a:avLst/>
            <a:gdLst>
              <a:gd name="textAreaLeft" fmla="*/ 0 w 2877840"/>
              <a:gd name="textAreaRight" fmla="*/ 2878200 w 2877840"/>
              <a:gd name="textAreaTop" fmla="*/ -360 h 1447560"/>
              <a:gd name="textAreaBottom" fmla="*/ 1447560 h 1447560"/>
            </a:gdLst>
            <a:ahLst/>
            <a:rect l="textAreaLeft" t="textAreaTop" r="textAreaRight" b="textAreaBottom"/>
            <a:pathLst>
              <a:path fill="none" w="24164" h="21600">
                <a:moveTo>
                  <a:pt x="-1" y="2062"/>
                </a:moveTo>
                <a:cubicBezTo>
                  <a:pt x="2880" y="704"/>
                  <a:pt x="6026" y="-1"/>
                  <a:pt x="9211" y="0"/>
                </a:cubicBezTo>
                <a:cubicBezTo>
                  <a:pt x="14784" y="0"/>
                  <a:pt x="20142" y="2154"/>
                  <a:pt x="24164" y="6012"/>
                </a:cubicBezTo>
              </a:path>
              <a:path stroke="0" w="24164" h="21600">
                <a:moveTo>
                  <a:pt x="-1" y="2062"/>
                </a:moveTo>
                <a:cubicBezTo>
                  <a:pt x="2880" y="704"/>
                  <a:pt x="6026" y="-1"/>
                  <a:pt x="9211" y="0"/>
                </a:cubicBezTo>
                <a:cubicBezTo>
                  <a:pt x="14784" y="0"/>
                  <a:pt x="20142" y="2154"/>
                  <a:pt x="24164" y="6012"/>
                </a:cubicBezTo>
                <a:lnTo>
                  <a:pt x="9211" y="21600"/>
                </a:lnTo>
                <a:lnTo>
                  <a:pt x="-1" y="206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Text Box 17"/>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303" name="Text Box 18"/>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4" name="Text Box 19"/>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5" name="Line 20"/>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Line 21"/>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7" name="Line 22"/>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Line 23"/>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Text Box 24"/>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Freeform 25"/>
          <p:cNvSpPr/>
          <p:nvPr/>
        </p:nvSpPr>
        <p:spPr>
          <a:xfrm>
            <a:off x="1587600" y="4378320"/>
            <a:ext cx="2361960" cy="1447920"/>
          </a:xfrm>
          <a:custGeom>
            <a:avLst/>
            <a:gdLst>
              <a:gd name="textAreaLeft" fmla="*/ 0 w 2361960"/>
              <a:gd name="textAreaRight" fmla="*/ 2362320 w 2361960"/>
              <a:gd name="textAreaTop" fmla="*/ 0 h 1447920"/>
              <a:gd name="textAreaBottom" fmla="*/ 1448280 h 1447920"/>
            </a:gdLst>
            <a:ahLst/>
            <a:rect l="textAreaLeft" t="textAreaTop" r="textAreaRight" b="textAreaBottom"/>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Rectangle 26"/>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312" name="Text Box 27"/>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313" name="Object 28"/>
          <p:cNvGraphicFramePr/>
          <p:nvPr/>
        </p:nvGraphicFramePr>
        <p:xfrm>
          <a:off x="4267080" y="3562200"/>
          <a:ext cx="4648320" cy="857520"/>
        </p:xfrm>
        <a:graphic>
          <a:graphicData uri="http://schemas.openxmlformats.org/presentationml/2006/ole">
            <p:oleObj progId="Excel.Sheet.12" r:id="rId1" spid="">
              <p:embed/>
              <p:pic>
                <p:nvPicPr>
                  <p:cNvPr id="314" name="Object 28" descr=""/>
                  <p:cNvPicPr/>
                  <p:nvPr/>
                </p:nvPicPr>
                <p:blipFill>
                  <a:blip r:embed="rId2"/>
                  <a:stretch/>
                </p:blipFill>
                <p:spPr>
                  <a:xfrm>
                    <a:off x="4267080" y="3562200"/>
                    <a:ext cx="4648320" cy="85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29C0-8C31-45F2-9680-0640112ED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Text Box 5"/>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 sino que más bien hace bajar los ingresos</a:t>
            </a:r>
            <a:endParaRPr b="0" lang="en-US" sz="2400" spc="-1" strike="noStrike">
              <a:solidFill>
                <a:srgbClr val="000000"/>
              </a:solidFill>
              <a:latin typeface="Times New Roman"/>
            </a:endParaRPr>
          </a:p>
        </p:txBody>
      </p:sp>
      <p:sp>
        <p:nvSpPr>
          <p:cNvPr id="317" name="Line 6"/>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Line 7"/>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Line 8"/>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Line 9"/>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Text Box 10"/>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22" name="Text Box 11"/>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23" name="Text Box 12"/>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24" name="Line 13"/>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Rectangle 14"/>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26" name="Text Box 16"/>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B2A6-6059-4DB0-AB6D-C79A38581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8" name="Text Box 6"/>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 </a:t>
            </a: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Por qué???</a:t>
            </a:r>
            <a:endParaRPr b="0" lang="en-US" sz="2400" spc="-1" strike="noStrike">
              <a:solidFill>
                <a:srgbClr val="000000"/>
              </a:solidFill>
              <a:latin typeface="Times New Roman"/>
            </a:endParaRPr>
          </a:p>
        </p:txBody>
      </p:sp>
      <p:sp>
        <p:nvSpPr>
          <p:cNvPr id="329" name="Line 7"/>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Line 8"/>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Line 9"/>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Text Box 10"/>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33" name="Line 11"/>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Text Box 12"/>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5" name="Line 13"/>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Text Box 14"/>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37" name="Line 15"/>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Text Box 16"/>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39" name="Line 17"/>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Text Box 18"/>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41" name="Line 19"/>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Line 20"/>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Line 21"/>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Line 22"/>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Arc 23"/>
          <p:cNvSpPr/>
          <p:nvPr/>
        </p:nvSpPr>
        <p:spPr>
          <a:xfrm flipV="1">
            <a:off x="5105520" y="4023720"/>
            <a:ext cx="1066680" cy="1447560"/>
          </a:xfrm>
          <a:custGeom>
            <a:avLst/>
            <a:gdLst>
              <a:gd name="textAreaLeft" fmla="*/ 0 w 1066680"/>
              <a:gd name="textAreaRight" fmla="*/ 1067040 w 1066680"/>
              <a:gd name="textAreaTop" fmla="*/ -360 h 1447560"/>
              <a:gd name="textAreaBottom" fmla="*/ 1447560 h 1447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Arc 24"/>
          <p:cNvSpPr/>
          <p:nvPr/>
        </p:nvSpPr>
        <p:spPr>
          <a:xfrm flipH="1" flipV="1">
            <a:off x="4266360" y="4100400"/>
            <a:ext cx="838440" cy="1371600"/>
          </a:xfrm>
          <a:custGeom>
            <a:avLst/>
            <a:gdLst>
              <a:gd name="textAreaLeft" fmla="*/ -360 w 838440"/>
              <a:gd name="textAreaRight" fmla="*/ 838440 w 838440"/>
              <a:gd name="textAreaTop" fmla="*/ 360 h 1371600"/>
              <a:gd name="textAreaBottom" fmla="*/ 1372320 h 1371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Text Box 25"/>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48" name="Arc 26"/>
          <p:cNvSpPr/>
          <p:nvPr/>
        </p:nvSpPr>
        <p:spPr>
          <a:xfrm flipV="1">
            <a:off x="5181480" y="3642480"/>
            <a:ext cx="533520" cy="1143000"/>
          </a:xfrm>
          <a:custGeom>
            <a:avLst/>
            <a:gdLst>
              <a:gd name="textAreaLeft" fmla="*/ 0 w 533520"/>
              <a:gd name="textAreaRight" fmla="*/ 533880 w 533520"/>
              <a:gd name="textAreaTop" fmla="*/ -360 h 1143000"/>
              <a:gd name="textAreaBottom" fmla="*/ 114300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Arc 27"/>
          <p:cNvSpPr/>
          <p:nvPr/>
        </p:nvSpPr>
        <p:spPr>
          <a:xfrm flipH="1" flipV="1">
            <a:off x="4494960" y="3642480"/>
            <a:ext cx="685800" cy="1143000"/>
          </a:xfrm>
          <a:custGeom>
            <a:avLst/>
            <a:gdLst>
              <a:gd name="textAreaLeft" fmla="*/ -360 w 685800"/>
              <a:gd name="textAreaRight" fmla="*/ 685800 w 685800"/>
              <a:gd name="textAreaTop" fmla="*/ -360 h 1143000"/>
              <a:gd name="textAreaBottom" fmla="*/ 1143000 h 1143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Text Box 28"/>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51" name="Arc 29"/>
          <p:cNvSpPr/>
          <p:nvPr/>
        </p:nvSpPr>
        <p:spPr>
          <a:xfrm flipV="1">
            <a:off x="7848720" y="3642480"/>
            <a:ext cx="685800" cy="1219320"/>
          </a:xfrm>
          <a:custGeom>
            <a:avLst/>
            <a:gdLst>
              <a:gd name="textAreaLeft" fmla="*/ 0 w 685800"/>
              <a:gd name="textAreaRight" fmla="*/ 686160 w 685800"/>
              <a:gd name="textAreaTop" fmla="*/ -360 h 1219320"/>
              <a:gd name="textAreaBottom" fmla="*/ 1219320 h 121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Arc 30"/>
          <p:cNvSpPr/>
          <p:nvPr/>
        </p:nvSpPr>
        <p:spPr>
          <a:xfrm flipH="1" flipV="1">
            <a:off x="7238880" y="3642480"/>
            <a:ext cx="609840" cy="1219320"/>
          </a:xfrm>
          <a:custGeom>
            <a:avLst/>
            <a:gdLst>
              <a:gd name="textAreaLeft" fmla="*/ 360 w 609840"/>
              <a:gd name="textAreaRight" fmla="*/ 610560 w 609840"/>
              <a:gd name="textAreaTop" fmla="*/ -360 h 1219320"/>
              <a:gd name="textAreaBottom" fmla="*/ 1219320 h 12193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Text Box 31"/>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54" name="Text Box 32"/>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55" name="Text Box 33"/>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56" name="Rectangle 35"/>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01932-75B2-43E5-B3D0-9F0B524BB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8" name="Text Box 5"/>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59" name="Line 6"/>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Line 7"/>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8"/>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0"/>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1"/>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64" name="Line 12"/>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Text Box 13"/>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66" name="Line 14"/>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Text Box 15"/>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68" name="Text Box 16"/>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69" name="Freeform 17"/>
          <p:cNvSpPr/>
          <p:nvPr/>
        </p:nvSpPr>
        <p:spPr>
          <a:xfrm>
            <a:off x="1143000" y="3429000"/>
            <a:ext cx="2971800" cy="2222640"/>
          </a:xfrm>
          <a:custGeom>
            <a:avLst/>
            <a:gdLst>
              <a:gd name="textAreaLeft" fmla="*/ 0 w 2971800"/>
              <a:gd name="textAreaRight" fmla="*/ 2972160 w 2971800"/>
              <a:gd name="textAreaTop" fmla="*/ 0 h 2222640"/>
              <a:gd name="textAreaBottom" fmla="*/ 2223000 h 2222640"/>
            </a:gdLst>
            <a:ahLst/>
            <a:rect l="textAreaLeft" t="textAreaTop" r="textAreaRight" b="textAreaBottom"/>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Line 18"/>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Line 19"/>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Line 20"/>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Line 21"/>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Text Box 22"/>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75" name="Text Box 23"/>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76" name="Text Box 24"/>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77" name="Text Box 25"/>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78" name="Rectangle 27"/>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79" name="Text Box 28"/>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80" name="Text Box 29"/>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81" name="Text Box 30"/>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43E9-9E6B-43A5-8D62-89469909F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84" name="PlaceHolder 2"/>
          <p:cNvSpPr>
            <a:spLocks noGrp="1"/>
          </p:cNvSpPr>
          <p:nvPr>
            <p:ph/>
          </p:nvPr>
        </p:nvSpPr>
        <p:spPr>
          <a:xfrm>
            <a:off x="0" y="1142640"/>
            <a:ext cx="9144000" cy="5334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escala,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 Apple, Google, Amazon,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Apple en PCs, Porsche,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a:t>
            </a:r>
            <a:r>
              <a:rPr b="0" lang="es-CL" sz="2400" spc="-1" strike="noStrike" u="sng">
                <a:solidFill>
                  <a:srgbClr val="000000"/>
                </a:solidFill>
                <a:uFillTx/>
                <a:latin typeface="Times New Roman"/>
              </a:rPr>
              <a:t>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C3B0-23D6-416F-B3D0-276D33B29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86" name="PlaceHolder 1"/>
          <p:cNvSpPr>
            <a:spLocks noGrp="1"/>
          </p:cNvSpPr>
          <p:nvPr>
            <p:ph type="title"/>
          </p:nvPr>
        </p:nvSpPr>
        <p:spPr>
          <a:xfrm>
            <a:off x="762120" y="95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87" name="PlaceHolder 2"/>
          <p:cNvSpPr>
            <a:spLocks noGrp="1"/>
          </p:cNvSpPr>
          <p:nvPr>
            <p:ph/>
          </p:nvPr>
        </p:nvSpPr>
        <p:spPr>
          <a:xfrm>
            <a:off x="533160" y="1295280"/>
            <a:ext cx="8458200" cy="56041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88" name="Text Box 4"/>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FD2A-AC0C-407C-8B68-7433CD0F5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90" name="Line 28"/>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29"/>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26"/>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25"/>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23"/>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76212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96" name="Oval 5"/>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6"/>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7"/>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8"/>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9"/>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Rectangle 10"/>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11"/>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12"/>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Rectangle 13"/>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Text Box 14"/>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406" name="Text Box 15"/>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407" name="Text Box 16"/>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408" name="Text Box 17"/>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409" name="Text Box 18"/>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410" name="Text Box 19"/>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411" name="Text Box 20"/>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412" name="Text Box 21"/>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413" name="Text Box 22"/>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414" name="Line 24"/>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Line 27"/>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Text Box 30"/>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417" name="Text Box 32"/>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418" name="AutoShape 33"/>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AutoShape 34"/>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35"/>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421" name="AutoShape 36"/>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Text Box 37"/>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8F61-BC7D-4C5E-BAE3-F6F49B2B2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4" name="PlaceHolder 1"/>
          <p:cNvSpPr>
            <a:spLocks noGrp="1"/>
          </p:cNvSpPr>
          <p:nvPr>
            <p:ph type="title"/>
          </p:nvPr>
        </p:nvSpPr>
        <p:spPr>
          <a:xfrm>
            <a:off x="761760" y="5688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25" name="PlaceHolder 2"/>
          <p:cNvSpPr>
            <a:spLocks noGrp="1"/>
          </p:cNvSpPr>
          <p:nvPr>
            <p:ph/>
          </p:nvPr>
        </p:nvSpPr>
        <p:spPr>
          <a:xfrm>
            <a:off x="533160" y="1143000"/>
            <a:ext cx="8458200" cy="553032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08F2-8113-4108-BC70-31C6749B5D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7" name="PlaceHolder 1"/>
          <p:cNvSpPr>
            <a:spLocks noGrp="1"/>
          </p:cNvSpPr>
          <p:nvPr>
            <p:ph/>
          </p:nvPr>
        </p:nvSpPr>
        <p:spPr>
          <a:xfrm>
            <a:off x="533160" y="990360"/>
            <a:ext cx="8458200" cy="5754240"/>
          </a:xfrm>
          <a:prstGeom prst="rect">
            <a:avLst/>
          </a:prstGeom>
          <a:noFill/>
          <a:ln w="0">
            <a:noFill/>
          </a:ln>
        </p:spPr>
        <p:txBody>
          <a:bodyPr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28" name="AutoShape 4"/>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AutoShape 5"/>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Line 6"/>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7"/>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PlaceHolder 2"/>
          <p:cNvSpPr>
            <a:spLocks noGrp="1"/>
          </p:cNvSpPr>
          <p:nvPr>
            <p:ph type="title"/>
          </p:nvPr>
        </p:nvSpPr>
        <p:spPr>
          <a:xfrm>
            <a:off x="761760" y="-194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73D6-46BE-4021-B3B5-CB5BBE9DC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4" name="PlaceHolder 1"/>
          <p:cNvSpPr>
            <a:spLocks noGrp="1"/>
          </p:cNvSpPr>
          <p:nvPr>
            <p:ph type="title"/>
          </p:nvPr>
        </p:nvSpPr>
        <p:spPr>
          <a:xfrm>
            <a:off x="761760" y="5688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35" name="PlaceHolder 2"/>
          <p:cNvSpPr>
            <a:spLocks noGrp="1"/>
          </p:cNvSpPr>
          <p:nvPr>
            <p:ph/>
          </p:nvPr>
        </p:nvSpPr>
        <p:spPr>
          <a:xfrm>
            <a:off x="685800" y="1219320"/>
            <a:ext cx="7772400" cy="5586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36" name="AutoShape 5"/>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6"/>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44E9-7996-4528-888A-C386EB971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23520"/>
            <a:ext cx="8077320" cy="4496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DF1E-2C40-4305-9CB4-85C03304D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9" name="PlaceHolder 1"/>
          <p:cNvSpPr>
            <a:spLocks noGrp="1"/>
          </p:cNvSpPr>
          <p:nvPr>
            <p:ph type="title"/>
          </p:nvPr>
        </p:nvSpPr>
        <p:spPr>
          <a:xfrm>
            <a:off x="761760" y="-5760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095120"/>
            <a:ext cx="7772400" cy="256680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41" name="Oval 6"/>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42" name="Oval 7"/>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43" name="Oval 8"/>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44" name="Oval 9"/>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45" name="Text Box 15"/>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46" name="AutoShape 16"/>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AutoShape 17"/>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AutoShape 18"/>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AutoShape 19"/>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WordArt 20"/>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CA0B-A586-4663-9000-1C60BEA1C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21932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54" name="Picture 9" descr="PE02097_"/>
          <p:cNvPicPr/>
          <p:nvPr/>
        </p:nvPicPr>
        <p:blipFill>
          <a:blip r:embed="rId1"/>
          <a:stretch/>
        </p:blipFill>
        <p:spPr>
          <a:xfrm>
            <a:off x="3657600" y="4575240"/>
            <a:ext cx="2282760" cy="1825560"/>
          </a:xfrm>
          <a:prstGeom prst="rect">
            <a:avLst/>
          </a:prstGeom>
          <a:ln w="0">
            <a:noFill/>
          </a:ln>
        </p:spPr>
      </p:pic>
      <p:sp>
        <p:nvSpPr>
          <p:cNvPr id="455" name="WordArt 10"/>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95374-8CF0-4AB8-95BE-8838324F7C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7"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58" name="AutoShape 7"/>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AutoShape 8"/>
          <p:cNvSpPr/>
          <p:nvPr/>
        </p:nvSpPr>
        <p:spPr>
          <a:xfrm flipV="1">
            <a:off x="2552760" y="4286160"/>
            <a:ext cx="4648320" cy="990720"/>
          </a:xfrm>
          <a:custGeom>
            <a:avLst/>
            <a:gdLst>
              <a:gd name="textAreaLeft" fmla="*/ 722880 w 4648320"/>
              <a:gd name="textAreaRight" fmla="*/ 3925440 w 4648320"/>
              <a:gd name="textAreaTop" fmla="*/ 154080 h 990720"/>
              <a:gd name="textAreaBottom" fmla="*/ 836640 h 990720"/>
            </a:gdLst>
            <a:ahLst/>
            <a:rect l="textAreaLeft" t="textAreaTop" r="textAreaRight" b="textAreaBottom"/>
            <a:pathLst>
              <a:path w="21600" h="21600">
                <a:moveTo>
                  <a:pt x="0" y="0"/>
                </a:moveTo>
                <a:lnTo>
                  <a:pt x="3120" y="21600"/>
                </a:lnTo>
                <a:lnTo>
                  <a:pt x="18480" y="21600"/>
                </a:lnTo>
                <a:lnTo>
                  <a:pt x="21600" y="0"/>
                </a:lnTo>
                <a:lnTo>
                  <a:pt x="0" y="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460" name="Text Box 10"/>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61" name="Text Box 11"/>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62" name="Text Box 12"/>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63" name="Line 13"/>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14"/>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15"/>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17"/>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18"/>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8" name="Group 22"/>
          <p:cNvGrpSpPr/>
          <p:nvPr/>
        </p:nvGrpSpPr>
        <p:grpSpPr>
          <a:xfrm>
            <a:off x="7086600" y="3371400"/>
            <a:ext cx="1371600" cy="1219680"/>
            <a:chOff x="7086600" y="3371400"/>
            <a:chExt cx="1371600" cy="1219680"/>
          </a:xfrm>
        </p:grpSpPr>
        <p:sp>
          <p:nvSpPr>
            <p:cNvPr id="469" name="Line 19"/>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20"/>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21"/>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Group 23"/>
          <p:cNvGrpSpPr/>
          <p:nvPr/>
        </p:nvGrpSpPr>
        <p:grpSpPr>
          <a:xfrm>
            <a:off x="7124760" y="1847520"/>
            <a:ext cx="1371600" cy="1219680"/>
            <a:chOff x="7124760" y="1847520"/>
            <a:chExt cx="1371600" cy="1219680"/>
          </a:xfrm>
        </p:grpSpPr>
        <p:sp>
          <p:nvSpPr>
            <p:cNvPr id="473" name="Line 24"/>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25"/>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6"/>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6" name="Text Box 27"/>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77" name="Text Box 28"/>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78" name="Text Box 29"/>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79" name="Text Box 30"/>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80" name="Text Box 31"/>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3261-E18D-4C04-95C9-C245DED60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2" name="Line 71"/>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Line 63"/>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Line 64"/>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Line 65"/>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Line 57"/>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Line 58"/>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59"/>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761760" y="-36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90" name="Rectangle 29"/>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91" name="Oval 30"/>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92" name="Rectangle 31"/>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93" name="Rectangle 32"/>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94" name="Rectangle 33"/>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95" name="Group 42"/>
          <p:cNvGrpSpPr/>
          <p:nvPr/>
        </p:nvGrpSpPr>
        <p:grpSpPr>
          <a:xfrm>
            <a:off x="2629080" y="2457360"/>
            <a:ext cx="1828800" cy="1600200"/>
            <a:chOff x="2629080" y="2457360"/>
            <a:chExt cx="1828800" cy="1600200"/>
          </a:xfrm>
        </p:grpSpPr>
        <p:sp>
          <p:nvSpPr>
            <p:cNvPr id="496" name="Rectangle 36"/>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97" name="Rectangle 37"/>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98" name="Rectangle 38"/>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99" name="Group 50"/>
          <p:cNvGrpSpPr/>
          <p:nvPr/>
        </p:nvGrpSpPr>
        <p:grpSpPr>
          <a:xfrm>
            <a:off x="4952880" y="1104840"/>
            <a:ext cx="1828800" cy="1067040"/>
            <a:chOff x="4952880" y="1104840"/>
            <a:chExt cx="1828800" cy="1067040"/>
          </a:xfrm>
        </p:grpSpPr>
        <p:sp>
          <p:nvSpPr>
            <p:cNvPr id="500" name="Rectangle 44"/>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501" name="Rectangle 47"/>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502" name="Group 51"/>
          <p:cNvGrpSpPr/>
          <p:nvPr/>
        </p:nvGrpSpPr>
        <p:grpSpPr>
          <a:xfrm>
            <a:off x="7010280" y="1104840"/>
            <a:ext cx="1828800" cy="1066680"/>
            <a:chOff x="7010280" y="1104840"/>
            <a:chExt cx="1828800" cy="1066680"/>
          </a:xfrm>
        </p:grpSpPr>
        <p:sp>
          <p:nvSpPr>
            <p:cNvPr id="503" name="Rectangle 48"/>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504" name="Rectangle 49"/>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505" name="Group 56"/>
          <p:cNvGrpSpPr/>
          <p:nvPr/>
        </p:nvGrpSpPr>
        <p:grpSpPr>
          <a:xfrm>
            <a:off x="304920" y="1104840"/>
            <a:ext cx="1828800" cy="1371600"/>
            <a:chOff x="304920" y="1104840"/>
            <a:chExt cx="1828800" cy="1371600"/>
          </a:xfrm>
        </p:grpSpPr>
        <p:sp>
          <p:nvSpPr>
            <p:cNvPr id="506" name="Rectangle 53"/>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507" name="Rectangle 55"/>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508" name="Line 66"/>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67"/>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Line 68"/>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Line 69"/>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Line 70"/>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Text Box 72"/>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514" name="Text Box 73"/>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515" name="Text Box 74"/>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5A8D-A8A1-459C-A456-06DCAA1ECB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136160"/>
            <a:ext cx="7772400" cy="5353920"/>
          </a:xfrm>
          <a:prstGeom prst="rect">
            <a:avLst/>
          </a:prstGeom>
          <a:noFill/>
          <a:ln w="0">
            <a:noFill/>
          </a:ln>
        </p:spPr>
        <p:txBody>
          <a:bodyPr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EFB7-C99E-4B35-A0E5-8D406A073F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0" name="Rectangle 9"/>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10"/>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685440" y="759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524" name="Text Box 5"/>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525" name="Text Box 6"/>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26" name="Text Box 7"/>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527" name="AutoShape 12"/>
          <p:cNvSpPr/>
          <p:nvPr/>
        </p:nvSpPr>
        <p:spPr>
          <a:xfrm>
            <a:off x="4419720" y="2362320"/>
            <a:ext cx="761760" cy="609480"/>
          </a:xfrm>
          <a:custGeom>
            <a:avLst/>
            <a:gdLst>
              <a:gd name="textAreaLeft" fmla="*/ 111600 w 761760"/>
              <a:gd name="textAreaRight" fmla="*/ 650160 w 761760"/>
              <a:gd name="textAreaTop" fmla="*/ 89280 h 609480"/>
              <a:gd name="textAreaBottom" fmla="*/ 52020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utoShape 13"/>
          <p:cNvSpPr/>
          <p:nvPr/>
        </p:nvSpPr>
        <p:spPr>
          <a:xfrm>
            <a:off x="6095880" y="3505320"/>
            <a:ext cx="762120" cy="609480"/>
          </a:xfrm>
          <a:custGeom>
            <a:avLst/>
            <a:gdLst>
              <a:gd name="textAreaLeft" fmla="*/ 111600 w 762120"/>
              <a:gd name="textAreaRight" fmla="*/ 650520 w 762120"/>
              <a:gd name="textAreaTop" fmla="*/ 89280 h 609480"/>
              <a:gd name="textAreaBottom" fmla="*/ 520200 h 6094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B5A2-0D9F-4FD0-8135-76E88DC0C1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0" name="PlaceHolder 1"/>
          <p:cNvSpPr>
            <a:spLocks noGrp="1"/>
          </p:cNvSpPr>
          <p:nvPr>
            <p:ph type="title"/>
          </p:nvPr>
        </p:nvSpPr>
        <p:spPr>
          <a:xfrm>
            <a:off x="718920" y="318600"/>
            <a:ext cx="7916760" cy="9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531" name="PlaceHolder 2"/>
          <p:cNvSpPr>
            <a:spLocks noGrp="1"/>
          </p:cNvSpPr>
          <p:nvPr>
            <p:ph/>
          </p:nvPr>
        </p:nvSpPr>
        <p:spPr>
          <a:xfrm>
            <a:off x="718920" y="1258560"/>
            <a:ext cx="8196120" cy="4678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17B88-77C3-4CDD-8367-7F573B2966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3" name="PlaceHolder 1"/>
          <p:cNvSpPr>
            <a:spLocks noGrp="1"/>
          </p:cNvSpPr>
          <p:nvPr>
            <p:ph type="title"/>
          </p:nvPr>
        </p:nvSpPr>
        <p:spPr>
          <a:xfrm>
            <a:off x="762120" y="56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34" name="PlaceHolder 2"/>
          <p:cNvSpPr>
            <a:spLocks noGrp="1"/>
          </p:cNvSpPr>
          <p:nvPr>
            <p:ph/>
          </p:nvPr>
        </p:nvSpPr>
        <p:spPr>
          <a:xfrm>
            <a:off x="533160" y="1143000"/>
            <a:ext cx="8458200" cy="54003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50F81-2DDD-476A-AF12-6166ACFC5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6" name="PlaceHolder 1"/>
          <p:cNvSpPr>
            <a:spLocks noGrp="1"/>
          </p:cNvSpPr>
          <p:nvPr>
            <p:ph type="title"/>
          </p:nvPr>
        </p:nvSpPr>
        <p:spPr>
          <a:xfrm>
            <a:off x="762120" y="56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37" name="Rectangle 5"/>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Rectangle 6"/>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Line 7"/>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Line 8"/>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Line 9"/>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Line 10"/>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Text Box 11"/>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44" name="Line 12"/>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Line 13"/>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Line 14"/>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Line 15"/>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Line 16"/>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Line 17"/>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18"/>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Arc 19"/>
          <p:cNvSpPr/>
          <p:nvPr/>
        </p:nvSpPr>
        <p:spPr>
          <a:xfrm flipV="1">
            <a:off x="4495680" y="2438280"/>
            <a:ext cx="914400" cy="1447920"/>
          </a:xfrm>
          <a:custGeom>
            <a:avLst/>
            <a:gdLst>
              <a:gd name="textAreaLeft" fmla="*/ 0 w 914400"/>
              <a:gd name="textAreaRight" fmla="*/ 914760 w 914400"/>
              <a:gd name="textAreaTop" fmla="*/ 360 h 1447920"/>
              <a:gd name="textAreaBottom" fmla="*/ 1448640 h 1447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2" name="Arc 20"/>
          <p:cNvSpPr/>
          <p:nvPr/>
        </p:nvSpPr>
        <p:spPr>
          <a:xfrm flipH="1" flipV="1">
            <a:off x="3885480" y="2590920"/>
            <a:ext cx="685800" cy="1295280"/>
          </a:xfrm>
          <a:custGeom>
            <a:avLst/>
            <a:gdLst>
              <a:gd name="textAreaLeft" fmla="*/ -360 w 685800"/>
              <a:gd name="textAreaRight" fmla="*/ 685800 w 685800"/>
              <a:gd name="textAreaTop" fmla="*/ 360 h 1295280"/>
              <a:gd name="textAreaBottom" fmla="*/ 1296000 h 1295280"/>
            </a:gdLst>
            <a:ahLst/>
            <a:rect l="textAreaLeft" t="textAreaTop" r="textAreaRight" b="textAreaBottom"/>
            <a:pathLst>
              <a:path fill="none" w="24280" h="21600">
                <a:moveTo>
                  <a:pt x="-1" y="166"/>
                </a:moveTo>
                <a:cubicBezTo>
                  <a:pt x="888" y="55"/>
                  <a:pt x="1784" y="-1"/>
                  <a:pt x="2680" y="0"/>
                </a:cubicBezTo>
                <a:cubicBezTo>
                  <a:pt x="14609" y="0"/>
                  <a:pt x="24280" y="9670"/>
                  <a:pt x="24280" y="21600"/>
                </a:cubicBezTo>
              </a:path>
              <a:path stroke="0" w="24280" h="21600">
                <a:moveTo>
                  <a:pt x="-1" y="166"/>
                </a:moveTo>
                <a:cubicBezTo>
                  <a:pt x="888" y="55"/>
                  <a:pt x="1784" y="-1"/>
                  <a:pt x="2680" y="0"/>
                </a:cubicBezTo>
                <a:cubicBezTo>
                  <a:pt x="14609" y="0"/>
                  <a:pt x="24280" y="9670"/>
                  <a:pt x="24280" y="21600"/>
                </a:cubicBezTo>
                <a:lnTo>
                  <a:pt x="2680" y="21600"/>
                </a:lnTo>
                <a:lnTo>
                  <a:pt x="-1" y="166"/>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Arc 21"/>
          <p:cNvSpPr/>
          <p:nvPr/>
        </p:nvSpPr>
        <p:spPr>
          <a:xfrm flipV="1">
            <a:off x="6553080" y="2361600"/>
            <a:ext cx="609840" cy="990360"/>
          </a:xfrm>
          <a:custGeom>
            <a:avLst/>
            <a:gdLst>
              <a:gd name="textAreaLeft" fmla="*/ 0 w 609840"/>
              <a:gd name="textAreaRight" fmla="*/ 610200 w 609840"/>
              <a:gd name="textAreaTop" fmla="*/ -360 h 990360"/>
              <a:gd name="textAreaBottom" fmla="*/ 99036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4" name="Arc 22"/>
          <p:cNvSpPr/>
          <p:nvPr/>
        </p:nvSpPr>
        <p:spPr>
          <a:xfrm flipH="1" flipV="1">
            <a:off x="5942880" y="2666160"/>
            <a:ext cx="609480" cy="685800"/>
          </a:xfrm>
          <a:custGeom>
            <a:avLst/>
            <a:gdLst>
              <a:gd name="textAreaLeft" fmla="*/ -360 w 609480"/>
              <a:gd name="textAreaRight" fmla="*/ 609480 w 60948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Arc 23"/>
          <p:cNvSpPr/>
          <p:nvPr/>
        </p:nvSpPr>
        <p:spPr>
          <a:xfrm flipV="1">
            <a:off x="8229600" y="2348640"/>
            <a:ext cx="685800" cy="868680"/>
          </a:xfrm>
          <a:custGeom>
            <a:avLst/>
            <a:gdLst>
              <a:gd name="textAreaLeft" fmla="*/ 0 w 685800"/>
              <a:gd name="textAreaRight" fmla="*/ 686160 w 685800"/>
              <a:gd name="textAreaTop" fmla="*/ -360 h 868680"/>
              <a:gd name="textAreaBottom" fmla="*/ 868680 h 868680"/>
            </a:gdLst>
            <a:ahLst/>
            <a:rect l="textAreaLeft" t="textAreaTop" r="textAreaRight" b="textAreaBottom"/>
            <a:pathLst>
              <a:path fill="none" w="21600" h="30787">
                <a:moveTo>
                  <a:pt x="-1" y="0"/>
                </a:moveTo>
                <a:cubicBezTo>
                  <a:pt x="11929" y="0"/>
                  <a:pt x="21600" y="9670"/>
                  <a:pt x="21600" y="21600"/>
                </a:cubicBezTo>
                <a:cubicBezTo>
                  <a:pt x="21600" y="24775"/>
                  <a:pt x="20899" y="27912"/>
                  <a:pt x="19548" y="30786"/>
                </a:cubicBezTo>
              </a:path>
              <a:path stroke="0" w="21600" h="30787">
                <a:moveTo>
                  <a:pt x="-1" y="0"/>
                </a:moveTo>
                <a:cubicBezTo>
                  <a:pt x="11929" y="0"/>
                  <a:pt x="21600" y="9670"/>
                  <a:pt x="21600" y="21600"/>
                </a:cubicBezTo>
                <a:cubicBezTo>
                  <a:pt x="21600" y="24775"/>
                  <a:pt x="20899" y="27912"/>
                  <a:pt x="19548" y="3078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Arc 24"/>
          <p:cNvSpPr/>
          <p:nvPr/>
        </p:nvSpPr>
        <p:spPr>
          <a:xfrm flipH="1" flipV="1">
            <a:off x="7620120" y="2609280"/>
            <a:ext cx="761760" cy="609480"/>
          </a:xfrm>
          <a:custGeom>
            <a:avLst/>
            <a:gdLst>
              <a:gd name="textAreaLeft" fmla="*/ 360 w 761760"/>
              <a:gd name="textAreaRight" fmla="*/ 762480 w 761760"/>
              <a:gd name="textAreaTop" fmla="*/ -360 h 609480"/>
              <a:gd name="textAreaBottom" fmla="*/ 609480 h 609480"/>
            </a:gdLst>
            <a:ahLst/>
            <a:rect l="textAreaLeft" t="textAreaTop" r="textAreaRight" b="textAreaBottom"/>
            <a:pathLst>
              <a:path fill="none" w="25712" h="21600">
                <a:moveTo>
                  <a:pt x="0" y="395"/>
                </a:moveTo>
                <a:cubicBezTo>
                  <a:pt x="1354" y="132"/>
                  <a:pt x="2731" y="-1"/>
                  <a:pt x="4112" y="0"/>
                </a:cubicBezTo>
                <a:cubicBezTo>
                  <a:pt x="16041" y="0"/>
                  <a:pt x="25712" y="9670"/>
                  <a:pt x="25712" y="21600"/>
                </a:cubicBezTo>
              </a:path>
              <a:path stroke="0" w="25712" h="21600">
                <a:moveTo>
                  <a:pt x="0" y="395"/>
                </a:moveTo>
                <a:cubicBezTo>
                  <a:pt x="1354" y="132"/>
                  <a:pt x="2731" y="-1"/>
                  <a:pt x="4112" y="0"/>
                </a:cubicBezTo>
                <a:cubicBezTo>
                  <a:pt x="16041" y="0"/>
                  <a:pt x="25712" y="9670"/>
                  <a:pt x="25712" y="21600"/>
                </a:cubicBezTo>
                <a:lnTo>
                  <a:pt x="4112" y="21600"/>
                </a:lnTo>
                <a:lnTo>
                  <a:pt x="0" y="395"/>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Arc 25"/>
          <p:cNvSpPr/>
          <p:nvPr/>
        </p:nvSpPr>
        <p:spPr>
          <a:xfrm flipV="1">
            <a:off x="3962520" y="2362320"/>
            <a:ext cx="761760" cy="1828800"/>
          </a:xfrm>
          <a:custGeom>
            <a:avLst/>
            <a:gdLst>
              <a:gd name="textAreaLeft" fmla="*/ 0 w 761760"/>
              <a:gd name="textAreaRight" fmla="*/ 762120 w 761760"/>
              <a:gd name="textAreaTop" fmla="*/ 360 h 1828800"/>
              <a:gd name="textAreaBottom" fmla="*/ 1829520 h 1828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Arc 26"/>
          <p:cNvSpPr/>
          <p:nvPr/>
        </p:nvSpPr>
        <p:spPr>
          <a:xfrm flipV="1">
            <a:off x="6172200" y="2514600"/>
            <a:ext cx="380880" cy="1752480"/>
          </a:xfrm>
          <a:custGeom>
            <a:avLst/>
            <a:gdLst>
              <a:gd name="textAreaLeft" fmla="*/ 0 w 380880"/>
              <a:gd name="textAreaRight" fmla="*/ 381240 w 380880"/>
              <a:gd name="textAreaTop" fmla="*/ 360 h 1752480"/>
              <a:gd name="textAreaBottom" fmla="*/ 1753200 h 17524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59" name="Arc 27"/>
          <p:cNvSpPr/>
          <p:nvPr/>
        </p:nvSpPr>
        <p:spPr>
          <a:xfrm flipV="1">
            <a:off x="7696080" y="2437560"/>
            <a:ext cx="685800" cy="1600200"/>
          </a:xfrm>
          <a:custGeom>
            <a:avLst/>
            <a:gdLst>
              <a:gd name="textAreaLeft" fmla="*/ 0 w 685800"/>
              <a:gd name="textAreaRight" fmla="*/ 686160 w 685800"/>
              <a:gd name="textAreaTop" fmla="*/ -360 h 1600200"/>
              <a:gd name="textAreaBottom" fmla="*/ 1600200 h 1600200"/>
            </a:gdLst>
            <a:ahLst/>
            <a:rect l="textAreaLeft" t="textAreaTop" r="textAreaRight" b="textAreaBottom"/>
            <a:pathLst>
              <a:path fill="none" w="21600" h="21907">
                <a:moveTo>
                  <a:pt x="-1" y="0"/>
                </a:moveTo>
                <a:cubicBezTo>
                  <a:pt x="11929" y="0"/>
                  <a:pt x="21600" y="9670"/>
                  <a:pt x="21600" y="21600"/>
                </a:cubicBezTo>
                <a:cubicBezTo>
                  <a:pt x="21600" y="21702"/>
                  <a:pt x="21599" y="21804"/>
                  <a:pt x="21597" y="21906"/>
                </a:cubicBezTo>
              </a:path>
              <a:path stroke="0" w="21600" h="21907">
                <a:moveTo>
                  <a:pt x="-1" y="0"/>
                </a:moveTo>
                <a:cubicBezTo>
                  <a:pt x="11929" y="0"/>
                  <a:pt x="21600" y="9670"/>
                  <a:pt x="21600" y="21600"/>
                </a:cubicBezTo>
                <a:cubicBezTo>
                  <a:pt x="21600" y="21702"/>
                  <a:pt x="21599" y="21804"/>
                  <a:pt x="21597" y="21906"/>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560" name="Text Box 28"/>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61" name="Text Box 29"/>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62" name="Text Box 30"/>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63" name="Text Box 31"/>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4" name="Text Box 32"/>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Text Box 33"/>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6" name="Text Box 34"/>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67" name="Text Box 35"/>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68" name="Text Box 36"/>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9" name="Text Box 37"/>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70" name="Text Box 38"/>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71" name="Text Box 39"/>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72" name="Line 40"/>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41"/>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42"/>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43"/>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44"/>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Text Box 45"/>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78" name="Text Box 46"/>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79" name="Text Box 47"/>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ACB4-3E7F-4983-86E2-4743A51DD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1" name="PlaceHolder 1"/>
          <p:cNvSpPr>
            <a:spLocks noGrp="1"/>
          </p:cNvSpPr>
          <p:nvPr>
            <p:ph type="title"/>
          </p:nvPr>
        </p:nvSpPr>
        <p:spPr>
          <a:xfrm>
            <a:off x="76212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82" name="Line 5"/>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Line 6"/>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Line 7"/>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Line 8"/>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Text Box 9"/>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87" name="Text Box 34"/>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88" name="Text Box 35"/>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89" name="Text Box 44"/>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90" name="Line 46"/>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Text Box 47"/>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92" name="Line 48"/>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49"/>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50"/>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51"/>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Text Box 52"/>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7" name="Text Box 53"/>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98" name="PlaceHolder 2"/>
          <p:cNvSpPr>
            <a:spLocks noGrp="1"/>
          </p:cNvSpPr>
          <p:nvPr>
            <p:ph/>
          </p:nvPr>
        </p:nvSpPr>
        <p:spPr>
          <a:xfrm>
            <a:off x="4952520" y="1599840"/>
            <a:ext cx="3886200" cy="28022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99" name="Line 55"/>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Text Box 56"/>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601" name="Text Box 57"/>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02" name="Line 58"/>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59"/>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60"/>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Rectangle 61"/>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34CB-31EB-4780-BC9B-9FB4886316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15DB-2A26-4E72-A61C-67588F68F2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608" name="Rectangle 5"/>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609" name="Rectangle 6"/>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610" name="Rectangle 7"/>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1" name="Rectangle 11"/>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2" name="Rectangle 13"/>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613" name="Line 15"/>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16"/>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7"/>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Line 18"/>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84C2-E8F7-4213-878D-79461D6A5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619" name="PlaceHolder 2"/>
          <p:cNvSpPr>
            <a:spLocks noGrp="1"/>
          </p:cNvSpPr>
          <p:nvPr>
            <p:ph/>
          </p:nvPr>
        </p:nvSpPr>
        <p:spPr>
          <a:xfrm>
            <a:off x="685800" y="1136520"/>
            <a:ext cx="7772400" cy="5307840"/>
          </a:xfrm>
          <a:prstGeom prst="rect">
            <a:avLst/>
          </a:prstGeom>
          <a:noFill/>
          <a:ln w="0">
            <a:noFill/>
          </a:ln>
        </p:spPr>
        <p:txBody>
          <a:bodyPr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2E6A-2A47-41C4-9DEF-A88CAF3EE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PlaceHolder 1"/>
          <p:cNvSpPr>
            <a:spLocks noGrp="1"/>
          </p:cNvSpPr>
          <p:nvPr>
            <p:ph type="title"/>
          </p:nvPr>
        </p:nvSpPr>
        <p:spPr>
          <a:xfrm>
            <a:off x="718920" y="76320"/>
            <a:ext cx="791676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622" name="AutoShape 3"/>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Line 4"/>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5"/>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6"/>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Line 7"/>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Line 8"/>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Line 9"/>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Line 10"/>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1"/>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Text Box 12"/>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632" name="Text Box 13"/>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633" name="Text Box 14"/>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634" name="Text Box 15"/>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635" name="Text Box 16"/>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636" name="Text Box 17"/>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637" name="Text Box 18"/>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638" name="Text Box 19"/>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639" name="Text Box 20"/>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640" name="Text Box 21"/>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41" name="Text Box 22"/>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42" name="PlaceHolder 2"/>
          <p:cNvSpPr>
            <a:spLocks noGrp="1"/>
          </p:cNvSpPr>
          <p:nvPr>
            <p:ph/>
          </p:nvPr>
        </p:nvSpPr>
        <p:spPr>
          <a:xfrm>
            <a:off x="685800" y="4343040"/>
            <a:ext cx="7772400" cy="2342160"/>
          </a:xfrm>
          <a:prstGeom prst="rect">
            <a:avLst/>
          </a:prstGeom>
          <a:noFill/>
          <a:ln w="0">
            <a:noFill/>
          </a:ln>
        </p:spPr>
        <p:txBody>
          <a:bodyPr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43" name="WordArt 24"/>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B23D6-95EF-4005-9660-BA45C0EA4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46" name="PlaceHolder 2"/>
          <p:cNvSpPr>
            <a:spLocks noGrp="1"/>
          </p:cNvSpPr>
          <p:nvPr>
            <p:ph/>
          </p:nvPr>
        </p:nvSpPr>
        <p:spPr>
          <a:xfrm>
            <a:off x="685800" y="17812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4327-54F7-4F1A-83C3-9E9150CBDD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44280"/>
            <a:ext cx="7772400" cy="4545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izza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lefón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A67F-A403-49C3-982B-2A54E447C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1"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52" name="PlaceHolder 2"/>
          <p:cNvSpPr>
            <a:spLocks noGrp="1"/>
          </p:cNvSpPr>
          <p:nvPr>
            <p:ph/>
          </p:nvPr>
        </p:nvSpPr>
        <p:spPr>
          <a:xfrm>
            <a:off x="685800" y="1752120"/>
            <a:ext cx="8153280" cy="44197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76923-93A8-42CE-91A4-4F7B9D403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4" name="PlaceHolder 1"/>
          <p:cNvSpPr>
            <a:spLocks noGrp="1"/>
          </p:cNvSpPr>
          <p:nvPr>
            <p:ph type="title"/>
          </p:nvPr>
        </p:nvSpPr>
        <p:spPr>
          <a:xfrm>
            <a:off x="685440" y="3805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55" name="PlaceHolder 2"/>
          <p:cNvSpPr>
            <a:spLocks noGrp="1"/>
          </p:cNvSpPr>
          <p:nvPr>
            <p:ph/>
          </p:nvPr>
        </p:nvSpPr>
        <p:spPr>
          <a:xfrm>
            <a:off x="685800" y="1980720"/>
            <a:ext cx="8153280" cy="44197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3D55E-E4FE-4A01-8282-4326DB13AD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58" name="PlaceHolder 2"/>
          <p:cNvSpPr>
            <a:spLocks noGrp="1"/>
          </p:cNvSpPr>
          <p:nvPr>
            <p:ph/>
          </p:nvPr>
        </p:nvSpPr>
        <p:spPr>
          <a:xfrm>
            <a:off x="685800" y="1371600"/>
            <a:ext cx="8153280" cy="49528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6203-D09A-4601-B4E9-E2169C51FA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0"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61" name="Object 5"/>
          <p:cNvGraphicFramePr/>
          <p:nvPr/>
        </p:nvGraphicFramePr>
        <p:xfrm>
          <a:off x="914400" y="977760"/>
          <a:ext cx="4162320" cy="5639040"/>
        </p:xfrm>
        <a:graphic>
          <a:graphicData uri="http://schemas.openxmlformats.org/presentationml/2006/ole">
            <p:oleObj progId="Excel.Sheet.12" r:id="rId1" spid="">
              <p:embed/>
              <p:pic>
                <p:nvPicPr>
                  <p:cNvPr id="662" name="Object 5" descr=""/>
                  <p:cNvPicPr/>
                  <p:nvPr/>
                </p:nvPicPr>
                <p:blipFill>
                  <a:blip r:embed="rId2"/>
                  <a:stretch/>
                </p:blipFill>
                <p:spPr>
                  <a:xfrm>
                    <a:off x="914400" y="977760"/>
                    <a:ext cx="4162320" cy="5639040"/>
                  </a:xfrm>
                  <a:prstGeom prst="rect">
                    <a:avLst/>
                  </a:prstGeom>
                  <a:ln w="0">
                    <a:noFill/>
                  </a:ln>
                </p:spPr>
              </p:pic>
            </p:oleObj>
          </a:graphicData>
        </a:graphic>
      </p:graphicFrame>
      <p:sp>
        <p:nvSpPr>
          <p:cNvPr id="663" name="Text Box 6"/>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C970D-FA8E-41B7-9BCD-DD17979761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5"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66" name="Oval 3"/>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Text Box 4"/>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68" name="Rectangle 5"/>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Text Box 6"/>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0" name="Rectangle 7"/>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Text Box 8"/>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2" name="Rectangle 9"/>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Text Box 10"/>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74" name="Rectangle 11"/>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12"/>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76" name="Line 13"/>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Line 14"/>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Line 15"/>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PlaceHolder 2"/>
          <p:cNvSpPr>
            <a:spLocks noGrp="1"/>
          </p:cNvSpPr>
          <p:nvPr>
            <p:ph/>
          </p:nvPr>
        </p:nvSpPr>
        <p:spPr>
          <a:xfrm>
            <a:off x="838080" y="4876560"/>
            <a:ext cx="7772400" cy="1600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C1D1-8DC6-4240-97B4-1A7BA2924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7" name="PlaceHolder 2"/>
          <p:cNvSpPr>
            <a:spLocks noGrp="1"/>
          </p:cNvSpPr>
          <p:nvPr>
            <p:ph/>
          </p:nvPr>
        </p:nvSpPr>
        <p:spPr>
          <a:xfrm>
            <a:off x="685440" y="907920"/>
            <a:ext cx="8458200" cy="55627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20 años se han producido transformaciones clav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es un referente importante (BA alta velocidad, voz móvil, voz sobre IP, convergencia de servicios, TV)</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los niveles de inversión en el rub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está llegando el momento de los datos, por fi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 con penetraciones superiores al 10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F427-B258-4BA7-8A94-4C7D95A432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83" name="Rectangle 3"/>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Text Box 4"/>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85" name="Rectangle 5"/>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Text Box 6"/>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87" name="Rectangle 7"/>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Text Box 8"/>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89" name="Rectangle 9"/>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Text Box 10"/>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91" name="Text Box 11"/>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92" name="Rectangle 12"/>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Text Box 13"/>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94" name="Rectangle 14"/>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Line 15"/>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16"/>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7"/>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18"/>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19"/>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20"/>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PlaceHolder 2"/>
          <p:cNvSpPr>
            <a:spLocks noGrp="1"/>
          </p:cNvSpPr>
          <p:nvPr>
            <p:ph/>
          </p:nvPr>
        </p:nvSpPr>
        <p:spPr>
          <a:xfrm>
            <a:off x="838080" y="3809880"/>
            <a:ext cx="7772400" cy="28958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768A-4A97-4648-9373-7008B5016C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3" name="PlaceHolder 1"/>
          <p:cNvSpPr>
            <a:spLocks noGrp="1"/>
          </p:cNvSpPr>
          <p:nvPr>
            <p:ph type="title"/>
          </p:nvPr>
        </p:nvSpPr>
        <p:spPr>
          <a:xfrm>
            <a:off x="6854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704" name="PlaceHolder 2"/>
          <p:cNvSpPr>
            <a:spLocks noGrp="1"/>
          </p:cNvSpPr>
          <p:nvPr>
            <p:ph/>
          </p:nvPr>
        </p:nvSpPr>
        <p:spPr>
          <a:xfrm>
            <a:off x="838080" y="1981080"/>
            <a:ext cx="77724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EC50-2A81-4540-B542-60A55EF2C0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6" name="PlaceHolder 1"/>
          <p:cNvSpPr>
            <a:spLocks noGrp="1"/>
          </p:cNvSpPr>
          <p:nvPr>
            <p:ph type="title"/>
          </p:nvPr>
        </p:nvSpPr>
        <p:spPr>
          <a:xfrm>
            <a:off x="685800" y="763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707" name="Group 3"/>
          <p:cNvGrpSpPr/>
          <p:nvPr/>
        </p:nvGrpSpPr>
        <p:grpSpPr>
          <a:xfrm>
            <a:off x="914400" y="1447920"/>
            <a:ext cx="3429000" cy="2743200"/>
            <a:chOff x="914400" y="1447920"/>
            <a:chExt cx="3429000" cy="2743200"/>
          </a:xfrm>
        </p:grpSpPr>
        <p:sp>
          <p:nvSpPr>
            <p:cNvPr id="708" name="Line 4"/>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Line 5"/>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Line 6"/>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1" name="Group 7"/>
          <p:cNvGrpSpPr/>
          <p:nvPr/>
        </p:nvGrpSpPr>
        <p:grpSpPr>
          <a:xfrm>
            <a:off x="5181480" y="1447920"/>
            <a:ext cx="3429000" cy="2743200"/>
            <a:chOff x="5181480" y="1447920"/>
            <a:chExt cx="3429000" cy="2743200"/>
          </a:xfrm>
        </p:grpSpPr>
        <p:sp>
          <p:nvSpPr>
            <p:cNvPr id="712" name="Line 8"/>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Line 9"/>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Arc 10"/>
          <p:cNvSpPr/>
          <p:nvPr/>
        </p:nvSpPr>
        <p:spPr>
          <a:xfrm rot="8683200">
            <a:off x="5714280" y="2057040"/>
            <a:ext cx="2133720" cy="1676520"/>
          </a:xfrm>
          <a:custGeom>
            <a:avLst/>
            <a:gdLst>
              <a:gd name="textAreaLeft" fmla="*/ 0 w 2133720"/>
              <a:gd name="textAreaRight" fmla="*/ 2134080 w 2133720"/>
              <a:gd name="textAreaTop" fmla="*/ 0 h 1676520"/>
              <a:gd name="textAreaBottom" fmla="*/ 1676880 h 1676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Text Box 11"/>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716" name="Text Box 12"/>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717" name="Text Box 13"/>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718" name="Line 14"/>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15"/>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16"/>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17"/>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Text Box 18"/>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723" name="Text Box 19"/>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724" name="Text Box 20"/>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25" name="Text Box 21"/>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26" name="Text Box 22"/>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27" name="Text Box 23"/>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28" name="Line 24"/>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25"/>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26"/>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27"/>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Text Box 28"/>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33" name="Text Box 29"/>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34" name="Text Box 30"/>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35" name="Text Box 31"/>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36" name="Line 32"/>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33"/>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34"/>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35"/>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Text Box 36"/>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741" name="Text Box 37"/>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742" name="Text Box 38"/>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743" name="Text Box 39"/>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744" name="PlaceHolder 2"/>
          <p:cNvSpPr>
            <a:spLocks noGrp="1"/>
          </p:cNvSpPr>
          <p:nvPr>
            <p:ph/>
          </p:nvPr>
        </p:nvSpPr>
        <p:spPr>
          <a:xfrm>
            <a:off x="838080" y="5029200"/>
            <a:ext cx="7772400" cy="175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5EA1-445F-4B5A-A70F-7C5B6CC90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747" name="PlaceHolder 2"/>
          <p:cNvSpPr>
            <a:spLocks noGrp="1"/>
          </p:cNvSpPr>
          <p:nvPr>
            <p:ph/>
          </p:nvPr>
        </p:nvSpPr>
        <p:spPr>
          <a:xfrm>
            <a:off x="685800" y="13716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0F2B-9A54-4EFA-9FEC-EBE33A85B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9" name="Line 2"/>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4"/>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5"/>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609480" y="1522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54" name="Rectangle 7"/>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55" name="Rectangle 8"/>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56" name="Rectangle 9"/>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57" name="Rectangle 10"/>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58" name="Line 11"/>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12"/>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13"/>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Line 14"/>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Line 15"/>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16"/>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Rectangle 17"/>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65" name="Rectangle 18"/>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66" name="Rectangle 19"/>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67" name="Rectangle 20"/>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68" name="Line 21"/>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22"/>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PlaceHolder 2"/>
          <p:cNvSpPr>
            <a:spLocks noGrp="1"/>
          </p:cNvSpPr>
          <p:nvPr>
            <p:ph/>
          </p:nvPr>
        </p:nvSpPr>
        <p:spPr>
          <a:xfrm>
            <a:off x="838080" y="4800600"/>
            <a:ext cx="7772400" cy="17524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1218-E91A-4281-BE5A-C8D0956D2E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2" name="PlaceHolder 1"/>
          <p:cNvSpPr>
            <a:spLocks noGrp="1"/>
          </p:cNvSpPr>
          <p:nvPr>
            <p:ph type="title"/>
          </p:nvPr>
        </p:nvSpPr>
        <p:spPr>
          <a:xfrm>
            <a:off x="685440" y="15192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73" name="Rectangle 3"/>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Line 4"/>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5"/>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Text Box 6"/>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77" name="Text Box 7"/>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78" name="Text Box 8"/>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79" name="Text Box 9"/>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80" name="PlaceHolder 2"/>
          <p:cNvSpPr>
            <a:spLocks noGrp="1"/>
          </p:cNvSpPr>
          <p:nvPr>
            <p:ph/>
          </p:nvPr>
        </p:nvSpPr>
        <p:spPr>
          <a:xfrm>
            <a:off x="838080" y="4952520"/>
            <a:ext cx="7772400" cy="17528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ED94-8D95-43F4-A3C2-C635573B7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447920"/>
            <a:ext cx="7772400" cy="4572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B6CE-ECD7-4712-BB49-7838019996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86" name="PlaceHolder 2"/>
          <p:cNvSpPr>
            <a:spLocks noGrp="1"/>
          </p:cNvSpPr>
          <p:nvPr>
            <p:ph/>
          </p:nvPr>
        </p:nvSpPr>
        <p:spPr>
          <a:xfrm>
            <a:off x="685800" y="2209680"/>
            <a:ext cx="7772400" cy="36576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372A-527D-4E92-8F53-D142AC9ADE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8"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1218960"/>
            <a:ext cx="8229600" cy="2057400"/>
          </a:xfrm>
          <a:prstGeom prst="rect">
            <a:avLst/>
          </a:prstGeom>
          <a:noFill/>
          <a:ln w="0">
            <a:noFill/>
          </a:ln>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90" name="Line 4"/>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5"/>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6"/>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7"/>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8"/>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9"/>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Text Box 10"/>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97" name="Text Box 11"/>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98" name="Text Box 12"/>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99" name="Text Box 13"/>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800" name="Text Box 14"/>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801" name="Line 15"/>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2" name="Rectangle 16"/>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FF69-0F44-4992-9F6B-CEEDE8BF55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805" name="PlaceHolder 2"/>
          <p:cNvSpPr>
            <a:spLocks noGrp="1"/>
          </p:cNvSpPr>
          <p:nvPr>
            <p:ph/>
          </p:nvPr>
        </p:nvSpPr>
        <p:spPr>
          <a:xfrm>
            <a:off x="838080" y="1828440"/>
            <a:ext cx="7772400" cy="609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806" name="Line 4"/>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Freeform 6"/>
          <p:cNvSpPr/>
          <p:nvPr/>
        </p:nvSpPr>
        <p:spPr>
          <a:xfrm>
            <a:off x="1989000" y="3367080"/>
            <a:ext cx="4988160" cy="2424240"/>
          </a:xfrm>
          <a:custGeom>
            <a:avLst/>
            <a:gdLst>
              <a:gd name="textAreaLeft" fmla="*/ 0 w 4988160"/>
              <a:gd name="textAreaRight" fmla="*/ 4988520 w 4988160"/>
              <a:gd name="textAreaTop" fmla="*/ 0 h 2424240"/>
              <a:gd name="textAreaBottom" fmla="*/ 2424600 h 2424240"/>
            </a:gdLst>
            <a:ahLst/>
            <a:rect l="textAreaLeft" t="textAreaTop" r="textAreaRight" b="textAreaBottom"/>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Text Box 7"/>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810" name="Text Box 8"/>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811" name="Text Box 9"/>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812" name="Text Box 10"/>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813" name="Text Box 11"/>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814" name="Text Box 12"/>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815" name="Line 13"/>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4"/>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5"/>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8BA8-B312-4159-88F4-593784C6EE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196640"/>
            <a:ext cx="8458200" cy="52282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DA4C-4EE3-42FA-80DC-429E1080C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PlaceHolder 1"/>
          <p:cNvSpPr>
            <a:spLocks noGrp="1"/>
          </p:cNvSpPr>
          <p:nvPr>
            <p:ph/>
          </p:nvPr>
        </p:nvSpPr>
        <p:spPr>
          <a:xfrm>
            <a:off x="685800" y="1828440"/>
            <a:ext cx="7772400" cy="44197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820" name="PlaceHolder 2"/>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F279E-8E74-4932-A677-8FFF34EE0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823" name="PlaceHolder 2"/>
          <p:cNvSpPr>
            <a:spLocks noGrp="1"/>
          </p:cNvSpPr>
          <p:nvPr>
            <p:ph/>
          </p:nvPr>
        </p:nvSpPr>
        <p:spPr>
          <a:xfrm>
            <a:off x="685800" y="1142640"/>
            <a:ext cx="8153280" cy="53341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2DAF-A19C-44D5-B155-CE1492103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826" name="PlaceHolder 2"/>
          <p:cNvSpPr>
            <a:spLocks noGrp="1"/>
          </p:cNvSpPr>
          <p:nvPr>
            <p:ph/>
          </p:nvPr>
        </p:nvSpPr>
        <p:spPr>
          <a:xfrm>
            <a:off x="685800" y="1828800"/>
            <a:ext cx="777240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827" name="Line 4"/>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2726-E12B-4E69-9971-FFA89617D2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830" name="Rectangle 1027"/>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Rectangle 1028"/>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Rectangle 1029"/>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Rectangle 1030"/>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Rectangle 1031"/>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Text Box 1032"/>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836" name="Text Box 1033"/>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837" name="Text Box 1034"/>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838" name="Text Box 1035"/>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839" name="Text Box 1036"/>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840" name="Line 1037"/>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038"/>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039"/>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040"/>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4B68D-EF6D-4434-B6AD-E44609D98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846"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AE03-D4D3-4A3C-A4B5-6294E36030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849" name="PlaceHolder 2"/>
          <p:cNvSpPr>
            <a:spLocks noGrp="1"/>
          </p:cNvSpPr>
          <p:nvPr>
            <p:ph/>
          </p:nvPr>
        </p:nvSpPr>
        <p:spPr>
          <a:xfrm>
            <a:off x="685800" y="1676160"/>
            <a:ext cx="7772400" cy="47242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8134-4A89-4AAA-AC36-4E08F1044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852" name="PlaceHolder 2"/>
          <p:cNvSpPr>
            <a:spLocks noGrp="1"/>
          </p:cNvSpPr>
          <p:nvPr>
            <p:ph/>
          </p:nvPr>
        </p:nvSpPr>
        <p:spPr>
          <a:xfrm>
            <a:off x="685800" y="1599840"/>
            <a:ext cx="7772400" cy="48006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5962-D9A3-4347-90ED-7D99EA1388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855"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DF55-7296-4420-88CD-B07F3D6E0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858" name="PlaceHolder 2"/>
          <p:cNvSpPr>
            <a:spLocks noGrp="1"/>
          </p:cNvSpPr>
          <p:nvPr>
            <p:ph/>
          </p:nvPr>
        </p:nvSpPr>
        <p:spPr>
          <a:xfrm>
            <a:off x="685800" y="1676520"/>
            <a:ext cx="7772400" cy="4876560"/>
          </a:xfrm>
          <a:prstGeom prst="rect">
            <a:avLst/>
          </a:prstGeom>
          <a:noFill/>
          <a:ln w="0">
            <a:noFill/>
          </a:ln>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ACFA-3D32-47F9-BDC8-B7CD6AC23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861" name="PlaceHolder 2"/>
          <p:cNvSpPr>
            <a:spLocks noGrp="1"/>
          </p:cNvSpPr>
          <p:nvPr>
            <p:ph/>
          </p:nvPr>
        </p:nvSpPr>
        <p:spPr>
          <a:xfrm>
            <a:off x="685800" y="1295280"/>
            <a:ext cx="7772400" cy="5029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2826-B335-4042-9370-7185858CF7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434600"/>
            <a:ext cx="8458200" cy="4372560"/>
          </a:xfrm>
          <a:prstGeom prst="rect">
            <a:avLst/>
          </a:prstGeom>
          <a:noFill/>
          <a:ln w="0">
            <a:noFill/>
          </a:ln>
        </p:spPr>
        <p:txBody>
          <a:bodyPr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F28D-8EB4-436F-8DC7-D83068093F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864" name="Rectangle 3"/>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Line 4"/>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5"/>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Text Box 6"/>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68" name="Text Box 7"/>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69" name="Text Box 8"/>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70" name="Text Box 9"/>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71" name="Text Box 10"/>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72" name="Text Box 11"/>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73" name="Text Box 12"/>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74" name="Text Box 13"/>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75" name="Text Box 14"/>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76" name="Text Box 15"/>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77" name="Text Box 16"/>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EB48-A9F8-467D-854D-53D7B6FC7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80" name="Object 0"/>
          <p:cNvGraphicFramePr/>
          <p:nvPr/>
        </p:nvGraphicFramePr>
        <p:xfrm>
          <a:off x="304920" y="1828800"/>
          <a:ext cx="8610480" cy="2149560"/>
        </p:xfrm>
        <a:graphic>
          <a:graphicData uri="http://schemas.openxmlformats.org/presentationml/2006/ole">
            <p:oleObj progId="Excel.Sheet.12" r:id="rId1" spid="">
              <p:embed/>
              <p:pic>
                <p:nvPicPr>
                  <p:cNvPr id="881" name="Object 0" descr=""/>
                  <p:cNvPicPr/>
                  <p:nvPr/>
                </p:nvPicPr>
                <p:blipFill>
                  <a:blip r:embed="rId2"/>
                  <a:stretch/>
                </p:blipFill>
                <p:spPr>
                  <a:xfrm>
                    <a:off x="304920" y="1828800"/>
                    <a:ext cx="8610480" cy="2149560"/>
                  </a:xfrm>
                  <a:prstGeom prst="rect">
                    <a:avLst/>
                  </a:prstGeom>
                  <a:ln w="0">
                    <a:noFill/>
                  </a:ln>
                </p:spPr>
              </p:pic>
            </p:oleObj>
          </a:graphicData>
        </a:graphic>
      </p:graphicFrame>
      <p:sp>
        <p:nvSpPr>
          <p:cNvPr id="882" name="Rectangle 4"/>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Text Box 5"/>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40587-E408-4FB3-9171-7C0DE5D125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76" name="PlaceHolder 2"/>
          <p:cNvSpPr>
            <a:spLocks noGrp="1"/>
          </p:cNvSpPr>
          <p:nvPr>
            <p:ph/>
          </p:nvPr>
        </p:nvSpPr>
        <p:spPr>
          <a:xfrm>
            <a:off x="609120" y="1142640"/>
            <a:ext cx="8458200" cy="55940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8A38-9A48-4434-9934-D64A9CD396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9" name="PlaceHolder 2"/>
          <p:cNvSpPr>
            <a:spLocks noGrp="1"/>
          </p:cNvSpPr>
          <p:nvPr>
            <p:ph/>
          </p:nvPr>
        </p:nvSpPr>
        <p:spPr>
          <a:xfrm>
            <a:off x="609120" y="1066680"/>
            <a:ext cx="8458200" cy="55954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inicia en Chile un segmento incipiente para Alta Velocida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 la Banda Ancha Móvil como acceso complement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Usuario</cp:lastModifiedBy>
  <dcterms:modified xsi:type="dcterms:W3CDTF">2011-10-25T17:03:31Z</dcterms:modified>
  <cp:revision>71</cp:revision>
  <dc:subject/>
  <dc:title>Gestión de Empresas de Telecomunicaciones</dc:title>
</cp:coreProperties>
</file>