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ECB91E-7A8E-4FA1-8BFC-2392A1D0F8B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8574466-60A8-4518-800F-3816E173E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A83CE43-A216-468C-B249-6FA11DCD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DF3AA4E-35DB-4A7F-A53A-D1F501A111A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A364EDD-3AA1-4707-B596-217DB0776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BB76B7B-A12F-43BE-A3D8-A26CD5B5C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5E49C45-026C-4CDD-8D8D-419B01E41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962E3CC-55B1-4B51-9677-07A6ADF7F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E016471-D269-4D20-A58F-F452E4A16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FF687A8-ADDB-490F-AF3D-9A8370C23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80E509-4528-4D4D-A3FF-50FE112A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523A5EF-C676-4FB0-B053-ADFBF20185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8D64-80B1-4D92-B0C4-A9C4CC445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11</a:t>
            </a:r>
            <a:endParaRPr b="0" lang="en-US" sz="2400" spc="-1" strike="noStrike">
              <a:solidFill>
                <a:srgbClr val="000000"/>
              </a:solidFill>
              <a:latin typeface="Times New Roman"/>
            </a:endParaRPr>
          </a:p>
        </p:txBody>
      </p:sp>
      <p:grpSp>
        <p:nvGrpSpPr>
          <p:cNvPr id="42" name="Group 11"/>
          <p:cNvGrpSpPr/>
          <p:nvPr/>
        </p:nvGrpSpPr>
        <p:grpSpPr>
          <a:xfrm>
            <a:off x="1714680" y="3254400"/>
            <a:ext cx="5715000" cy="350640"/>
            <a:chOff x="1714680" y="3254400"/>
            <a:chExt cx="5715000" cy="350640"/>
          </a:xfrm>
        </p:grpSpPr>
        <p:sp>
          <p:nvSpPr>
            <p:cNvPr id="43" name="Rectangle 4"/>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 name="Group 10"/>
            <p:cNvGrpSpPr/>
            <p:nvPr/>
          </p:nvGrpSpPr>
          <p:grpSpPr>
            <a:xfrm>
              <a:off x="1714680" y="3254400"/>
              <a:ext cx="4379760" cy="350640"/>
              <a:chOff x="1714680" y="3254400"/>
              <a:chExt cx="4379760" cy="350640"/>
            </a:xfrm>
          </p:grpSpPr>
          <p:sp>
            <p:nvSpPr>
              <p:cNvPr id="45" name="Rectangle 5"/>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9"/>
              <p:cNvGrpSpPr/>
              <p:nvPr/>
            </p:nvGrpSpPr>
            <p:grpSpPr>
              <a:xfrm>
                <a:off x="1714680" y="3254400"/>
                <a:ext cx="4379760" cy="350640"/>
                <a:chOff x="1714680" y="3254400"/>
                <a:chExt cx="4379760" cy="350640"/>
              </a:xfrm>
            </p:grpSpPr>
            <p:sp>
              <p:nvSpPr>
                <p:cNvPr id="47" name="Rectangle 6"/>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Group 27"/>
          <p:cNvGrpSpPr/>
          <p:nvPr/>
        </p:nvGrpSpPr>
        <p:grpSpPr>
          <a:xfrm>
            <a:off x="1714680" y="3254400"/>
            <a:ext cx="5715000" cy="350640"/>
            <a:chOff x="1714680" y="3254400"/>
            <a:chExt cx="5715000" cy="350640"/>
          </a:xfrm>
        </p:grpSpPr>
        <p:sp>
          <p:nvSpPr>
            <p:cNvPr id="50" name="Rectangle 20"/>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26"/>
            <p:cNvGrpSpPr/>
            <p:nvPr/>
          </p:nvGrpSpPr>
          <p:grpSpPr>
            <a:xfrm>
              <a:off x="1714680" y="3254400"/>
              <a:ext cx="4379760" cy="350640"/>
              <a:chOff x="1714680" y="3254400"/>
              <a:chExt cx="4379760" cy="350640"/>
            </a:xfrm>
          </p:grpSpPr>
          <p:sp>
            <p:nvSpPr>
              <p:cNvPr id="52" name="Rectangle 21"/>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Group 25"/>
              <p:cNvGrpSpPr/>
              <p:nvPr/>
            </p:nvGrpSpPr>
            <p:grpSpPr>
              <a:xfrm>
                <a:off x="1714680" y="3254400"/>
                <a:ext cx="4379760" cy="350640"/>
                <a:chOff x="1714680" y="3254400"/>
                <a:chExt cx="4379760" cy="350640"/>
              </a:xfrm>
            </p:grpSpPr>
            <p:sp>
              <p:nvSpPr>
                <p:cNvPr id="54" name="Rectangle 22"/>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3"/>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C9E6-503A-46F2-8B1E-0D7137CBB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82" name="PlaceHolder 2"/>
          <p:cNvSpPr>
            <a:spLocks noGrp="1"/>
          </p:cNvSpPr>
          <p:nvPr>
            <p:ph/>
          </p:nvPr>
        </p:nvSpPr>
        <p:spPr>
          <a:xfrm>
            <a:off x="609120" y="1219320"/>
            <a:ext cx="8458200" cy="2225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83" name="Text Box 4"/>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59B3-D29A-4834-A8B5-9C8BC35D4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Rectangle 8"/>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7"/>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8" name="PlaceHolder 2"/>
          <p:cNvSpPr>
            <a:spLocks noGrp="1"/>
          </p:cNvSpPr>
          <p:nvPr>
            <p:ph/>
          </p:nvPr>
        </p:nvSpPr>
        <p:spPr>
          <a:xfrm>
            <a:off x="533160" y="1422360"/>
            <a:ext cx="8458200" cy="1631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9" name="Text Box 5"/>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90" name="Text Box 6"/>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28A2-B1CD-42C8-95BB-49311F782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2804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94" name="Rectangle 8"/>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0"/>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96" name="Text Box 11"/>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7" name="Oval 12"/>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3"/>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CE4F-BB32-4821-95D9-A532E433C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1" name="PlaceHolder 2"/>
          <p:cNvSpPr>
            <a:spLocks noGrp="1"/>
          </p:cNvSpPr>
          <p:nvPr>
            <p:ph/>
          </p:nvPr>
        </p:nvSpPr>
        <p:spPr>
          <a:xfrm>
            <a:off x="533160" y="1294920"/>
            <a:ext cx="8458200" cy="5333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5404-3291-4CA9-B536-14FF490BE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4" name="PlaceHolder 2"/>
          <p:cNvSpPr>
            <a:spLocks noGrp="1"/>
          </p:cNvSpPr>
          <p:nvPr>
            <p:ph/>
          </p:nvPr>
        </p:nvSpPr>
        <p:spPr>
          <a:xfrm>
            <a:off x="533160" y="1295280"/>
            <a:ext cx="8458200" cy="52585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A9F0-7BC0-4F03-BBF8-CE1283EBE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Rectangle 2"/>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107" name="Rectangle 4"/>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108" name="Text Box 5"/>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1D3C-426A-4475-AD3A-12278D481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Rectangle 2"/>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6"/>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7"/>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8"/>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9"/>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0"/>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17" name="Text Box 11"/>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18" name="Line 12"/>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3"/>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4"/>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5"/>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6"/>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7"/>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8"/>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Arc 19"/>
          <p:cNvSpPr/>
          <p:nvPr/>
        </p:nvSpPr>
        <p:spPr>
          <a:xfrm flipV="1">
            <a:off x="4829040" y="3657600"/>
            <a:ext cx="990720" cy="1447920"/>
          </a:xfrm>
          <a:custGeom>
            <a:avLst/>
            <a:gdLst>
              <a:gd name="textAreaLeft" fmla="*/ 0 w 990720"/>
              <a:gd name="textAreaRight" fmla="*/ 991080 w 99072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6" name="Arc 20"/>
          <p:cNvSpPr/>
          <p:nvPr/>
        </p:nvSpPr>
        <p:spPr>
          <a:xfrm flipH="1" flipV="1">
            <a:off x="3990960" y="3809160"/>
            <a:ext cx="914400" cy="1295640"/>
          </a:xfrm>
          <a:custGeom>
            <a:avLst/>
            <a:gdLst>
              <a:gd name="textAreaLeft" fmla="*/ 360 w 914400"/>
              <a:gd name="textAreaRight" fmla="*/ 915120 w 914400"/>
              <a:gd name="textAreaTop" fmla="*/ -360 h 1295640"/>
              <a:gd name="textAreaBottom" fmla="*/ 1295640 h 129564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21"/>
          <p:cNvSpPr/>
          <p:nvPr/>
        </p:nvSpPr>
        <p:spPr>
          <a:xfrm flipV="1">
            <a:off x="6734160" y="3657600"/>
            <a:ext cx="609480" cy="990720"/>
          </a:xfrm>
          <a:custGeom>
            <a:avLst/>
            <a:gdLst>
              <a:gd name="textAreaLeft" fmla="*/ 0 w 609480"/>
              <a:gd name="textAreaRight" fmla="*/ 609840 w 609480"/>
              <a:gd name="textAreaTop" fmla="*/ 360 h 990720"/>
              <a:gd name="textAreaBottom" fmla="*/ 99144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8" name="Arc 22"/>
          <p:cNvSpPr/>
          <p:nvPr/>
        </p:nvSpPr>
        <p:spPr>
          <a:xfrm flipH="1" flipV="1">
            <a:off x="6048360" y="396180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Arc 23"/>
          <p:cNvSpPr/>
          <p:nvPr/>
        </p:nvSpPr>
        <p:spPr>
          <a:xfrm flipV="1">
            <a:off x="7877160" y="383148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Arc 24"/>
          <p:cNvSpPr/>
          <p:nvPr/>
        </p:nvSpPr>
        <p:spPr>
          <a:xfrm flipH="1" flipV="1">
            <a:off x="7722360" y="388476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25"/>
          <p:cNvSpPr/>
          <p:nvPr/>
        </p:nvSpPr>
        <p:spPr>
          <a:xfrm flipV="1">
            <a:off x="4371840" y="358128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26"/>
          <p:cNvSpPr/>
          <p:nvPr/>
        </p:nvSpPr>
        <p:spPr>
          <a:xfrm flipV="1">
            <a:off x="6124680" y="3733200"/>
            <a:ext cx="914400" cy="1447560"/>
          </a:xfrm>
          <a:custGeom>
            <a:avLst/>
            <a:gdLst>
              <a:gd name="textAreaLeft" fmla="*/ 0 w 914400"/>
              <a:gd name="textAreaRight" fmla="*/ 914760 w 914400"/>
              <a:gd name="textAreaTop" fmla="*/ -360 h 1447560"/>
              <a:gd name="textAreaBottom" fmla="*/ 1447560 h 144756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3" name="Arc 27"/>
          <p:cNvSpPr/>
          <p:nvPr/>
        </p:nvSpPr>
        <p:spPr>
          <a:xfrm flipV="1">
            <a:off x="7648560" y="3733200"/>
            <a:ext cx="457200" cy="1447560"/>
          </a:xfrm>
          <a:custGeom>
            <a:avLst/>
            <a:gdLst>
              <a:gd name="textAreaLeft" fmla="*/ 0 w 457200"/>
              <a:gd name="textAreaRight" fmla="*/ 457560 w 457200"/>
              <a:gd name="textAreaTop" fmla="*/ -360 h 1447560"/>
              <a:gd name="textAreaBottom" fmla="*/ 1447560 h 144756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4" name="Text Box 28"/>
          <p:cNvSpPr/>
          <p:nvPr/>
        </p:nvSpPr>
        <p:spPr>
          <a:xfrm>
            <a:off x="3862440" y="56055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135" name="Text Box 29"/>
          <p:cNvSpPr/>
          <p:nvPr/>
        </p:nvSpPr>
        <p:spPr>
          <a:xfrm>
            <a:off x="5853240" y="560556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136" name="Text Box 30"/>
          <p:cNvSpPr/>
          <p:nvPr/>
        </p:nvSpPr>
        <p:spPr>
          <a:xfrm>
            <a:off x="7451640" y="560556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
        <p:nvSpPr>
          <p:cNvPr id="137" name="Text Box 31"/>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8" name="Text Box 32"/>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33"/>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0" name="Text Box 34"/>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1" name="Text Box 35"/>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2" name="Text Box 36"/>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43" name="Text Box 37"/>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44" name="Text Box 38"/>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5" name="Text Box 39"/>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6" name="Line 40"/>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41"/>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42"/>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3"/>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44"/>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51" name="Rectangle 45"/>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46"/>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47"/>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48"/>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49"/>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50"/>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58" name="Rectangle 52"/>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59" name="Line 53"/>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Text Box 54"/>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61" name="Text Box 55"/>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C6FB-014A-48E5-9A01-78BEFA4C0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Line 1027"/>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1028"/>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1029"/>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1030"/>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Text Box 1031"/>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68" name="Text Box 1032"/>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69" name="Line 1033"/>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034"/>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035"/>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36"/>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037"/>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038"/>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1039"/>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Arc 1040"/>
          <p:cNvSpPr/>
          <p:nvPr/>
        </p:nvSpPr>
        <p:spPr>
          <a:xfrm flipV="1">
            <a:off x="4952880" y="4190400"/>
            <a:ext cx="990720" cy="1447560"/>
          </a:xfrm>
          <a:custGeom>
            <a:avLst/>
            <a:gdLst>
              <a:gd name="textAreaLeft" fmla="*/ 0 w 990720"/>
              <a:gd name="textAreaRight" fmla="*/ 991080 w 99072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7" name="Arc 1041"/>
          <p:cNvSpPr/>
          <p:nvPr/>
        </p:nvSpPr>
        <p:spPr>
          <a:xfrm flipH="1" flipV="1">
            <a:off x="4114800" y="434340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rc 1042"/>
          <p:cNvSpPr/>
          <p:nvPr/>
        </p:nvSpPr>
        <p:spPr>
          <a:xfrm flipV="1">
            <a:off x="6858000" y="4190400"/>
            <a:ext cx="609480" cy="990360"/>
          </a:xfrm>
          <a:custGeom>
            <a:avLst/>
            <a:gdLst>
              <a:gd name="textAreaLeft" fmla="*/ 0 w 609480"/>
              <a:gd name="textAreaRight" fmla="*/ 609840 w 60948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9" name="Arc 1043"/>
          <p:cNvSpPr/>
          <p:nvPr/>
        </p:nvSpPr>
        <p:spPr>
          <a:xfrm flipH="1" flipV="1">
            <a:off x="6172200" y="44949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044"/>
          <p:cNvSpPr/>
          <p:nvPr/>
        </p:nvSpPr>
        <p:spPr>
          <a:xfrm flipV="1">
            <a:off x="8001000" y="4342680"/>
            <a:ext cx="533520" cy="617400"/>
          </a:xfrm>
          <a:custGeom>
            <a:avLst/>
            <a:gdLst>
              <a:gd name="textAreaLeft" fmla="*/ 0 w 533520"/>
              <a:gd name="textAreaRight" fmla="*/ 533880 w 533520"/>
              <a:gd name="textAreaTop" fmla="*/ -360 h 617400"/>
              <a:gd name="textAreaBottom" fmla="*/ 617400 h 617400"/>
            </a:gdLst>
            <a:ahLst/>
            <a:rect l="textAreaLeft" t="textAreaTop" r="textAreaRight" b="textAreaBottom"/>
            <a:pathLst>
              <a:path fill="none" w="21600" h="21868">
                <a:moveTo>
                  <a:pt x="8172" y="-1"/>
                </a:moveTo>
                <a:cubicBezTo>
                  <a:pt x="16293" y="3318"/>
                  <a:pt x="21600" y="11220"/>
                  <a:pt x="21600" y="19994"/>
                </a:cubicBezTo>
                <a:cubicBezTo>
                  <a:pt x="21600" y="20619"/>
                  <a:pt x="21572" y="21244"/>
                  <a:pt x="21518" y="21867"/>
                </a:cubicBezTo>
              </a:path>
              <a:path stroke="0" w="21600" h="21868">
                <a:moveTo>
                  <a:pt x="8172" y="-1"/>
                </a:moveTo>
                <a:cubicBezTo>
                  <a:pt x="16293" y="3318"/>
                  <a:pt x="21600" y="11220"/>
                  <a:pt x="21600" y="19994"/>
                </a:cubicBezTo>
                <a:cubicBezTo>
                  <a:pt x="21600" y="20619"/>
                  <a:pt x="21572" y="21244"/>
                  <a:pt x="21518" y="21867"/>
                </a:cubicBezTo>
                <a:lnTo>
                  <a:pt x="0" y="19994"/>
                </a:lnTo>
                <a:lnTo>
                  <a:pt x="817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045"/>
          <p:cNvSpPr/>
          <p:nvPr/>
        </p:nvSpPr>
        <p:spPr>
          <a:xfrm flipH="1" flipV="1">
            <a:off x="7848000" y="441972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046"/>
          <p:cNvSpPr/>
          <p:nvPr/>
        </p:nvSpPr>
        <p:spPr>
          <a:xfrm flipV="1">
            <a:off x="4495680" y="411480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4" h="21600">
                <a:moveTo>
                  <a:pt x="-1" y="0"/>
                </a:moveTo>
                <a:cubicBezTo>
                  <a:pt x="11445" y="0"/>
                  <a:pt x="20903" y="8927"/>
                  <a:pt x="21564" y="20353"/>
                </a:cubicBezTo>
              </a:path>
              <a:path stroke="0" w="21564" h="21600">
                <a:moveTo>
                  <a:pt x="-1" y="0"/>
                </a:moveTo>
                <a:cubicBezTo>
                  <a:pt x="11445" y="0"/>
                  <a:pt x="20903" y="8927"/>
                  <a:pt x="21564" y="2035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Arc 1047"/>
          <p:cNvSpPr/>
          <p:nvPr/>
        </p:nvSpPr>
        <p:spPr>
          <a:xfrm flipV="1">
            <a:off x="6248520" y="4190400"/>
            <a:ext cx="838080" cy="1523880"/>
          </a:xfrm>
          <a:custGeom>
            <a:avLst/>
            <a:gdLst>
              <a:gd name="textAreaLeft" fmla="*/ 0 w 838080"/>
              <a:gd name="textAreaRight" fmla="*/ 838440 w 838080"/>
              <a:gd name="textAreaTop" fmla="*/ -360 h 1523880"/>
              <a:gd name="textAreaBottom" fmla="*/ 1523880 h 1523880"/>
            </a:gdLst>
            <a:ahLst/>
            <a:rect l="textAreaLeft" t="textAreaTop" r="textAreaRight" b="textAreaBottom"/>
            <a:pathLst>
              <a:path fill="none" w="21589" h="20994">
                <a:moveTo>
                  <a:pt x="5081" y="0"/>
                </a:moveTo>
                <a:cubicBezTo>
                  <a:pt x="14528" y="2286"/>
                  <a:pt x="21283" y="10600"/>
                  <a:pt x="21589" y="20314"/>
                </a:cubicBezTo>
              </a:path>
              <a:path stroke="0" w="21589" h="20994">
                <a:moveTo>
                  <a:pt x="5081" y="0"/>
                </a:moveTo>
                <a:cubicBezTo>
                  <a:pt x="14528" y="2286"/>
                  <a:pt x="21283" y="10600"/>
                  <a:pt x="21589" y="2031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4" name="Arc 1048"/>
          <p:cNvSpPr/>
          <p:nvPr/>
        </p:nvSpPr>
        <p:spPr>
          <a:xfrm flipV="1">
            <a:off x="7772400" y="4267080"/>
            <a:ext cx="457200" cy="1447920"/>
          </a:xfrm>
          <a:custGeom>
            <a:avLst/>
            <a:gdLst>
              <a:gd name="textAreaLeft" fmla="*/ 0 w 457200"/>
              <a:gd name="textAreaRight" fmla="*/ 457560 w 457200"/>
              <a:gd name="textAreaTop" fmla="*/ 360 h 1447920"/>
              <a:gd name="textAreaBottom" fmla="*/ 1448640 h 144792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5" name="Text Box 1052"/>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6" name="Text Box 1053"/>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054"/>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8" name="Text Box 1055"/>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9" name="Text Box 1056"/>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0" name="Text Box 1057"/>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91" name="Text Box 1058"/>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92" name="Text Box 1059"/>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3" name="Text Box 1060"/>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4" name="Line 1061"/>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062"/>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63"/>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064"/>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066"/>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067"/>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068"/>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069"/>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070"/>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Text Box 1071"/>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72"/>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73"/>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1074"/>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07" name="Text Box 1075"/>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08" name="Rectangle 1076"/>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1080"/>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Text Box 1081"/>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11" name="Rectangle 1082"/>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12" name="Rectangle 1084"/>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13" name="Text Box 1085"/>
          <p:cNvSpPr/>
          <p:nvPr/>
        </p:nvSpPr>
        <p:spPr>
          <a:xfrm>
            <a:off x="3862440" y="6127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214" name="Text Box 1086"/>
          <p:cNvSpPr/>
          <p:nvPr/>
        </p:nvSpPr>
        <p:spPr>
          <a:xfrm>
            <a:off x="5853240" y="612792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215" name="Text Box 1087"/>
          <p:cNvSpPr/>
          <p:nvPr/>
        </p:nvSpPr>
        <p:spPr>
          <a:xfrm>
            <a:off x="7451640" y="612792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A5D2-BA99-4C1C-8389-94495654D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19" name="Line 5"/>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6"/>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7"/>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8"/>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9"/>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24" name="Text Box 10"/>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25" name="Line 11"/>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12"/>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3"/>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4"/>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5"/>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6"/>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7"/>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Arc 18"/>
          <p:cNvSpPr/>
          <p:nvPr/>
        </p:nvSpPr>
        <p:spPr>
          <a:xfrm flipV="1">
            <a:off x="4876920" y="3809880"/>
            <a:ext cx="990360" cy="1447920"/>
          </a:xfrm>
          <a:custGeom>
            <a:avLst/>
            <a:gdLst>
              <a:gd name="textAreaLeft" fmla="*/ 0 w 990360"/>
              <a:gd name="textAreaRight" fmla="*/ 990720 w 99036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3" name="Arc 19"/>
          <p:cNvSpPr/>
          <p:nvPr/>
        </p:nvSpPr>
        <p:spPr>
          <a:xfrm flipH="1" flipV="1">
            <a:off x="4038480" y="396252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rc 20"/>
          <p:cNvSpPr/>
          <p:nvPr/>
        </p:nvSpPr>
        <p:spPr>
          <a:xfrm flipV="1">
            <a:off x="6781680" y="3809160"/>
            <a:ext cx="609840" cy="685800"/>
          </a:xfrm>
          <a:custGeom>
            <a:avLst/>
            <a:gdLst>
              <a:gd name="textAreaLeft" fmla="*/ 0 w 609840"/>
              <a:gd name="textAreaRight" fmla="*/ 610200 w 60984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5" name="Arc 21"/>
          <p:cNvSpPr/>
          <p:nvPr/>
        </p:nvSpPr>
        <p:spPr>
          <a:xfrm flipH="1" flipV="1">
            <a:off x="6095880" y="38091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rc 22"/>
          <p:cNvSpPr/>
          <p:nvPr/>
        </p:nvSpPr>
        <p:spPr>
          <a:xfrm flipV="1">
            <a:off x="7924680" y="373320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Arc 23"/>
          <p:cNvSpPr/>
          <p:nvPr/>
        </p:nvSpPr>
        <p:spPr>
          <a:xfrm flipH="1" flipV="1">
            <a:off x="7619400" y="388620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Arc 24"/>
          <p:cNvSpPr/>
          <p:nvPr/>
        </p:nvSpPr>
        <p:spPr>
          <a:xfrm flipV="1">
            <a:off x="4419720" y="3733920"/>
            <a:ext cx="760320" cy="1828800"/>
          </a:xfrm>
          <a:custGeom>
            <a:avLst/>
            <a:gdLst>
              <a:gd name="textAreaLeft" fmla="*/ 0 w 760320"/>
              <a:gd name="textAreaRight" fmla="*/ 760680 w 76032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Arc 25"/>
          <p:cNvSpPr/>
          <p:nvPr/>
        </p:nvSpPr>
        <p:spPr>
          <a:xfrm flipV="1">
            <a:off x="5943600" y="38098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0" name="Arc 26"/>
          <p:cNvSpPr/>
          <p:nvPr/>
        </p:nvSpPr>
        <p:spPr>
          <a:xfrm flipV="1">
            <a:off x="7543800" y="3886200"/>
            <a:ext cx="457200" cy="1393920"/>
          </a:xfrm>
          <a:custGeom>
            <a:avLst/>
            <a:gdLst>
              <a:gd name="textAreaLeft" fmla="*/ 0 w 457200"/>
              <a:gd name="textAreaRight" fmla="*/ 457560 w 457200"/>
              <a:gd name="textAreaTop" fmla="*/ 360 h 1393920"/>
              <a:gd name="textAreaBottom" fmla="*/ 1394640 h 1393920"/>
            </a:gdLst>
            <a:ahLst/>
            <a:rect l="textAreaLeft" t="textAreaTop" r="textAreaRight" b="textAreaBottom"/>
            <a:pathLst>
              <a:path fill="none" w="21600" h="21083">
                <a:moveTo>
                  <a:pt x="5908" y="-1"/>
                </a:moveTo>
                <a:cubicBezTo>
                  <a:pt x="15193" y="2640"/>
                  <a:pt x="21600" y="11122"/>
                  <a:pt x="21600" y="20776"/>
                </a:cubicBezTo>
                <a:cubicBezTo>
                  <a:pt x="21600" y="20878"/>
                  <a:pt x="21599" y="20980"/>
                  <a:pt x="21597" y="21082"/>
                </a:cubicBezTo>
              </a:path>
              <a:path stroke="0" w="21600" h="21083">
                <a:moveTo>
                  <a:pt x="5908" y="-1"/>
                </a:moveTo>
                <a:cubicBezTo>
                  <a:pt x="15193" y="2640"/>
                  <a:pt x="21600" y="11122"/>
                  <a:pt x="21600" y="20776"/>
                </a:cubicBezTo>
                <a:cubicBezTo>
                  <a:pt x="21600" y="20878"/>
                  <a:pt x="21599" y="20980"/>
                  <a:pt x="21597" y="21082"/>
                </a:cubicBezTo>
                <a:lnTo>
                  <a:pt x="0" y="20776"/>
                </a:lnTo>
                <a:lnTo>
                  <a:pt x="5908" y="-1"/>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1" name="Text Box 28"/>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42" name="Text Box 29"/>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43" name="Text Box 30"/>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4" name="Text Box 31"/>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32"/>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6" name="Text Box 33"/>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7" name="Text Box 34"/>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8" name="Text Box 35"/>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49" name="Text Box 36"/>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50" name="Text Box 37"/>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1" name="Text Box 38"/>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2" name="Line 39"/>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40"/>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41"/>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Text Box 42"/>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56" name="Line 43"/>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44"/>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45"/>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46"/>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47"/>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48"/>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49"/>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0"/>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65" name="Text Box 52"/>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420E-24D1-432B-A90C-3EF41AE87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Text Box 5"/>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68" name="Line 7"/>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8"/>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9"/>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0"/>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2"/>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Text Box 13"/>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75" name="Text Box 14"/>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76" name="Text Box 15"/>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77" name="Arc 16"/>
          <p:cNvSpPr/>
          <p:nvPr/>
        </p:nvSpPr>
        <p:spPr>
          <a:xfrm flipV="1">
            <a:off x="1509840" y="35665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17"/>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79" name="Text Box 18"/>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0" name="Text Box 19"/>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1" name="Line 20"/>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21"/>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3" name="Line 22"/>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23"/>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 name="Freeform 25"/>
          <p:cNvSpPr/>
          <p:nvPr/>
        </p:nvSpPr>
        <p:spPr>
          <a:xfrm>
            <a:off x="1692360" y="41767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Text Box 26"/>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87" name="Rectangle 27"/>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88" name="Line 29"/>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30"/>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102D-DA85-43BE-A30E-2657ED490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752120"/>
            <a:ext cx="80773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40852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mtorrest@gmail.c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C2FE-85B4-4068-A739-02E98F3CBC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Text Box 5"/>
          <p:cNvSpPr/>
          <p:nvPr/>
        </p:nvSpPr>
        <p:spPr>
          <a:xfrm>
            <a:off x="291960" y="1219320"/>
            <a:ext cx="85471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0 mm de líneas fijas, pero 16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depende fuertemente de la estimación de costos medios y del CCPP o tasa de descuento de los activos</a:t>
            </a:r>
            <a:endParaRPr b="0" lang="en-US" sz="2400" spc="-1" strike="noStrike">
              <a:solidFill>
                <a:srgbClr val="000000"/>
              </a:solidFill>
              <a:latin typeface="Times New Roman"/>
            </a:endParaRPr>
          </a:p>
        </p:txBody>
      </p:sp>
      <p:sp>
        <p:nvSpPr>
          <p:cNvPr id="292" name="Line 7"/>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8"/>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9"/>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10"/>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1"/>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12"/>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Text Box 13"/>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99" name="Text Box 14"/>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300" name="Text Box 15"/>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301" name="Arc 16"/>
          <p:cNvSpPr/>
          <p:nvPr/>
        </p:nvSpPr>
        <p:spPr>
          <a:xfrm flipV="1">
            <a:off x="1405080" y="37681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17"/>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303" name="Text Box 18"/>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4" name="Text Box 19"/>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5" name="Line 20"/>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Line 21"/>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Line 22"/>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Line 23"/>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Text Box 24"/>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5"/>
          <p:cNvSpPr/>
          <p:nvPr/>
        </p:nvSpPr>
        <p:spPr>
          <a:xfrm>
            <a:off x="1587600" y="43783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26"/>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312" name="Text Box 27"/>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313" name="Object 28"/>
          <p:cNvGraphicFramePr/>
          <p:nvPr/>
        </p:nvGraphicFramePr>
        <p:xfrm>
          <a:off x="4267080" y="3562200"/>
          <a:ext cx="4648320" cy="857520"/>
        </p:xfrm>
        <a:graphic>
          <a:graphicData uri="http://schemas.openxmlformats.org/presentationml/2006/ole">
            <p:oleObj progId="Excel.Sheet.12" r:id="rId1" spid="">
              <p:embed/>
              <p:pic>
                <p:nvPicPr>
                  <p:cNvPr id="314" name="Object 28" descr=""/>
                  <p:cNvPicPr/>
                  <p:nvPr/>
                </p:nvPicPr>
                <p:blipFill>
                  <a:blip r:embed="rId2"/>
                  <a:stretch/>
                </p:blipFill>
                <p:spPr>
                  <a:xfrm>
                    <a:off x="4267080" y="3562200"/>
                    <a:ext cx="46483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D016-FB90-4C76-BAD3-BC2C140D6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Text Box 5"/>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 sino que más bien hace bajar los ingresos</a:t>
            </a:r>
            <a:endParaRPr b="0" lang="en-US" sz="2400" spc="-1" strike="noStrike">
              <a:solidFill>
                <a:srgbClr val="000000"/>
              </a:solidFill>
              <a:latin typeface="Times New Roman"/>
            </a:endParaRPr>
          </a:p>
        </p:txBody>
      </p:sp>
      <p:sp>
        <p:nvSpPr>
          <p:cNvPr id="317" name="Line 6"/>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7"/>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8"/>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9"/>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10"/>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22" name="Text Box 11"/>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23" name="Text Box 12"/>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24" name="Line 13"/>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Rectangle 14"/>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26" name="Text Box 16"/>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F8EB-C591-4A25-8D43-33C9276F3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Text Box 6"/>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Por qué???</a:t>
            </a:r>
            <a:endParaRPr b="0" lang="en-US" sz="2400" spc="-1" strike="noStrike">
              <a:solidFill>
                <a:srgbClr val="000000"/>
              </a:solidFill>
              <a:latin typeface="Times New Roman"/>
            </a:endParaRPr>
          </a:p>
        </p:txBody>
      </p:sp>
      <p:sp>
        <p:nvSpPr>
          <p:cNvPr id="329" name="Line 7"/>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Line 8"/>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Line 9"/>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Text Box 10"/>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33" name="Line 11"/>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Text Box 12"/>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5" name="Line 13"/>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Text Box 14"/>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7" name="Line 15"/>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Text Box 16"/>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Line 17"/>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Text Box 18"/>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1" name="Line 19"/>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20"/>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21"/>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22"/>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Arc 23"/>
          <p:cNvSpPr/>
          <p:nvPr/>
        </p:nvSpPr>
        <p:spPr>
          <a:xfrm flipV="1">
            <a:off x="5105520" y="4023720"/>
            <a:ext cx="1066680" cy="1447560"/>
          </a:xfrm>
          <a:custGeom>
            <a:avLst/>
            <a:gdLst>
              <a:gd name="textAreaLeft" fmla="*/ 0 w 1066680"/>
              <a:gd name="textAreaRight" fmla="*/ 1067040 w 106668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rc 24"/>
          <p:cNvSpPr/>
          <p:nvPr/>
        </p:nvSpPr>
        <p:spPr>
          <a:xfrm flipH="1" flipV="1">
            <a:off x="4266360" y="4100400"/>
            <a:ext cx="838440" cy="1371600"/>
          </a:xfrm>
          <a:custGeom>
            <a:avLst/>
            <a:gdLst>
              <a:gd name="textAreaLeft" fmla="*/ -360 w 838440"/>
              <a:gd name="textAreaRight" fmla="*/ 838440 w 838440"/>
              <a:gd name="textAreaTop" fmla="*/ 360 h 1371600"/>
              <a:gd name="textAreaBottom" fmla="*/ 137232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Text Box 25"/>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48" name="Arc 26"/>
          <p:cNvSpPr/>
          <p:nvPr/>
        </p:nvSpPr>
        <p:spPr>
          <a:xfrm flipV="1">
            <a:off x="5181480" y="3642480"/>
            <a:ext cx="533520" cy="1143000"/>
          </a:xfrm>
          <a:custGeom>
            <a:avLst/>
            <a:gdLst>
              <a:gd name="textAreaLeft" fmla="*/ 0 w 533520"/>
              <a:gd name="textAreaRight" fmla="*/ 533880 w 53352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rc 27"/>
          <p:cNvSpPr/>
          <p:nvPr/>
        </p:nvSpPr>
        <p:spPr>
          <a:xfrm flipH="1" flipV="1">
            <a:off x="4494960" y="3642480"/>
            <a:ext cx="685800" cy="1143000"/>
          </a:xfrm>
          <a:custGeom>
            <a:avLst/>
            <a:gdLst>
              <a:gd name="textAreaLeft" fmla="*/ -360 w 685800"/>
              <a:gd name="textAreaRight" fmla="*/ 685800 w 68580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Text Box 28"/>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51" name="Arc 29"/>
          <p:cNvSpPr/>
          <p:nvPr/>
        </p:nvSpPr>
        <p:spPr>
          <a:xfrm flipV="1">
            <a:off x="7848720" y="3642480"/>
            <a:ext cx="685800" cy="1219320"/>
          </a:xfrm>
          <a:custGeom>
            <a:avLst/>
            <a:gdLst>
              <a:gd name="textAreaLeft" fmla="*/ 0 w 685800"/>
              <a:gd name="textAreaRight" fmla="*/ 686160 w 68580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rc 30"/>
          <p:cNvSpPr/>
          <p:nvPr/>
        </p:nvSpPr>
        <p:spPr>
          <a:xfrm flipH="1" flipV="1">
            <a:off x="7238880" y="3642480"/>
            <a:ext cx="609840" cy="1219320"/>
          </a:xfrm>
          <a:custGeom>
            <a:avLst/>
            <a:gdLst>
              <a:gd name="textAreaLeft" fmla="*/ 360 w 609840"/>
              <a:gd name="textAreaRight" fmla="*/ 610560 w 60984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31"/>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54" name="Text Box 32"/>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55" name="Text Box 33"/>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56" name="Rectangle 35"/>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8441-DA4A-45D7-A31B-28BAC233B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Text Box 5"/>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59" name="Line 6"/>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7"/>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8"/>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0"/>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1"/>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64" name="Line 12"/>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Text Box 13"/>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66" name="Line 14"/>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Text Box 15"/>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68" name="Text Box 16"/>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69" name="Freeform 17"/>
          <p:cNvSpPr/>
          <p:nvPr/>
        </p:nvSpPr>
        <p:spPr>
          <a:xfrm>
            <a:off x="1143000" y="3429000"/>
            <a:ext cx="2971800" cy="2222640"/>
          </a:xfrm>
          <a:custGeom>
            <a:avLst/>
            <a:gdLst>
              <a:gd name="textAreaLeft" fmla="*/ 0 w 2971800"/>
              <a:gd name="textAreaRight" fmla="*/ 2972160 w 2971800"/>
              <a:gd name="textAreaTop" fmla="*/ 0 h 2222640"/>
              <a:gd name="textAreaBottom" fmla="*/ 2223000 h 2222640"/>
            </a:gdLst>
            <a:ahLst/>
            <a:rect l="textAreaLeft" t="textAreaTop" r="textAreaRight" b="textAreaBottom"/>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Line 18"/>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Line 19"/>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20"/>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21"/>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Text Box 22"/>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75" name="Text Box 23"/>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6" name="Text Box 24"/>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77" name="Text Box 25"/>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78" name="Rectangle 27"/>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79" name="Text Box 28"/>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80" name="Text Box 29"/>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81" name="Text Box 30"/>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300E-3075-4199-AECF-2BB244FB7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84"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escala,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 Apple, Google, Amazon,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Apple en PCs, Porsche,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a:t>
            </a:r>
            <a:r>
              <a:rPr b="0" lang="es-CL" sz="2400" spc="-1" strike="noStrike" u="sng">
                <a:solidFill>
                  <a:srgbClr val="000000"/>
                </a:solidFill>
                <a:uFillTx/>
                <a:latin typeface="Times New Roman"/>
              </a:rPr>
              <a:t>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76C8-F2CB-4CF1-9694-6A6325839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762120" y="95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87" name="PlaceHolder 2"/>
          <p:cNvSpPr>
            <a:spLocks noGrp="1"/>
          </p:cNvSpPr>
          <p:nvPr>
            <p:ph/>
          </p:nvPr>
        </p:nvSpPr>
        <p:spPr>
          <a:xfrm>
            <a:off x="533160" y="1295280"/>
            <a:ext cx="8458200" cy="56041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88" name="Text Box 4"/>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4334-6056-4775-A21C-63F0F06B2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Line 28"/>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29"/>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26"/>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25"/>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23"/>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76212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96" name="Oval 5"/>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6"/>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7"/>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8"/>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9"/>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10"/>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11"/>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12"/>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13"/>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14"/>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406" name="Text Box 15"/>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407" name="Text Box 16"/>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408" name="Text Box 17"/>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409" name="Text Box 18"/>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410" name="Text Box 19"/>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411" name="Text Box 20"/>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412" name="Text Box 21"/>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413" name="Text Box 22"/>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414" name="Line 24"/>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27"/>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30"/>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417" name="Text Box 32"/>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418" name="AutoShape 33"/>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34"/>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35"/>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21" name="AutoShape 36"/>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Text Box 37"/>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7591-B86D-4D6F-9CAC-07B69DD78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25" name="PlaceHolder 2"/>
          <p:cNvSpPr>
            <a:spLocks noGrp="1"/>
          </p:cNvSpPr>
          <p:nvPr>
            <p:ph/>
          </p:nvPr>
        </p:nvSpPr>
        <p:spPr>
          <a:xfrm>
            <a:off x="533160" y="1143000"/>
            <a:ext cx="8458200" cy="55303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368A-8F76-4CB3-9900-962351073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7" name="PlaceHolder 1"/>
          <p:cNvSpPr>
            <a:spLocks noGrp="1"/>
          </p:cNvSpPr>
          <p:nvPr>
            <p:ph/>
          </p:nvPr>
        </p:nvSpPr>
        <p:spPr>
          <a:xfrm>
            <a:off x="533160" y="990360"/>
            <a:ext cx="8458200" cy="575424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28" name="AutoShape 4"/>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5"/>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6"/>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7"/>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PlaceHolder 2"/>
          <p:cNvSpPr>
            <a:spLocks noGrp="1"/>
          </p:cNvSpPr>
          <p:nvPr>
            <p:ph type="title"/>
          </p:nvPr>
        </p:nvSpPr>
        <p:spPr>
          <a:xfrm>
            <a:off x="761760" y="-194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D9E0-8726-469D-B0DD-9482C7D6B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219320"/>
            <a:ext cx="7772400" cy="5586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36" name="AutoShape 5"/>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6"/>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B3E7-B8E0-4085-BD1A-1056BC3D1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23520"/>
            <a:ext cx="807732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1B47-0BDD-472C-B0D4-CEC904D68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761760" y="-576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095120"/>
            <a:ext cx="7772400" cy="2566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41" name="Oval 6"/>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42" name="Oval 7"/>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43" name="Oval 8"/>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44" name="Oval 9"/>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45" name="Text Box 15"/>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46" name="AutoShape 16"/>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AutoShape 17"/>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18"/>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19"/>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WordArt 20"/>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6D08-6A78-4FFB-8E9F-59FABE6F1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54" name="Picture 9" descr="PE02097_"/>
          <p:cNvPicPr/>
          <p:nvPr/>
        </p:nvPicPr>
        <p:blipFill>
          <a:blip r:embed="rId1"/>
          <a:stretch/>
        </p:blipFill>
        <p:spPr>
          <a:xfrm>
            <a:off x="3657600" y="4575240"/>
            <a:ext cx="2282760" cy="1825560"/>
          </a:xfrm>
          <a:prstGeom prst="rect">
            <a:avLst/>
          </a:prstGeom>
          <a:ln w="0">
            <a:noFill/>
          </a:ln>
        </p:spPr>
      </p:pic>
      <p:sp>
        <p:nvSpPr>
          <p:cNvPr id="455" name="WordArt 10"/>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BDDA-3E36-451E-A52D-A2470B5B7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58" name="AutoShape 7"/>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AutoShape 8"/>
          <p:cNvSpPr/>
          <p:nvPr/>
        </p:nvSpPr>
        <p:spPr>
          <a:xfrm flipV="1">
            <a:off x="2552760" y="4286160"/>
            <a:ext cx="4648320" cy="990720"/>
          </a:xfrm>
          <a:custGeom>
            <a:avLst/>
            <a:gdLst>
              <a:gd name="textAreaLeft" fmla="*/ 722880 w 4648320"/>
              <a:gd name="textAreaRight" fmla="*/ 3925440 w 4648320"/>
              <a:gd name="textAreaTop" fmla="*/ 154080 h 990720"/>
              <a:gd name="textAreaBottom" fmla="*/ 836640 h 990720"/>
            </a:gdLst>
            <a:ahLst/>
            <a:rect l="textAreaLeft" t="textAreaTop" r="textAreaRight" b="textAreaBottom"/>
            <a:pathLst>
              <a:path w="21600" h="21600">
                <a:moveTo>
                  <a:pt x="0" y="0"/>
                </a:moveTo>
                <a:lnTo>
                  <a:pt x="3120" y="21600"/>
                </a:lnTo>
                <a:lnTo>
                  <a:pt x="18480" y="21600"/>
                </a:lnTo>
                <a:lnTo>
                  <a:pt x="21600" y="0"/>
                </a:lnTo>
                <a:lnTo>
                  <a:pt x="0" y="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460" name="Text Box 10"/>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61" name="Text Box 11"/>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62" name="Text Box 12"/>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63" name="Line 13"/>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4"/>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15"/>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17"/>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8"/>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22"/>
          <p:cNvGrpSpPr/>
          <p:nvPr/>
        </p:nvGrpSpPr>
        <p:grpSpPr>
          <a:xfrm>
            <a:off x="7086600" y="3371400"/>
            <a:ext cx="1371600" cy="1219680"/>
            <a:chOff x="7086600" y="3371400"/>
            <a:chExt cx="1371600" cy="1219680"/>
          </a:xfrm>
        </p:grpSpPr>
        <p:sp>
          <p:nvSpPr>
            <p:cNvPr id="469" name="Line 19"/>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0"/>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1"/>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Group 23"/>
          <p:cNvGrpSpPr/>
          <p:nvPr/>
        </p:nvGrpSpPr>
        <p:grpSpPr>
          <a:xfrm>
            <a:off x="7124760" y="1847520"/>
            <a:ext cx="1371600" cy="1219680"/>
            <a:chOff x="7124760" y="1847520"/>
            <a:chExt cx="1371600" cy="1219680"/>
          </a:xfrm>
        </p:grpSpPr>
        <p:sp>
          <p:nvSpPr>
            <p:cNvPr id="473" name="Line 24"/>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5"/>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27"/>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77" name="Text Box 28"/>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78" name="Text Box 29"/>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79" name="Text Box 30"/>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80" name="Text Box 31"/>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19B4-A608-41B2-9F5A-830EBFF61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Line 71"/>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63"/>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64"/>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65"/>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57"/>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Line 58"/>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59"/>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90" name="Rectangle 29"/>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91" name="Oval 30"/>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92" name="Rectangle 31"/>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93" name="Rectangle 32"/>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94" name="Rectangle 33"/>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95" name="Group 42"/>
          <p:cNvGrpSpPr/>
          <p:nvPr/>
        </p:nvGrpSpPr>
        <p:grpSpPr>
          <a:xfrm>
            <a:off x="2629080" y="2457360"/>
            <a:ext cx="1828800" cy="1600200"/>
            <a:chOff x="2629080" y="2457360"/>
            <a:chExt cx="1828800" cy="1600200"/>
          </a:xfrm>
        </p:grpSpPr>
        <p:sp>
          <p:nvSpPr>
            <p:cNvPr id="496" name="Rectangle 36"/>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97" name="Rectangle 37"/>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98" name="Rectangle 38"/>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99" name="Group 50"/>
          <p:cNvGrpSpPr/>
          <p:nvPr/>
        </p:nvGrpSpPr>
        <p:grpSpPr>
          <a:xfrm>
            <a:off x="4952880" y="1104840"/>
            <a:ext cx="1828800" cy="1067040"/>
            <a:chOff x="4952880" y="1104840"/>
            <a:chExt cx="1828800" cy="1067040"/>
          </a:xfrm>
        </p:grpSpPr>
        <p:sp>
          <p:nvSpPr>
            <p:cNvPr id="500" name="Rectangle 44"/>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501" name="Rectangle 47"/>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502" name="Group 51"/>
          <p:cNvGrpSpPr/>
          <p:nvPr/>
        </p:nvGrpSpPr>
        <p:grpSpPr>
          <a:xfrm>
            <a:off x="7010280" y="1104840"/>
            <a:ext cx="1828800" cy="1066680"/>
            <a:chOff x="7010280" y="1104840"/>
            <a:chExt cx="1828800" cy="1066680"/>
          </a:xfrm>
        </p:grpSpPr>
        <p:sp>
          <p:nvSpPr>
            <p:cNvPr id="503" name="Rectangle 48"/>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504" name="Rectangle 49"/>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505" name="Group 56"/>
          <p:cNvGrpSpPr/>
          <p:nvPr/>
        </p:nvGrpSpPr>
        <p:grpSpPr>
          <a:xfrm>
            <a:off x="304920" y="1104840"/>
            <a:ext cx="1828800" cy="1371600"/>
            <a:chOff x="304920" y="1104840"/>
            <a:chExt cx="1828800" cy="1371600"/>
          </a:xfrm>
        </p:grpSpPr>
        <p:sp>
          <p:nvSpPr>
            <p:cNvPr id="506" name="Rectangle 53"/>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507" name="Rectangle 55"/>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508" name="Line 66"/>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67"/>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68"/>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69"/>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70"/>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72"/>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514" name="Text Box 73"/>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515" name="Text Box 74"/>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A6FB-64AE-4E5D-A142-416828D1B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136160"/>
            <a:ext cx="7772400" cy="5353920"/>
          </a:xfrm>
          <a:prstGeom prst="rect">
            <a:avLst/>
          </a:prstGeom>
          <a:noFill/>
          <a:ln w="0">
            <a:noFill/>
          </a:ln>
        </p:spPr>
        <p:txBody>
          <a:bodyPr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0CA6-9B98-4411-B6BB-2300E2D30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Rectangle 9"/>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0"/>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524" name="Text Box 5"/>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525" name="Text Box 6"/>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26" name="Text Box 7"/>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527" name="AutoShape 12"/>
          <p:cNvSpPr/>
          <p:nvPr/>
        </p:nvSpPr>
        <p:spPr>
          <a:xfrm>
            <a:off x="4419720" y="2362320"/>
            <a:ext cx="761760" cy="609480"/>
          </a:xfrm>
          <a:custGeom>
            <a:avLst/>
            <a:gdLst>
              <a:gd name="textAreaLeft" fmla="*/ 111600 w 761760"/>
              <a:gd name="textAreaRight" fmla="*/ 650160 w 76176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utoShape 13"/>
          <p:cNvSpPr/>
          <p:nvPr/>
        </p:nvSpPr>
        <p:spPr>
          <a:xfrm>
            <a:off x="6095880" y="3505320"/>
            <a:ext cx="762120" cy="609480"/>
          </a:xfrm>
          <a:custGeom>
            <a:avLst/>
            <a:gdLst>
              <a:gd name="textAreaLeft" fmla="*/ 111600 w 762120"/>
              <a:gd name="textAreaRight" fmla="*/ 650520 w 76212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E243-74F1-460E-B8F0-515045D24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0" name="PlaceHolder 1"/>
          <p:cNvSpPr>
            <a:spLocks noGrp="1"/>
          </p:cNvSpPr>
          <p:nvPr>
            <p:ph type="title"/>
          </p:nvPr>
        </p:nvSpPr>
        <p:spPr>
          <a:xfrm>
            <a:off x="718920" y="318600"/>
            <a:ext cx="791676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31" name="PlaceHolder 2"/>
          <p:cNvSpPr>
            <a:spLocks noGrp="1"/>
          </p:cNvSpPr>
          <p:nvPr>
            <p:ph/>
          </p:nvPr>
        </p:nvSpPr>
        <p:spPr>
          <a:xfrm>
            <a:off x="718920" y="1258560"/>
            <a:ext cx="8196120" cy="4678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F850-49BC-410D-B8E2-A40C980FC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4" name="PlaceHolder 2"/>
          <p:cNvSpPr>
            <a:spLocks noGrp="1"/>
          </p:cNvSpPr>
          <p:nvPr>
            <p:ph/>
          </p:nvPr>
        </p:nvSpPr>
        <p:spPr>
          <a:xfrm>
            <a:off x="533160" y="1143000"/>
            <a:ext cx="8458200" cy="5400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5FEF-7618-4658-BB70-CB8F19560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6"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7" name="Rectangle 5"/>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6"/>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Line 7"/>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Line 8"/>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Line 9"/>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Line 10"/>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Text Box 11"/>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4" name="Line 12"/>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Line 13"/>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Line 14"/>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Line 15"/>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Line 16"/>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Line 17"/>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18"/>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Arc 19"/>
          <p:cNvSpPr/>
          <p:nvPr/>
        </p:nvSpPr>
        <p:spPr>
          <a:xfrm flipV="1">
            <a:off x="4495680" y="24382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2" name="Arc 20"/>
          <p:cNvSpPr/>
          <p:nvPr/>
        </p:nvSpPr>
        <p:spPr>
          <a:xfrm flipH="1" flipV="1">
            <a:off x="3885480" y="2590920"/>
            <a:ext cx="685800" cy="1295280"/>
          </a:xfrm>
          <a:custGeom>
            <a:avLst/>
            <a:gdLst>
              <a:gd name="textAreaLeft" fmla="*/ -360 w 685800"/>
              <a:gd name="textAreaRight" fmla="*/ 685800 w 6858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Arc 21"/>
          <p:cNvSpPr/>
          <p:nvPr/>
        </p:nvSpPr>
        <p:spPr>
          <a:xfrm flipV="1">
            <a:off x="6553080" y="2361600"/>
            <a:ext cx="609840" cy="990360"/>
          </a:xfrm>
          <a:custGeom>
            <a:avLst/>
            <a:gdLst>
              <a:gd name="textAreaLeft" fmla="*/ 0 w 609840"/>
              <a:gd name="textAreaRight" fmla="*/ 610200 w 60984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4" name="Arc 22"/>
          <p:cNvSpPr/>
          <p:nvPr/>
        </p:nvSpPr>
        <p:spPr>
          <a:xfrm flipH="1" flipV="1">
            <a:off x="5942880" y="2666160"/>
            <a:ext cx="609480" cy="685800"/>
          </a:xfrm>
          <a:custGeom>
            <a:avLst/>
            <a:gdLst>
              <a:gd name="textAreaLeft" fmla="*/ -360 w 609480"/>
              <a:gd name="textAreaRight" fmla="*/ 609480 w 60948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Arc 23"/>
          <p:cNvSpPr/>
          <p:nvPr/>
        </p:nvSpPr>
        <p:spPr>
          <a:xfrm flipV="1">
            <a:off x="8229600" y="2348640"/>
            <a:ext cx="685800" cy="868680"/>
          </a:xfrm>
          <a:custGeom>
            <a:avLst/>
            <a:gdLst>
              <a:gd name="textAreaLeft" fmla="*/ 0 w 685800"/>
              <a:gd name="textAreaRight" fmla="*/ 686160 w 685800"/>
              <a:gd name="textAreaTop" fmla="*/ -360 h 868680"/>
              <a:gd name="textAreaBottom" fmla="*/ 868680 h 868680"/>
            </a:gdLst>
            <a:ahLst/>
            <a:rect l="textAreaLeft" t="textAreaTop" r="textAreaRight" b="textAreaBottom"/>
            <a:pathLst>
              <a:path fill="none" w="21600" h="30787">
                <a:moveTo>
                  <a:pt x="-1" y="0"/>
                </a:moveTo>
                <a:cubicBezTo>
                  <a:pt x="11929" y="0"/>
                  <a:pt x="21600" y="9670"/>
                  <a:pt x="21600" y="21600"/>
                </a:cubicBezTo>
                <a:cubicBezTo>
                  <a:pt x="21600" y="24775"/>
                  <a:pt x="20899" y="27912"/>
                  <a:pt x="19548" y="30786"/>
                </a:cubicBezTo>
              </a:path>
              <a:path stroke="0" w="21600" h="30787">
                <a:moveTo>
                  <a:pt x="-1" y="0"/>
                </a:moveTo>
                <a:cubicBezTo>
                  <a:pt x="11929" y="0"/>
                  <a:pt x="21600" y="9670"/>
                  <a:pt x="21600" y="21600"/>
                </a:cubicBezTo>
                <a:cubicBezTo>
                  <a:pt x="21600" y="24775"/>
                  <a:pt x="20899" y="27912"/>
                  <a:pt x="19548" y="3078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Arc 24"/>
          <p:cNvSpPr/>
          <p:nvPr/>
        </p:nvSpPr>
        <p:spPr>
          <a:xfrm flipH="1" flipV="1">
            <a:off x="7620120" y="2609280"/>
            <a:ext cx="761760" cy="609480"/>
          </a:xfrm>
          <a:custGeom>
            <a:avLst/>
            <a:gdLst>
              <a:gd name="textAreaLeft" fmla="*/ 360 w 761760"/>
              <a:gd name="textAreaRight" fmla="*/ 762480 w 761760"/>
              <a:gd name="textAreaTop" fmla="*/ -360 h 609480"/>
              <a:gd name="textAreaBottom" fmla="*/ 609480 h 609480"/>
            </a:gdLst>
            <a:ahLst/>
            <a:rect l="textAreaLeft" t="textAreaTop" r="textAreaRight" b="textAreaBottom"/>
            <a:pathLst>
              <a:path fill="none" w="25712" h="21600">
                <a:moveTo>
                  <a:pt x="0" y="395"/>
                </a:moveTo>
                <a:cubicBezTo>
                  <a:pt x="1354" y="132"/>
                  <a:pt x="2731" y="-1"/>
                  <a:pt x="4112" y="0"/>
                </a:cubicBezTo>
                <a:cubicBezTo>
                  <a:pt x="16041" y="0"/>
                  <a:pt x="25712" y="9670"/>
                  <a:pt x="25712" y="21600"/>
                </a:cubicBezTo>
              </a:path>
              <a:path stroke="0" w="25712" h="21600">
                <a:moveTo>
                  <a:pt x="0" y="395"/>
                </a:moveTo>
                <a:cubicBezTo>
                  <a:pt x="1354" y="132"/>
                  <a:pt x="2731" y="-1"/>
                  <a:pt x="4112" y="0"/>
                </a:cubicBezTo>
                <a:cubicBezTo>
                  <a:pt x="16041" y="0"/>
                  <a:pt x="25712" y="9670"/>
                  <a:pt x="25712" y="21600"/>
                </a:cubicBezTo>
                <a:lnTo>
                  <a:pt x="4112" y="21600"/>
                </a:lnTo>
                <a:lnTo>
                  <a:pt x="0" y="395"/>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Arc 25"/>
          <p:cNvSpPr/>
          <p:nvPr/>
        </p:nvSpPr>
        <p:spPr>
          <a:xfrm flipV="1">
            <a:off x="3962520" y="2362320"/>
            <a:ext cx="761760" cy="1828800"/>
          </a:xfrm>
          <a:custGeom>
            <a:avLst/>
            <a:gdLst>
              <a:gd name="textAreaLeft" fmla="*/ 0 w 761760"/>
              <a:gd name="textAreaRight" fmla="*/ 762120 w 761760"/>
              <a:gd name="textAreaTop" fmla="*/ 360 h 1828800"/>
              <a:gd name="textAreaBottom" fmla="*/ 1829520 h 1828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Arc 26"/>
          <p:cNvSpPr/>
          <p:nvPr/>
        </p:nvSpPr>
        <p:spPr>
          <a:xfrm flipV="1">
            <a:off x="6172200" y="2514600"/>
            <a:ext cx="380880" cy="1752480"/>
          </a:xfrm>
          <a:custGeom>
            <a:avLst/>
            <a:gdLst>
              <a:gd name="textAreaLeft" fmla="*/ 0 w 380880"/>
              <a:gd name="textAreaRight" fmla="*/ 381240 w 380880"/>
              <a:gd name="textAreaTop" fmla="*/ 360 h 1752480"/>
              <a:gd name="textAreaBottom" fmla="*/ 1753200 h 1752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9" name="Arc 27"/>
          <p:cNvSpPr/>
          <p:nvPr/>
        </p:nvSpPr>
        <p:spPr>
          <a:xfrm flipV="1">
            <a:off x="7696080" y="2437560"/>
            <a:ext cx="685800" cy="1600200"/>
          </a:xfrm>
          <a:custGeom>
            <a:avLst/>
            <a:gdLst>
              <a:gd name="textAreaLeft" fmla="*/ 0 w 685800"/>
              <a:gd name="textAreaRight" fmla="*/ 686160 w 685800"/>
              <a:gd name="textAreaTop" fmla="*/ -360 h 1600200"/>
              <a:gd name="textAreaBottom" fmla="*/ 1600200 h 160020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60" name="Text Box 28"/>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61" name="Text Box 29"/>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62" name="Text Box 30"/>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63" name="Text Box 31"/>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4" name="Text Box 32"/>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33"/>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6" name="Text Box 34"/>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7" name="Text Box 35"/>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68" name="Text Box 36"/>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9" name="Text Box 37"/>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70" name="Text Box 38"/>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1" name="Text Box 39"/>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2" name="Line 40"/>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41"/>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42"/>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43"/>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44"/>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Text Box 45"/>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78" name="Text Box 46"/>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79" name="Text Box 47"/>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F2CF-D754-451E-891E-A77563046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7621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82" name="Line 5"/>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Line 6"/>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7"/>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8"/>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Text Box 9"/>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87" name="Text Box 34"/>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88" name="Text Box 35"/>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89" name="Text Box 44"/>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90" name="Line 46"/>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47"/>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2" name="Line 48"/>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49"/>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1"/>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Text Box 52"/>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7" name="Text Box 53"/>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8" name="PlaceHolder 2"/>
          <p:cNvSpPr>
            <a:spLocks noGrp="1"/>
          </p:cNvSpPr>
          <p:nvPr>
            <p:ph/>
          </p:nvPr>
        </p:nvSpPr>
        <p:spPr>
          <a:xfrm>
            <a:off x="4952520" y="1599840"/>
            <a:ext cx="3886200" cy="2802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99" name="Line 55"/>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Text Box 56"/>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601" name="Text Box 57"/>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2" name="Line 58"/>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59"/>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60"/>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61"/>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48BA-5F84-4671-8BFA-48AA74EF4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F1B4-909B-44EE-8F4B-987C28EF0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608" name="Rectangle 5"/>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609" name="Rectangle 6"/>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610" name="Rectangle 7"/>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1" name="Rectangle 11"/>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2" name="Rectangle 13"/>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3" name="Line 15"/>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6"/>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8"/>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BBD5-3751-469C-B978-CB52CA513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619" name="PlaceHolder 2"/>
          <p:cNvSpPr>
            <a:spLocks noGrp="1"/>
          </p:cNvSpPr>
          <p:nvPr>
            <p:ph/>
          </p:nvPr>
        </p:nvSpPr>
        <p:spPr>
          <a:xfrm>
            <a:off x="685800" y="1136520"/>
            <a:ext cx="7772400" cy="530784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4D21-CEF8-4125-8E94-872028E13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PlaceHolder 1"/>
          <p:cNvSpPr>
            <a:spLocks noGrp="1"/>
          </p:cNvSpPr>
          <p:nvPr>
            <p:ph type="title"/>
          </p:nvPr>
        </p:nvSpPr>
        <p:spPr>
          <a:xfrm>
            <a:off x="718920" y="76320"/>
            <a:ext cx="791676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622" name="AutoShape 3"/>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Line 4"/>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5"/>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6"/>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7"/>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8"/>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9"/>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0"/>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1"/>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12"/>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632" name="Text Box 13"/>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633" name="Text Box 14"/>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634" name="Text Box 15"/>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635" name="Text Box 16"/>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636" name="Text Box 17"/>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37" name="Text Box 18"/>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38" name="Text Box 19"/>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39" name="Text Box 20"/>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40" name="Text Box 21"/>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41" name="Text Box 22"/>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42" name="PlaceHolder 2"/>
          <p:cNvSpPr>
            <a:spLocks noGrp="1"/>
          </p:cNvSpPr>
          <p:nvPr>
            <p:ph/>
          </p:nvPr>
        </p:nvSpPr>
        <p:spPr>
          <a:xfrm>
            <a:off x="685800" y="4343040"/>
            <a:ext cx="7772400" cy="23421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43" name="WordArt 24"/>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7F00-5883-4608-830F-98FD57565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6" name="PlaceHolder 2"/>
          <p:cNvSpPr>
            <a:spLocks noGrp="1"/>
          </p:cNvSpPr>
          <p:nvPr>
            <p:ph/>
          </p:nvPr>
        </p:nvSpPr>
        <p:spPr>
          <a:xfrm>
            <a:off x="685800" y="1781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747A-7E26-4BE6-9055-38D50E015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44280"/>
            <a:ext cx="7772400" cy="4545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izza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lef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674D-8E06-4242-B914-0C602298A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2" name="PlaceHolder 2"/>
          <p:cNvSpPr>
            <a:spLocks noGrp="1"/>
          </p:cNvSpPr>
          <p:nvPr>
            <p:ph/>
          </p:nvPr>
        </p:nvSpPr>
        <p:spPr>
          <a:xfrm>
            <a:off x="685800" y="1752120"/>
            <a:ext cx="8153280" cy="4419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5B6A-65EA-4C5D-929C-E0B7785BA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PlaceHolder 1"/>
          <p:cNvSpPr>
            <a:spLocks noGrp="1"/>
          </p:cNvSpPr>
          <p:nvPr>
            <p:ph type="title"/>
          </p:nvPr>
        </p:nvSpPr>
        <p:spPr>
          <a:xfrm>
            <a:off x="6854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5" name="PlaceHolder 2"/>
          <p:cNvSpPr>
            <a:spLocks noGrp="1"/>
          </p:cNvSpPr>
          <p:nvPr>
            <p:ph/>
          </p:nvPr>
        </p:nvSpPr>
        <p:spPr>
          <a:xfrm>
            <a:off x="685800" y="1980720"/>
            <a:ext cx="8153280" cy="4419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8D56-2AB7-42F5-825B-FA6C7218F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371600"/>
            <a:ext cx="8153280" cy="49528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AECA-3C1B-49B2-9CDE-3EE33956B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61" name="Object 5"/>
          <p:cNvGraphicFramePr/>
          <p:nvPr/>
        </p:nvGraphicFramePr>
        <p:xfrm>
          <a:off x="914400" y="977760"/>
          <a:ext cx="4162320" cy="5639040"/>
        </p:xfrm>
        <a:graphic>
          <a:graphicData uri="http://schemas.openxmlformats.org/presentationml/2006/ole">
            <p:oleObj progId="Excel.Sheet.12" r:id="rId1" spid="">
              <p:embed/>
              <p:pic>
                <p:nvPicPr>
                  <p:cNvPr id="662" name="Object 5" descr=""/>
                  <p:cNvPicPr/>
                  <p:nvPr/>
                </p:nvPicPr>
                <p:blipFill>
                  <a:blip r:embed="rId2"/>
                  <a:stretch/>
                </p:blipFill>
                <p:spPr>
                  <a:xfrm>
                    <a:off x="914400" y="977760"/>
                    <a:ext cx="4162320" cy="5639040"/>
                  </a:xfrm>
                  <a:prstGeom prst="rect">
                    <a:avLst/>
                  </a:prstGeom>
                  <a:ln w="0">
                    <a:noFill/>
                  </a:ln>
                </p:spPr>
              </p:pic>
            </p:oleObj>
          </a:graphicData>
        </a:graphic>
      </p:graphicFrame>
      <p:sp>
        <p:nvSpPr>
          <p:cNvPr id="663" name="Text Box 6"/>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0DED-9B98-4FFA-8CCF-AF07BFAA7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66" name="Oval 3"/>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Text Box 4"/>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68" name="Rectangle 5"/>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6"/>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0" name="Rectangle 7"/>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Text Box 8"/>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2" name="Rectangle 9"/>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10"/>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74" name="Rectangle 11"/>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12"/>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6" name="Line 13"/>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14"/>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5"/>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PlaceHolder 2"/>
          <p:cNvSpPr>
            <a:spLocks noGrp="1"/>
          </p:cNvSpPr>
          <p:nvPr>
            <p:ph/>
          </p:nvPr>
        </p:nvSpPr>
        <p:spPr>
          <a:xfrm>
            <a:off x="838080" y="4876560"/>
            <a:ext cx="7772400" cy="1600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587B-7115-4E6C-86C2-F5C7C0E56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907920"/>
            <a:ext cx="8458200" cy="5562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20 años se han producido transformaciones clav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es un referente importante (BA alta velocidad, voz móvil, voz sobre IP, convergencia de servicios, TV)</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los niveles de inversión en el rub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está llegando el momento de los datos, por f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 con penetraciones superiores al 10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D0D8-472D-4F0B-AF4C-CC51FDCBE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83" name="Rectangle 3"/>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Text Box 4"/>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5" name="Rectangle 5"/>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Text Box 6"/>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7" name="Rectangle 7"/>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Text Box 8"/>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89" name="Rectangle 9"/>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Text Box 10"/>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91" name="Text Box 11"/>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92" name="Rectangle 12"/>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Text Box 13"/>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94" name="Rectangle 14"/>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Line 15"/>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6"/>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7"/>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8"/>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9"/>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20"/>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PlaceHolder 2"/>
          <p:cNvSpPr>
            <a:spLocks noGrp="1"/>
          </p:cNvSpPr>
          <p:nvPr>
            <p:ph/>
          </p:nvPr>
        </p:nvSpPr>
        <p:spPr>
          <a:xfrm>
            <a:off x="838080" y="3809880"/>
            <a:ext cx="7772400" cy="2895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8EA8-9731-4F36-A5CA-777C88C55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704" name="PlaceHolder 2"/>
          <p:cNvSpPr>
            <a:spLocks noGrp="1"/>
          </p:cNvSpPr>
          <p:nvPr>
            <p:ph/>
          </p:nvPr>
        </p:nvSpPr>
        <p:spPr>
          <a:xfrm>
            <a:off x="838080" y="198108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66B4-A43E-4613-BFFC-4D628514A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707" name="Group 3"/>
          <p:cNvGrpSpPr/>
          <p:nvPr/>
        </p:nvGrpSpPr>
        <p:grpSpPr>
          <a:xfrm>
            <a:off x="914400" y="1447920"/>
            <a:ext cx="3429000" cy="2743200"/>
            <a:chOff x="914400" y="1447920"/>
            <a:chExt cx="3429000" cy="2743200"/>
          </a:xfrm>
        </p:grpSpPr>
        <p:sp>
          <p:nvSpPr>
            <p:cNvPr id="708" name="Line 4"/>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5"/>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Line 6"/>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Group 7"/>
          <p:cNvGrpSpPr/>
          <p:nvPr/>
        </p:nvGrpSpPr>
        <p:grpSpPr>
          <a:xfrm>
            <a:off x="5181480" y="1447920"/>
            <a:ext cx="3429000" cy="2743200"/>
            <a:chOff x="5181480" y="1447920"/>
            <a:chExt cx="3429000" cy="2743200"/>
          </a:xfrm>
        </p:grpSpPr>
        <p:sp>
          <p:nvSpPr>
            <p:cNvPr id="712" name="Line 8"/>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9"/>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Arc 10"/>
          <p:cNvSpPr/>
          <p:nvPr/>
        </p:nvSpPr>
        <p:spPr>
          <a:xfrm rot="8683200">
            <a:off x="5714280" y="2057040"/>
            <a:ext cx="2133720" cy="1676520"/>
          </a:xfrm>
          <a:custGeom>
            <a:avLst/>
            <a:gdLst>
              <a:gd name="textAreaLeft" fmla="*/ 0 w 2133720"/>
              <a:gd name="textAreaRight" fmla="*/ 2134080 w 2133720"/>
              <a:gd name="textAreaTop" fmla="*/ 0 h 1676520"/>
              <a:gd name="textAreaBottom" fmla="*/ 1676880 h 167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Text Box 11"/>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716" name="Text Box 12"/>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7" name="Text Box 13"/>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8" name="Line 14"/>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15"/>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16"/>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17"/>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Text Box 18"/>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3" name="Text Box 19"/>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4" name="Text Box 20"/>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25" name="Text Box 21"/>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26" name="Text Box 22"/>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27" name="Text Box 23"/>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28" name="Line 24"/>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25"/>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26"/>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7"/>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Text Box 28"/>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33" name="Text Box 29"/>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34" name="Text Box 30"/>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35" name="Text Box 31"/>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36" name="Line 32"/>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33"/>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34"/>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35"/>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Text Box 36"/>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41" name="Text Box 37"/>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42" name="Text Box 38"/>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43" name="Text Box 39"/>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44" name="PlaceHolder 2"/>
          <p:cNvSpPr>
            <a:spLocks noGrp="1"/>
          </p:cNvSpPr>
          <p:nvPr>
            <p:ph/>
          </p:nvPr>
        </p:nvSpPr>
        <p:spPr>
          <a:xfrm>
            <a:off x="838080" y="50292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D52E-80DB-4146-94CB-D8C7A373C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3716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ACBD-1060-483B-85A3-2108B6A49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Line 2"/>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4"/>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5"/>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6094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54" name="Rectangle 7"/>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55" name="Rectangle 8"/>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56" name="Rectangle 9"/>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57" name="Rectangle 10"/>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58" name="Line 11"/>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12"/>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13"/>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14"/>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15"/>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16"/>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Rectangle 17"/>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65" name="Rectangle 18"/>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66" name="Rectangle 19"/>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67" name="Rectangle 20"/>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68" name="Line 21"/>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2"/>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2"/>
          <p:cNvSpPr>
            <a:spLocks noGrp="1"/>
          </p:cNvSpPr>
          <p:nvPr>
            <p:ph/>
          </p:nvPr>
        </p:nvSpPr>
        <p:spPr>
          <a:xfrm>
            <a:off x="838080" y="48006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2C01-2C0F-4FFE-9557-D3571ABBC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PlaceHolder 1"/>
          <p:cNvSpPr>
            <a:spLocks noGrp="1"/>
          </p:cNvSpPr>
          <p:nvPr>
            <p:ph type="title"/>
          </p:nvPr>
        </p:nvSpPr>
        <p:spPr>
          <a:xfrm>
            <a:off x="68544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73" name="Rectangle 3"/>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4"/>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5"/>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Text Box 6"/>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77" name="Text Box 7"/>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8" name="Text Box 8"/>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9" name="Text Box 9"/>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80" name="PlaceHolder 2"/>
          <p:cNvSpPr>
            <a:spLocks noGrp="1"/>
          </p:cNvSpPr>
          <p:nvPr>
            <p:ph/>
          </p:nvPr>
        </p:nvSpPr>
        <p:spPr>
          <a:xfrm>
            <a:off x="838080" y="4952520"/>
            <a:ext cx="7772400" cy="17528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33A5-B521-4C23-B075-AA61F46A5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447920"/>
            <a:ext cx="7772400" cy="45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AF92-89BD-4A90-8A8B-8074E78C2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86" name="PlaceHolder 2"/>
          <p:cNvSpPr>
            <a:spLocks noGrp="1"/>
          </p:cNvSpPr>
          <p:nvPr>
            <p:ph/>
          </p:nvPr>
        </p:nvSpPr>
        <p:spPr>
          <a:xfrm>
            <a:off x="685800" y="2209680"/>
            <a:ext cx="7772400" cy="36576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9B0B-CDFC-4C39-82D1-75849B8EC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218960"/>
            <a:ext cx="8229600" cy="2057400"/>
          </a:xfrm>
          <a:prstGeom prst="rect">
            <a:avLst/>
          </a:prstGeom>
          <a:noFill/>
          <a:ln w="0">
            <a:noFill/>
          </a:ln>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90" name="Line 4"/>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5"/>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6"/>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8"/>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9"/>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Text Box 10"/>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97" name="Text Box 11"/>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98" name="Text Box 12"/>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99" name="Text Box 13"/>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800" name="Text Box 14"/>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801" name="Line 15"/>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Rectangle 16"/>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7843-569F-47C7-BA03-A7F37BB63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805" name="PlaceHolder 2"/>
          <p:cNvSpPr>
            <a:spLocks noGrp="1"/>
          </p:cNvSpPr>
          <p:nvPr>
            <p:ph/>
          </p:nvPr>
        </p:nvSpPr>
        <p:spPr>
          <a:xfrm>
            <a:off x="838080" y="1828440"/>
            <a:ext cx="7772400" cy="609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806" name="Line 4"/>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6"/>
          <p:cNvSpPr/>
          <p:nvPr/>
        </p:nvSpPr>
        <p:spPr>
          <a:xfrm>
            <a:off x="1989000" y="3367080"/>
            <a:ext cx="4988160" cy="2424240"/>
          </a:xfrm>
          <a:custGeom>
            <a:avLst/>
            <a:gdLst>
              <a:gd name="textAreaLeft" fmla="*/ 0 w 4988160"/>
              <a:gd name="textAreaRight" fmla="*/ 4988520 w 4988160"/>
              <a:gd name="textAreaTop" fmla="*/ 0 h 2424240"/>
              <a:gd name="textAreaBottom" fmla="*/ 2424600 h 2424240"/>
            </a:gdLst>
            <a:ahLst/>
            <a:rect l="textAreaLeft" t="textAreaTop" r="textAreaRight" b="textAreaBottom"/>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Text Box 7"/>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810" name="Text Box 8"/>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811" name="Text Box 9"/>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812" name="Text Box 10"/>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813" name="Text Box 11"/>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814" name="Text Box 12"/>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815" name="Line 13"/>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4"/>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5"/>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CC69-B8C3-4C40-BE47-F2FF7E8B1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196640"/>
            <a:ext cx="8458200" cy="522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BE9D-E2EA-45D4-B212-4A011AE3A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PlaceHolder 1"/>
          <p:cNvSpPr>
            <a:spLocks noGrp="1"/>
          </p:cNvSpPr>
          <p:nvPr>
            <p:ph/>
          </p:nvPr>
        </p:nvSpPr>
        <p:spPr>
          <a:xfrm>
            <a:off x="685800" y="1828440"/>
            <a:ext cx="7772400" cy="44197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82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1AFA-9CE6-4BA8-BEA2-9A42580CC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142640"/>
            <a:ext cx="8153280" cy="53341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6387-296D-484E-BE62-A6DAC4615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827" name="Line 4"/>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599C-64C1-428D-8AF8-7314ACBA0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830" name="Rectangle 1027"/>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1028"/>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1029"/>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1030"/>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1031"/>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Text Box 1032"/>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836" name="Text Box 1033"/>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837" name="Text Box 1034"/>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838" name="Text Box 1035"/>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839" name="Text Box 1036"/>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840" name="Line 1037"/>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38"/>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039"/>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040"/>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723C-6433-4830-A748-70056C679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846"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1B80-92CF-42CE-8CA7-FA19B1DF0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027B-B616-4705-B937-FD7B4C180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852" name="PlaceHolder 2"/>
          <p:cNvSpPr>
            <a:spLocks noGrp="1"/>
          </p:cNvSpPr>
          <p:nvPr>
            <p:ph/>
          </p:nvPr>
        </p:nvSpPr>
        <p:spPr>
          <a:xfrm>
            <a:off x="685800" y="1599840"/>
            <a:ext cx="7772400" cy="48006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C64B-F215-4CBA-AB61-6F41ED9FB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85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04FF-027E-4680-BD29-E33E1CCDE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858"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DF26-DF7B-4799-AD8D-70F6A0919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861" name="PlaceHolder 2"/>
          <p:cNvSpPr>
            <a:spLocks noGrp="1"/>
          </p:cNvSpPr>
          <p:nvPr>
            <p:ph/>
          </p:nvPr>
        </p:nvSpPr>
        <p:spPr>
          <a:xfrm>
            <a:off x="685800" y="1295280"/>
            <a:ext cx="7772400" cy="5029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BCBF-CE18-42B8-9D8F-6A3B395E6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434600"/>
            <a:ext cx="8458200" cy="437256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FDD8-BADF-449B-9121-EC196C1DA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864" name="Rectangle 3"/>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4"/>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5"/>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Text Box 6"/>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68" name="Text Box 7"/>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69" name="Text Box 8"/>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70" name="Text Box 9"/>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71" name="Text Box 10"/>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2" name="Text Box 11"/>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3" name="Text Box 12"/>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4" name="Text Box 13"/>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5" name="Text Box 14"/>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76" name="Text Box 15"/>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77" name="Text Box 16"/>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E6EB-A804-4E17-BE35-6D83DE865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80" name="Object 0"/>
          <p:cNvGraphicFramePr/>
          <p:nvPr/>
        </p:nvGraphicFramePr>
        <p:xfrm>
          <a:off x="304920" y="1828800"/>
          <a:ext cx="8610480" cy="2149560"/>
        </p:xfrm>
        <a:graphic>
          <a:graphicData uri="http://schemas.openxmlformats.org/presentationml/2006/ole">
            <p:oleObj progId="Excel.Sheet.12" r:id="rId1" spid="">
              <p:embed/>
              <p:pic>
                <p:nvPicPr>
                  <p:cNvPr id="881" name="Object 0" descr=""/>
                  <p:cNvPicPr/>
                  <p:nvPr/>
                </p:nvPicPr>
                <p:blipFill>
                  <a:blip r:embed="rId2"/>
                  <a:stretch/>
                </p:blipFill>
                <p:spPr>
                  <a:xfrm>
                    <a:off x="304920" y="1828800"/>
                    <a:ext cx="8610480" cy="2149560"/>
                  </a:xfrm>
                  <a:prstGeom prst="rect">
                    <a:avLst/>
                  </a:prstGeom>
                  <a:ln w="0">
                    <a:noFill/>
                  </a:ln>
                </p:spPr>
              </p:pic>
            </p:oleObj>
          </a:graphicData>
        </a:graphic>
      </p:graphicFrame>
      <p:sp>
        <p:nvSpPr>
          <p:cNvPr id="882" name="Rectangle 4"/>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Text Box 5"/>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F27C-7E83-4AFC-B83A-3F405B3E8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76" name="PlaceHolder 2"/>
          <p:cNvSpPr>
            <a:spLocks noGrp="1"/>
          </p:cNvSpPr>
          <p:nvPr>
            <p:ph/>
          </p:nvPr>
        </p:nvSpPr>
        <p:spPr>
          <a:xfrm>
            <a:off x="609120" y="1142640"/>
            <a:ext cx="8458200" cy="5594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816F-1428-4F17-9D0D-5E80CE48D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9" name="PlaceHolder 2"/>
          <p:cNvSpPr>
            <a:spLocks noGrp="1"/>
          </p:cNvSpPr>
          <p:nvPr>
            <p:ph/>
          </p:nvPr>
        </p:nvSpPr>
        <p:spPr>
          <a:xfrm>
            <a:off x="609120" y="1066680"/>
            <a:ext cx="8458200" cy="5595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inicia en Chile un segmento incipiente para Alta Velocid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la Banda Ancha Móvil como acceso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Usuario</cp:lastModifiedBy>
  <dcterms:modified xsi:type="dcterms:W3CDTF">2011-10-25T17:03:31Z</dcterms:modified>
  <cp:revision>71</cp:revision>
  <dc:subject/>
  <dc:title>Gestión de Empresas de Telecomunicaciones</dc:title>
</cp:coreProperties>
</file>