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15EDB0-CD48-438B-957E-90ED7C182D9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F9ED1C96-8299-4092-B48B-C31936E84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8B686720-2B72-4369-90EB-3DD9C08DF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CC65B715-61DE-46EF-A4F5-13D59DDF270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3E73E9-A00D-4AE9-A138-8B9E6D0148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0180902B-C149-4811-A20C-49BA9717D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0A5F3DE5-3D51-422C-A1F1-E8DC65F8B6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7B22623E-4409-4AB6-A104-7E3F3F843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82798505-C317-4E59-BFC0-C534423F7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593FDF2B-8E90-4A0B-87DF-49C83AC8EA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7361A58-7D96-4E64-8911-EEBCDB633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07B0889-B0DE-45D1-8DB2-21C569952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A7F74E1-A4D4-425A-9F8F-113EA164C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C1C0A88E-EA83-4A4A-9047-DE705D812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E521F1A0-F316-4657-A160-D2EB00B94E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103324E7-57C7-4993-ABBA-0BFD81195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CD5AF06D-C584-42F2-84A3-2983ED7D62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1D6054F-8060-46DB-9145-7521C3EB9A3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34E05CC5-99C8-44F9-84DB-190F6EDDD1B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D5002CB5-A0FD-4E30-AB2C-98A8A2BE639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4EDD2398-465F-4CC3-B267-06F823C2CF1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59AC08DB-E92F-4282-8833-E354DDC2D18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C623AD5A-32E3-4054-B0ED-6E8177B7E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7971AE89-FC06-49E4-89F0-BAC19DCFDAC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536EF51-CC7B-460C-A93D-8B1A369A554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8C76912-9169-40C0-B1A8-9B9B3AE738A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C80B81D9-86BA-4AFC-B75F-A1C768553CD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769BB25E-EFCA-44F6-9109-A97259E9BAC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9284DFB7-F011-4EF1-8F46-1FBB5C20F62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F3DEDFA9-8D1F-4E9A-BE69-CD16B5104F7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E04C8C7-16D6-484A-8409-FB9AFDD0911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2E559E19-CB23-4F4A-BF0D-596E0877B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120F4018-EEB2-4246-A57C-6316F90FC2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6CB1ADC3-9107-49BB-A790-5AD8A384A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5CD0D0E5-AAD9-41A8-913A-E01D4F2F4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6F315DAA-1650-4C07-A509-F0416955B0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12FF4FBB-92C2-4579-AD38-EFCE92D1C1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2AAE4EE-81EC-472C-9072-88A5E42909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EF10562-2ED4-4BA9-B40E-002319E4D5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9C55D99-09C1-47E6-8182-237284FF6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64847AE0-A226-43FB-8338-BA3397635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D0073BC4-CFBC-420E-A569-231CB1626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6E7F4461-FED6-4524-ACE3-6541FB8338E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C7563FA-981E-449D-A4AE-39B444E5963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9A4F47F5-36CA-49C8-8B3C-7A05027AB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9DB11B08-2A61-40BC-803E-8B31F4D86F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75D47501-7061-4024-8D0B-C7C8F2F4BF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AEC817D0-8818-47F4-B473-C7608D270A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27405BE8-3043-4AC8-9347-0D4DFFADFBA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CAC784BE-3550-4B88-9DB9-6CDCC16F929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25799BF2-B674-44DD-948A-692A26B064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501F61F-6B9F-479B-8960-2BBF19E77A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EA5806B-9D52-4A83-AB88-3778BF3B84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FE849EA7-AFE0-434B-8AE0-2D4CC0FA94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F6C5C31C-7870-4BAF-926C-F98A054CEA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E7D93D87-6890-43F9-9558-A024371E3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ADC4B83B-50F5-4A56-AB74-43BD9367795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7400C0C-1810-43B5-A81C-725BC56A3AD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3438AF3F-4864-4010-83FB-84774E9B4DE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A88C5B1D-61CF-44D2-A0DA-C6F3608EF4C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5CB2755E-250B-4F0E-929D-3C188CB1D9B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95EEBEE1-27D6-4A83-952D-7629C53D21D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61E52CC8-3B11-48D8-A1DF-4D48B43FB9A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9043E7F-D447-4ABD-BCF7-EAC032088D4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30E8EC6C-DD48-468B-8415-5CF3305200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6B6A521-27A1-4715-B874-B4234DEF3AB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83B2CB4-AF9E-4325-9ACD-514AED867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E498501E-CD95-4A88-97E6-2E19E282DB6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F345318F-A1C9-48EB-8452-48764212D4E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D7149F79-450C-4FB8-8A28-A0366575158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661AD55-C904-432F-8E34-D87DCDF40C4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A4B2383D-62FA-4C84-AD11-47FD11249B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E94D083C-0813-478E-BD6A-5E02545842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E3284B7E-A35D-400E-9543-1812D7EAB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98E260BC-37E5-45AE-9363-FB97106DF5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D5E37FB1-AE4C-45C9-AC9A-9856354344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164AD2B-2F71-49E6-8A30-2DE9697875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7E291B2B-9F9D-4FB6-A220-A473B6CAC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F541116-46AE-45C5-BFAB-E8EE130EF8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9FCB445-AE46-40A1-96A5-C440FB3F69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2FFF531F-7D9F-4009-90E8-A16E8E63B1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A55200B6-5577-4DF9-8C13-C49AF22939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2FE86BF9-A212-454A-A099-887B2E9C5F9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286E63D-63CA-4440-B062-F34A0E994AD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36080" cy="6850080"/>
            <a:chOff x="0" y="0"/>
            <a:chExt cx="9136080" cy="6850080"/>
          </a:xfrm>
        </p:grpSpPr>
        <p:pic>
          <p:nvPicPr>
            <p:cNvPr id="1" name="" descr=""/>
            <p:cNvPicPr/>
            <p:nvPr/>
          </p:nvPicPr>
          <p:blipFill>
            <a:blip r:embed="rId2"/>
            <a:stretch/>
          </p:blipFill>
          <p:spPr>
            <a:xfrm>
              <a:off x="438120" y="0"/>
              <a:ext cx="8697960" cy="3414600"/>
            </a:xfrm>
            <a:prstGeom prst="rect">
              <a:avLst/>
            </a:prstGeom>
            <a:ln w="0">
              <a:noFill/>
            </a:ln>
          </p:spPr>
        </p:pic>
        <p:sp>
          <p:nvSpPr>
            <p:cNvPr id="2"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45360"/>
            <a:ext cx="211932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F1F99-DD19-4FB9-BA1B-76768B8CBE5E}"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36080" cy="6392880"/>
            <a:chOff x="0" y="0"/>
            <a:chExt cx="9136080" cy="6392880"/>
          </a:xfrm>
        </p:grpSpPr>
        <p:sp>
          <p:nvSpPr>
            <p:cNvPr id="47" name=""/>
            <p:cNvSpPr/>
            <p:nvPr/>
          </p:nvSpPr>
          <p:spPr>
            <a:xfrm>
              <a:off x="1828800" y="4572000"/>
              <a:ext cx="6850080" cy="1820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36080" cy="6392880"/>
              <a:chOff x="0" y="0"/>
              <a:chExt cx="9136080" cy="6392880"/>
            </a:xfrm>
          </p:grpSpPr>
          <p:sp>
            <p:nvSpPr>
              <p:cNvPr id="49" name=""/>
              <p:cNvSpPr/>
              <p:nvPr/>
            </p:nvSpPr>
            <p:spPr>
              <a:xfrm>
                <a:off x="17640" y="0"/>
                <a:ext cx="1812600" cy="49309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36080" cy="2870280"/>
              </a:xfrm>
              <a:prstGeom prst="rect">
                <a:avLst/>
              </a:prstGeom>
              <a:ln w="0">
                <a:noFill/>
              </a:ln>
            </p:spPr>
          </p:pic>
        </p:grpSp>
        <p:sp>
          <p:nvSpPr>
            <p:cNvPr id="51" name=""/>
            <p:cNvSpPr/>
            <p:nvPr/>
          </p:nvSpPr>
          <p:spPr>
            <a:xfrm>
              <a:off x="0" y="4572000"/>
              <a:ext cx="182088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D2A590D-A610-4696-81ED-A1FCC45F2EA7}"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36080" cy="6850080"/>
            <a:chOff x="0" y="0"/>
            <a:chExt cx="9136080" cy="6850080"/>
          </a:xfrm>
        </p:grpSpPr>
        <p:pic>
          <p:nvPicPr>
            <p:cNvPr id="97" name="" descr=""/>
            <p:cNvPicPr/>
            <p:nvPr/>
          </p:nvPicPr>
          <p:blipFill>
            <a:blip r:embed="rId2"/>
            <a:stretch/>
          </p:blipFill>
          <p:spPr>
            <a:xfrm>
              <a:off x="438120" y="0"/>
              <a:ext cx="8697960" cy="3414600"/>
            </a:xfrm>
            <a:prstGeom prst="rect">
              <a:avLst/>
            </a:prstGeom>
            <a:ln w="0">
              <a:noFill/>
            </a:ln>
          </p:spPr>
        </p:pic>
        <p:sp>
          <p:nvSpPr>
            <p:cNvPr id="98"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6BCA9D0-1DBC-42A5-9EC1-279437CA77F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36080" cy="6850080"/>
            <a:chOff x="0" y="0"/>
            <a:chExt cx="9136080" cy="6850080"/>
          </a:xfrm>
        </p:grpSpPr>
        <p:sp>
          <p:nvSpPr>
            <p:cNvPr id="145" name=""/>
            <p:cNvSpPr/>
            <p:nvPr/>
          </p:nvSpPr>
          <p:spPr>
            <a:xfrm>
              <a:off x="0" y="0"/>
              <a:ext cx="1817640" cy="68500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1764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29600" cy="372276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4E458D5-DC85-4BE7-B034-F0BEF694D4DD}"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36080" cy="1668600"/>
            <a:chOff x="0" y="0"/>
            <a:chExt cx="9136080" cy="1668600"/>
          </a:xfrm>
        </p:grpSpPr>
        <p:pic>
          <p:nvPicPr>
            <p:cNvPr id="190" name="" descr=""/>
            <p:cNvPicPr/>
            <p:nvPr/>
          </p:nvPicPr>
          <p:blipFill>
            <a:blip r:embed="rId2"/>
            <a:stretch/>
          </p:blipFill>
          <p:spPr>
            <a:xfrm>
              <a:off x="0" y="0"/>
              <a:ext cx="9136080" cy="1668600"/>
            </a:xfrm>
            <a:prstGeom prst="rect">
              <a:avLst/>
            </a:prstGeom>
            <a:ln w="0">
              <a:noFill/>
            </a:ln>
          </p:spPr>
        </p:pic>
        <p:sp>
          <p:nvSpPr>
            <p:cNvPr id="191" name=""/>
            <p:cNvSpPr/>
            <p:nvPr/>
          </p:nvSpPr>
          <p:spPr>
            <a:xfrm>
              <a:off x="17640" y="3240"/>
              <a:ext cx="1812600" cy="8128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269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7EF8B62-0737-4220-BDEF-5ECB3E95C43C}"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0880" cy="1668600"/>
            <a:chOff x="0" y="0"/>
            <a:chExt cx="1820880" cy="1668600"/>
          </a:xfrm>
        </p:grpSpPr>
        <p:pic>
          <p:nvPicPr>
            <p:cNvPr id="235" name="" descr=""/>
            <p:cNvPicPr/>
            <p:nvPr/>
          </p:nvPicPr>
          <p:blipFill>
            <a:blip r:embed="rId2"/>
            <a:stretch/>
          </p:blipFill>
          <p:spPr>
            <a:xfrm>
              <a:off x="0" y="0"/>
              <a:ext cx="1820880" cy="1668600"/>
            </a:xfrm>
            <a:prstGeom prst="rect">
              <a:avLst/>
            </a:prstGeom>
            <a:ln w="0">
              <a:noFill/>
            </a:ln>
          </p:spPr>
        </p:pic>
        <p:sp>
          <p:nvSpPr>
            <p:cNvPr id="236" name=""/>
            <p:cNvSpPr/>
            <p:nvPr/>
          </p:nvSpPr>
          <p:spPr>
            <a:xfrm>
              <a:off x="503280" y="208080"/>
              <a:ext cx="8143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A193F88-E945-462E-853D-30EDAF33792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36080" cy="6850080"/>
            <a:chOff x="0" y="0"/>
            <a:chExt cx="9136080" cy="6850080"/>
          </a:xfrm>
        </p:grpSpPr>
        <p:pic>
          <p:nvPicPr>
            <p:cNvPr id="279" name="" descr=""/>
            <p:cNvPicPr/>
            <p:nvPr/>
          </p:nvPicPr>
          <p:blipFill>
            <a:blip r:embed="rId2"/>
            <a:stretch/>
          </p:blipFill>
          <p:spPr>
            <a:xfrm>
              <a:off x="0" y="0"/>
              <a:ext cx="9136080" cy="3414600"/>
            </a:xfrm>
            <a:prstGeom prst="rect">
              <a:avLst/>
            </a:prstGeom>
            <a:ln w="0">
              <a:noFill/>
            </a:ln>
          </p:spPr>
        </p:pic>
        <p:sp>
          <p:nvSpPr>
            <p:cNvPr id="280" name=""/>
            <p:cNvSpPr/>
            <p:nvPr/>
          </p:nvSpPr>
          <p:spPr>
            <a:xfrm>
              <a:off x="7313760" y="6480"/>
              <a:ext cx="1815840" cy="68436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158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6919032-251E-47E6-AA02-2E01AE1A645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rcRect l="0" t="3405" r="0" b="13350"/>
          <a:stretch/>
        </p:blipFill>
        <p:spPr>
          <a:xfrm>
            <a:off x="1835280" y="-27000"/>
            <a:ext cx="7308720" cy="4608360"/>
          </a:xfrm>
          <a:prstGeom prst="rect">
            <a:avLst/>
          </a:prstGeom>
          <a:ln w="0">
            <a:noFill/>
          </a:ln>
        </p:spPr>
      </p:pic>
      <p:grpSp>
        <p:nvGrpSpPr>
          <p:cNvPr id="336" name=""/>
          <p:cNvGrpSpPr/>
          <p:nvPr/>
        </p:nvGrpSpPr>
        <p:grpSpPr>
          <a:xfrm>
            <a:off x="1841400" y="5834160"/>
            <a:ext cx="6629400" cy="492120"/>
            <a:chOff x="1841400" y="5834160"/>
            <a:chExt cx="6629400" cy="492120"/>
          </a:xfrm>
        </p:grpSpPr>
        <p:pic>
          <p:nvPicPr>
            <p:cNvPr id="337" name="" descr=""/>
            <p:cNvPicPr/>
            <p:nvPr/>
          </p:nvPicPr>
          <p:blipFill>
            <a:blip r:embed="rId2"/>
            <a:stretch/>
          </p:blipFill>
          <p:spPr>
            <a:xfrm>
              <a:off x="1841400" y="5834160"/>
              <a:ext cx="6629400" cy="492120"/>
            </a:xfrm>
            <a:prstGeom prst="rect">
              <a:avLst/>
            </a:prstGeom>
            <a:ln w="0">
              <a:noFill/>
            </a:ln>
          </p:spPr>
        </p:pic>
        <p:sp>
          <p:nvSpPr>
            <p:cNvPr id="338" name=""/>
            <p:cNvSpPr/>
            <p:nvPr/>
          </p:nvSpPr>
          <p:spPr>
            <a:xfrm>
              <a:off x="1841400" y="5834160"/>
              <a:ext cx="6629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9"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búsqueda en la tabl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as ordenadas por largo del prefijo de red (máscaras con más 1's primer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trada default calza siempre (final)</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55" name=""/>
          <p:cNvSpPr/>
          <p:nvPr/>
        </p:nvSpPr>
        <p:spPr>
          <a:xfrm>
            <a:off x="2514600" y="4632480"/>
            <a:ext cx="6229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search(IP,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i=0; i &lt; table.rows; 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IP &amp; table[i].Mask) == table[i].NetPrefix)</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table[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NUL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1828800"/>
            <a:ext cx="6248520" cy="536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83" name="" descr=""/>
          <p:cNvPicPr/>
          <p:nvPr/>
        </p:nvPicPr>
        <p:blipFill>
          <a:blip r:embed="rId1"/>
          <a:srcRect l="0" t="0" r="29209" b="55659"/>
          <a:stretch/>
        </p:blipFill>
        <p:spPr>
          <a:xfrm>
            <a:off x="4184640" y="5029200"/>
            <a:ext cx="3816360" cy="1511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3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404"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25"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3"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34" name=""/>
          <p:cNvGrpSpPr/>
          <p:nvPr/>
        </p:nvGrpSpPr>
        <p:grpSpPr>
          <a:xfrm>
            <a:off x="1944720" y="5157720"/>
            <a:ext cx="7091280" cy="739800"/>
            <a:chOff x="1944720" y="5157720"/>
            <a:chExt cx="7091280" cy="739800"/>
          </a:xfrm>
        </p:grpSpPr>
        <p:sp>
          <p:nvSpPr>
            <p:cNvPr id="435" name=""/>
            <p:cNvSpPr/>
            <p:nvPr/>
          </p:nvSpPr>
          <p:spPr>
            <a:xfrm>
              <a:off x="1993680" y="5457960"/>
              <a:ext cx="7027920" cy="439560"/>
            </a:xfrm>
            <a:custGeom>
              <a:avLst/>
              <a:gdLst>
                <a:gd name="textAreaLeft" fmla="*/ 0 w 7027920"/>
                <a:gd name="textAreaRight" fmla="*/ 7028280 w 7027920"/>
                <a:gd name="textAreaTop" fmla="*/ 0 h 439560"/>
                <a:gd name="textAreaBottom" fmla="*/ 439920 h 43956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944720" y="5413320"/>
              <a:ext cx="7027920" cy="439920"/>
            </a:xfrm>
            <a:custGeom>
              <a:avLst/>
              <a:gdLst>
                <a:gd name="textAreaLeft" fmla="*/ 0 w 7027920"/>
                <a:gd name="textAreaRight" fmla="*/ 7028280 w 7027920"/>
                <a:gd name="textAreaTop" fmla="*/ 0 h 439920"/>
                <a:gd name="textAreaBottom" fmla="*/ 440280 h 43992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55280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8" name=""/>
            <p:cNvSpPr/>
            <p:nvPr/>
          </p:nvSpPr>
          <p:spPr>
            <a:xfrm>
              <a:off x="79099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05176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0" name=""/>
            <p:cNvSpPr/>
            <p:nvPr/>
          </p:nvSpPr>
          <p:spPr>
            <a:xfrm>
              <a:off x="82242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1" name=""/>
            <p:cNvSpPr/>
            <p:nvPr/>
          </p:nvSpPr>
          <p:spPr>
            <a:xfrm>
              <a:off x="837000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2" name=""/>
            <p:cNvSpPr/>
            <p:nvPr/>
          </p:nvSpPr>
          <p:spPr>
            <a:xfrm>
              <a:off x="848916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3" name=""/>
            <p:cNvSpPr/>
            <p:nvPr/>
          </p:nvSpPr>
          <p:spPr>
            <a:xfrm>
              <a:off x="863784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4" name=""/>
            <p:cNvSpPr/>
            <p:nvPr/>
          </p:nvSpPr>
          <p:spPr>
            <a:xfrm>
              <a:off x="875448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5" name=""/>
            <p:cNvSpPr/>
            <p:nvPr/>
          </p:nvSpPr>
          <p:spPr>
            <a:xfrm>
              <a:off x="89028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6" name=""/>
            <p:cNvSpPr/>
            <p:nvPr/>
          </p:nvSpPr>
          <p:spPr>
            <a:xfrm>
              <a:off x="703944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7" name=""/>
            <p:cNvSpPr/>
            <p:nvPr/>
          </p:nvSpPr>
          <p:spPr>
            <a:xfrm>
              <a:off x="569160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8" name=""/>
            <p:cNvSpPr/>
            <p:nvPr/>
          </p:nvSpPr>
          <p:spPr>
            <a:xfrm>
              <a:off x="426528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9" name=""/>
            <p:cNvSpPr/>
            <p:nvPr/>
          </p:nvSpPr>
          <p:spPr>
            <a:xfrm>
              <a:off x="29520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50" name=""/>
            <p:cNvSpPr/>
            <p:nvPr/>
          </p:nvSpPr>
          <p:spPr>
            <a:xfrm>
              <a:off x="211356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51" name=""/>
            <p:cNvSpPr/>
            <p:nvPr/>
          </p:nvSpPr>
          <p:spPr>
            <a:xfrm>
              <a:off x="503856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52" name=""/>
            <p:cNvSpPr/>
            <p:nvPr/>
          </p:nvSpPr>
          <p:spPr>
            <a:xfrm>
              <a:off x="374796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53" name=""/>
            <p:cNvSpPr/>
            <p:nvPr/>
          </p:nvSpPr>
          <p:spPr>
            <a:xfrm>
              <a:off x="24919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54" name=""/>
            <p:cNvSpPr/>
            <p:nvPr/>
          </p:nvSpPr>
          <p:spPr>
            <a:xfrm>
              <a:off x="196884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55" name=""/>
            <p:cNvSpPr/>
            <p:nvPr/>
          </p:nvSpPr>
          <p:spPr>
            <a:xfrm>
              <a:off x="768960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6" name=""/>
            <p:cNvSpPr/>
            <p:nvPr/>
          </p:nvSpPr>
          <p:spPr>
            <a:xfrm>
              <a:off x="65822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7" name=""/>
            <p:cNvSpPr/>
            <p:nvPr/>
          </p:nvSpPr>
          <p:spPr>
            <a:xfrm>
              <a:off x="65520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9824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69540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4127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6615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62"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2"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9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4"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8288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9"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5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42800" indent="-442800">
              <a:lnSpc>
                <a:spcPct val="9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42800" indent="-442800">
              <a:lnSpc>
                <a:spcPct val="9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42800" indent="-442800">
              <a:lnSpc>
                <a:spcPct val="9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42800" indent="-442800">
              <a:lnSpc>
                <a:spcPct val="10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42800" indent="-442800">
              <a:lnSpc>
                <a:spcPct val="10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19040" indent="-20952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19040" indent="-20952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19040" indent="-20952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19040" indent="-20952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19040" indent="-20952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19040" indent="-20952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19040" indent="-20952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24" name="" descr=""/>
          <p:cNvPicPr/>
          <p:nvPr/>
        </p:nvPicPr>
        <p:blipFill>
          <a:blip r:embed="rId2"/>
          <a:stretch/>
        </p:blipFill>
        <p:spPr>
          <a:xfrm>
            <a:off x="4427640" y="4292640"/>
            <a:ext cx="3673440" cy="1596960"/>
          </a:xfrm>
          <a:prstGeom prst="rect">
            <a:avLst/>
          </a:prstGeom>
          <a:ln w="0">
            <a:noFill/>
          </a:ln>
        </p:spPr>
      </p:pic>
      <p:sp>
        <p:nvSpPr>
          <p:cNvPr id="525"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14200" indent="-128520">
              <a:lnSpc>
                <a:spcPct val="100000"/>
              </a:lnSpc>
              <a:spcBef>
                <a:spcPts val="1800"/>
              </a:spcBef>
              <a:buSzPct val="100000"/>
              <a:buBlip>
                <a:blip r:embed="rId1"/>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14200" indent="-128520">
              <a:lnSpc>
                <a:spcPct val="100000"/>
              </a:lnSpc>
              <a:spcBef>
                <a:spcPts val="1800"/>
              </a:spcBef>
              <a:buSzPct val="100000"/>
              <a:buBlip>
                <a:blip r:embed="rId2"/>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19040" indent="-209520">
              <a:lnSpc>
                <a:spcPct val="100000"/>
              </a:lnSpc>
              <a:spcBef>
                <a:spcPts val="1800"/>
              </a:spcBef>
              <a:buSzPct val="100000"/>
              <a:buBlip>
                <a:blip r:embed="rId3"/>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52"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33"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50"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6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7"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42800" indent="-442800">
              <a:lnSpc>
                <a:spcPct val="100000"/>
              </a:lnSpc>
              <a:spcBef>
                <a:spcPts val="1800"/>
              </a:spcBef>
              <a:buSzPct val="156296"/>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6"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9"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8"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7" name="" descr=""/>
          <p:cNvPicPr/>
          <p:nvPr/>
        </p:nvPicPr>
        <p:blipFill>
          <a:blip r:embed="rId1"/>
          <a:stretch/>
        </p:blipFill>
        <p:spPr>
          <a:xfrm>
            <a:off x="3967200" y="3573360"/>
            <a:ext cx="2908440" cy="2880000"/>
          </a:xfrm>
          <a:prstGeom prst="rect">
            <a:avLst/>
          </a:prstGeom>
          <a:ln w="0">
            <a:noFill/>
          </a:ln>
        </p:spPr>
      </p:pic>
      <p:sp>
        <p:nvSpPr>
          <p:cNvPr id="598"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9"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600"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0720" indent="-442800" algn="ctr">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p:txBody>
      </p:sp>
      <p:sp>
        <p:nvSpPr>
          <p:cNvPr id="6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9"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61" name="" descr=""/>
          <p:cNvPicPr/>
          <p:nvPr/>
        </p:nvPicPr>
        <p:blipFill>
          <a:blip r:embed="rId1"/>
          <a:stretch/>
        </p:blipFill>
        <p:spPr>
          <a:xfrm>
            <a:off x="3635280" y="2903400"/>
            <a:ext cx="3676680" cy="1533600"/>
          </a:xfrm>
          <a:prstGeom prst="rect">
            <a:avLst/>
          </a:prstGeom>
          <a:ln w="0">
            <a:noFill/>
          </a:ln>
        </p:spPr>
      </p:pic>
      <p:pic>
        <p:nvPicPr>
          <p:cNvPr id="362"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30" name="" descr=""/>
          <p:cNvPicPr/>
          <p:nvPr/>
        </p:nvPicPr>
        <p:blipFill>
          <a:blip r:embed="rId1"/>
          <a:stretch/>
        </p:blipFill>
        <p:spPr>
          <a:xfrm>
            <a:off x="3708360" y="3716280"/>
            <a:ext cx="3311640" cy="3059280"/>
          </a:xfrm>
          <a:prstGeom prst="rect">
            <a:avLst/>
          </a:prstGeom>
          <a:ln w="0">
            <a:noFill/>
          </a:ln>
        </p:spPr>
      </p:pic>
      <p:sp>
        <p:nvSpPr>
          <p:cNvPr id="631"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br>
              <a:rPr sz="2200"/>
            </a:br>
            <a:endParaRPr b="0" lang="en-US" sz="2200" spc="-1" strike="noStrike">
              <a:solidFill>
                <a:srgbClr val="000000"/>
              </a:solidFill>
              <a:latin typeface="Arial"/>
            </a:endParaRPr>
          </a:p>
        </p:txBody>
      </p:sp>
      <p:sp>
        <p:nvSpPr>
          <p:cNvPr id="6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Ipv4</a:t>
            </a:r>
            <a:endParaRPr b="0" lang="en-US" sz="4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pic>
        <p:nvPicPr>
          <p:cNvPr id="643" name="" descr=""/>
          <p:cNvPicPr/>
          <p:nvPr/>
        </p:nvPicPr>
        <p:blipFill>
          <a:blip r:embed="rId1"/>
          <a:stretch/>
        </p:blipFill>
        <p:spPr>
          <a:xfrm>
            <a:off x="3200400" y="914400"/>
            <a:ext cx="5943600" cy="5943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Se duplica cada 5 años aproximadamente</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pic>
        <p:nvPicPr>
          <p:cNvPr id="651" name="" descr=""/>
          <p:cNvPicPr/>
          <p:nvPr/>
        </p:nvPicPr>
        <p:blipFill>
          <a:blip r:embed="rId1"/>
          <a:stretch/>
        </p:blipFill>
        <p:spPr>
          <a:xfrm>
            <a:off x="2590920" y="2514600"/>
            <a:ext cx="6095880" cy="40957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7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12"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21"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9" name=""/>
          <p:cNvGrpSpPr/>
          <p:nvPr/>
        </p:nvGrpSpPr>
        <p:grpSpPr>
          <a:xfrm>
            <a:off x="2149200" y="3357720"/>
            <a:ext cx="2343600" cy="1618920"/>
            <a:chOff x="2149200" y="3357720"/>
            <a:chExt cx="2343600" cy="1618920"/>
          </a:xfrm>
        </p:grpSpPr>
        <p:sp>
          <p:nvSpPr>
            <p:cNvPr id="730" name=""/>
            <p:cNvSpPr/>
            <p:nvPr/>
          </p:nvSpPr>
          <p:spPr>
            <a:xfrm>
              <a:off x="2449440" y="3409920"/>
              <a:ext cx="2043360" cy="156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414520" y="3357720"/>
              <a:ext cx="2043360" cy="156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2417760" y="398304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14920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34" name=""/>
            <p:cNvSpPr/>
            <p:nvPr/>
          </p:nvSpPr>
          <p:spPr>
            <a:xfrm>
              <a:off x="2417760" y="3662280"/>
              <a:ext cx="20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17760" y="44179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14316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2878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4336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57840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43684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41"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42" name=""/>
            <p:cNvSpPr/>
            <p:nvPr/>
          </p:nvSpPr>
          <p:spPr>
            <a:xfrm>
              <a:off x="288612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43"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44" name=""/>
            <p:cNvSpPr/>
            <p:nvPr/>
          </p:nvSpPr>
          <p:spPr>
            <a:xfrm>
              <a:off x="357912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45" name=""/>
            <p:cNvSpPr/>
            <p:nvPr/>
          </p:nvSpPr>
          <p:spPr>
            <a:xfrm>
              <a:off x="34585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6" name=""/>
          <p:cNvGrpSpPr/>
          <p:nvPr/>
        </p:nvGrpSpPr>
        <p:grpSpPr>
          <a:xfrm>
            <a:off x="6047280" y="2133720"/>
            <a:ext cx="2837880" cy="4433760"/>
            <a:chOff x="6047280" y="2133720"/>
            <a:chExt cx="2837880" cy="4433760"/>
          </a:xfrm>
        </p:grpSpPr>
        <p:sp>
          <p:nvSpPr>
            <p:cNvPr id="747" name=""/>
            <p:cNvSpPr/>
            <p:nvPr/>
          </p:nvSpPr>
          <p:spPr>
            <a:xfrm>
              <a:off x="6461280" y="217800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418440" y="2133720"/>
              <a:ext cx="2423880" cy="128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604728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50" name=""/>
            <p:cNvSpPr/>
            <p:nvPr/>
          </p:nvSpPr>
          <p:spPr>
            <a:xfrm>
              <a:off x="6423120" y="264960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23120" y="239076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23120" y="30034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28352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45488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62624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79940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47208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8"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9" name=""/>
            <p:cNvSpPr/>
            <p:nvPr/>
          </p:nvSpPr>
          <p:spPr>
            <a:xfrm>
              <a:off x="702648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0"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1" name=""/>
            <p:cNvSpPr/>
            <p:nvPr/>
          </p:nvSpPr>
          <p:spPr>
            <a:xfrm>
              <a:off x="783036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62" name=""/>
            <p:cNvSpPr/>
            <p:nvPr/>
          </p:nvSpPr>
          <p:spPr>
            <a:xfrm>
              <a:off x="76622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63" name=""/>
            <p:cNvSpPr/>
            <p:nvPr/>
          </p:nvSpPr>
          <p:spPr>
            <a:xfrm>
              <a:off x="6461280" y="3726000"/>
              <a:ext cx="2423880" cy="12888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418440" y="3684600"/>
              <a:ext cx="2423880" cy="128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423120" y="42022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23120" y="39434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423120" y="455760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28964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46280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63416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80732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48000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73" name=""/>
            <p:cNvSpPr/>
            <p:nvPr/>
          </p:nvSpPr>
          <p:spPr>
            <a:xfrm>
              <a:off x="703908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74"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75" name=""/>
            <p:cNvSpPr/>
            <p:nvPr/>
          </p:nvSpPr>
          <p:spPr>
            <a:xfrm>
              <a:off x="780552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6" name=""/>
            <p:cNvSpPr/>
            <p:nvPr/>
          </p:nvSpPr>
          <p:spPr>
            <a:xfrm>
              <a:off x="76701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7"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8" name=""/>
            <p:cNvSpPr/>
            <p:nvPr/>
          </p:nvSpPr>
          <p:spPr>
            <a:xfrm>
              <a:off x="6461280" y="527832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418440" y="5235480"/>
              <a:ext cx="2423880" cy="128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423120" y="57578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6408720" y="549900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423120" y="611352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9612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46928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64064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81380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48792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8"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9" name=""/>
            <p:cNvSpPr/>
            <p:nvPr/>
          </p:nvSpPr>
          <p:spPr>
            <a:xfrm>
              <a:off x="704376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90"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91" name=""/>
            <p:cNvSpPr/>
            <p:nvPr/>
          </p:nvSpPr>
          <p:spPr>
            <a:xfrm>
              <a:off x="781740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92" name=""/>
            <p:cNvSpPr/>
            <p:nvPr/>
          </p:nvSpPr>
          <p:spPr>
            <a:xfrm>
              <a:off x="767664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93"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8"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8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8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514600" y="1695600"/>
            <a:ext cx="6248520" cy="3562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7"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32"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4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45" name=""/>
          <p:cNvSpPr/>
          <p:nvPr/>
        </p:nvSpPr>
        <p:spPr>
          <a:xfrm>
            <a:off x="2664000" y="3200400"/>
            <a:ext cx="62290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gram.destIP, t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Route == NUL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rror(dgram, "Net Unreach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 Route.type == GW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tabla de rutas:</a:t>
            </a:r>
            <a:endParaRPr b="0" lang="en-US" sz="2200" spc="-1" strike="noStrike">
              <a:solidFill>
                <a:srgbClr val="000000"/>
              </a:solidFill>
              <a:latin typeface="Arial"/>
            </a:endParaRPr>
          </a:p>
        </p:txBody>
      </p:sp>
      <p:sp>
        <p:nvSpPr>
          <p:cNvPr id="8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graphicFrame>
        <p:nvGraphicFramePr>
          <p:cNvPr id="850" name=""/>
          <p:cNvGraphicFramePr/>
          <p:nvPr/>
        </p:nvGraphicFramePr>
        <p:xfrm>
          <a:off x="2238480" y="2789280"/>
          <a:ext cx="6676560" cy="2925720"/>
        </p:xfrm>
        <a:graphic>
          <a:graphicData uri="http://schemas.openxmlformats.org/drawingml/2006/table">
            <a:tbl>
              <a:tblPr/>
              <a:tblGrid>
                <a:gridCol w="1668240"/>
                <a:gridCol w="1668960"/>
                <a:gridCol w="1668960"/>
                <a:gridCol w="1670400"/>
              </a:tblGrid>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NetPrefix</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efaul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Mas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GW (I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I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Interfa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255.255.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27.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lo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00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