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31CE-1379-4B1C-84FA-80EC7EF38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0B40-7AD7-48A3-A896-D0295FDAF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BC85-C2B3-48DB-8C85-35D2A67F2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1690-3200-40BE-8597-22C2BD278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F6DD-4DB1-47D6-AD44-1CC5A7C8C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43E9-A2A3-41DD-853B-EC0CD757A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B26E-3B10-44B9-BA70-12463FAFE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8CB9-7A4C-41ED-A8D2-3C2D4D605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C878-FBED-4767-AC05-FB20FD4E0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1EE3-AE58-4A97-98FE-1698E9F76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0A9B-F3D2-4DE4-B66E-C62EAF609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9361-1D02-48E5-82A4-32426FBE3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1D8-FFC2-4387-9712-33BA94357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7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l igual que la mayoría de los elementos de un sistema eléctrico de potencia, es un proyecto en s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2200" y="2924280"/>
            <a:ext cx="6302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784872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00880" y="6210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Alst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935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0" y="1752120"/>
            <a:ext cx="612144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estator (notación generador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rot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549360" y="2205000"/>
          <a:ext cx="4451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205000"/>
                    <a:ext cx="4451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Rectangle 3"/>
          <p:cNvGraphicFramePr/>
          <p:nvPr/>
        </p:nvGraphicFramePr>
        <p:xfrm>
          <a:off x="477720" y="5124600"/>
          <a:ext cx="466416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720" y="5124600"/>
                    <a:ext cx="46641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070080" y="2637000"/>
            <a:ext cx="273708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Los enlaces mutuos  son positivos si una corriente positiva en un enrollado genera un flujo propio y mutuo en la misma direc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494080" y="3284640"/>
            <a:ext cx="576000" cy="144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21844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onsidera un sistema equilibrado en corrientes y en estado establ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 se considera la resistencia de enrollados de estator, y se aplica la Ley de Faraday – Lenz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1003320" y="2492280"/>
          <a:ext cx="56214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492280"/>
                    <a:ext cx="5621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Rectangle 3"/>
          <p:cNvGraphicFramePr/>
          <p:nvPr/>
        </p:nvGraphicFramePr>
        <p:xfrm>
          <a:off x="1025640" y="5052960"/>
          <a:ext cx="718164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5640" y="5052960"/>
                    <a:ext cx="718164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86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62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siderando sólo la fase a (las otras están desfasadas en 120°)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4" name="Rectangle 3"/>
          <p:cNvGraphicFramePr/>
          <p:nvPr/>
        </p:nvGraphicFramePr>
        <p:xfrm>
          <a:off x="974880" y="2378160"/>
          <a:ext cx="35416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2378160"/>
                    <a:ext cx="35416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481120" y="4441680"/>
          <a:ext cx="34610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1120" y="4441680"/>
                    <a:ext cx="34610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Rectangle 3"/>
          <p:cNvGraphicFramePr/>
          <p:nvPr/>
        </p:nvGraphicFramePr>
        <p:xfrm>
          <a:off x="1889280" y="5084640"/>
          <a:ext cx="3487680" cy="13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9280" y="5084640"/>
                    <a:ext cx="34876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: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arta de operació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1843200"/>
            <a:ext cx="666900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3440" y="61372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END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1-08T10:48:30Z</dcterms:modified>
  <cp:revision>119</cp:revision>
  <dc:subject/>
  <dc:title>Diapositiva 1</dc:title>
</cp:coreProperties>
</file>