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4.wmf" ContentType="image/x-wmf"/>
  <Override PartName="/ppt/media/image5.jpeg" ContentType="image/jpeg"/>
  <Override PartName="/ppt/media/image9.wmf" ContentType="image/x-wmf"/>
  <Override PartName="/ppt/media/image1.png" ContentType="image/png"/>
  <Override PartName="/ppt/media/image15.png" ContentType="image/png"/>
  <Override PartName="/ppt/media/image3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10.wmf" ContentType="image/x-wmf"/>
  <Override PartName="/ppt/media/image4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66253-0DB9-4411-957D-2F2D70E0D5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A0010-459C-4900-9306-0A89CBE53C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4398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4398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2AA6E-8591-4ED8-B471-D1A70D9ADC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852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7128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852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7128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BEB30-B592-4CB9-ABDB-A7ABB911D0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C4BE3-5470-4A47-8B93-BD86160AE3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785A7-B0E0-4CDE-9B0F-A8A4536273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4398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A7939-BE20-4276-BE85-0E46198008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90CCC-FD76-4AB1-A85A-C094E9B970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28240" y="990720"/>
            <a:ext cx="396252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2CF6C-2BA5-48C4-AB3F-1BAAFA21C3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B5B88-974B-4623-A0C4-ED730F35C6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398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14252-C938-4BBF-9785-5892B657E0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398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694DB-AD4D-4FA2-BD86-784F0DB395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6"/>
          <p:cNvSpPr/>
          <p:nvPr/>
        </p:nvSpPr>
        <p:spPr>
          <a:xfrm>
            <a:off x="0" y="152280"/>
            <a:ext cx="4343400" cy="762120"/>
          </a:xfrm>
          <a:custGeom>
            <a:avLst/>
            <a:gdLst>
              <a:gd name="textAreaLeft" fmla="*/ 0 w 4343400"/>
              <a:gd name="textAreaRight" fmla="*/ 4343400 w 434340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82" y="0"/>
                </a:lnTo>
                <a:lnTo>
                  <a:pt x="21600" y="10800"/>
                </a:lnTo>
                <a:lnTo>
                  <a:pt x="1608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43f7f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f7f"/>
                </a:solidFill>
                <a:latin typeface="Tahoma"/>
              </a:rPr>
              <a:t>Click to edit the outline text format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f7f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f7f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f7f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343f7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f7f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f7f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f7f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E916C-B634-49AE-AC7E-B6584F649D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27"/>
          <p:cNvSpPr/>
          <p:nvPr/>
        </p:nvSpPr>
        <p:spPr>
          <a:xfrm>
            <a:off x="3276720" y="457200"/>
            <a:ext cx="58672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Object 46"/>
          <p:cNvGraphicFramePr/>
          <p:nvPr/>
        </p:nvGraphicFramePr>
        <p:xfrm>
          <a:off x="395280" y="44280"/>
          <a:ext cx="2664000" cy="852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Object 4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44280"/>
                    <a:ext cx="2664000" cy="8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7197840" y="179280"/>
            <a:ext cx="1295280" cy="646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0" y="934920"/>
            <a:ext cx="9144000" cy="0"/>
          </a:xfrm>
          <a:prstGeom prst="line">
            <a:avLst/>
          </a:prstGeom>
          <a:ln w="38160">
            <a:solidFill>
              <a:srgbClr val="343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8"/>
          <p:cNvSpPr/>
          <p:nvPr/>
        </p:nvSpPr>
        <p:spPr>
          <a:xfrm>
            <a:off x="76320" y="990720"/>
            <a:ext cx="5105160" cy="5790960"/>
          </a:xfrm>
          <a:prstGeom prst="rect">
            <a:avLst/>
          </a:prstGeom>
          <a:solidFill>
            <a:srgbClr val="343f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5" descr="MVC-131S"/>
          <p:cNvPicPr/>
          <p:nvPr/>
        </p:nvPicPr>
        <p:blipFill>
          <a:blip r:embed="rId1"/>
          <a:stretch/>
        </p:blipFill>
        <p:spPr>
          <a:xfrm>
            <a:off x="228600" y="3276720"/>
            <a:ext cx="4495680" cy="33717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4" descr="2003101506a"/>
          <p:cNvPicPr/>
          <p:nvPr/>
        </p:nvPicPr>
        <p:blipFill>
          <a:blip r:embed="rId2"/>
          <a:stretch/>
        </p:blipFill>
        <p:spPr>
          <a:xfrm>
            <a:off x="228600" y="11239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7"/>
          <p:cNvSpPr/>
          <p:nvPr/>
        </p:nvSpPr>
        <p:spPr>
          <a:xfrm>
            <a:off x="5334120" y="3657600"/>
            <a:ext cx="33494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ahoma"/>
              </a:rPr>
              <a:t>Pablo Medina Cofr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Tahoma"/>
              </a:rPr>
              <a:t>27-10-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934920"/>
            <a:ext cx="9144000" cy="0"/>
          </a:xfrm>
          <a:prstGeom prst="line">
            <a:avLst/>
          </a:prstGeom>
          <a:ln w="38160">
            <a:solidFill>
              <a:srgbClr val="343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5" descr="vinnetaAzul"/>
          <p:cNvPicPr/>
          <p:nvPr/>
        </p:nvPicPr>
        <p:blipFill>
          <a:blip r:embed="rId3"/>
          <a:stretch/>
        </p:blipFill>
        <p:spPr>
          <a:xfrm>
            <a:off x="2771640" y="1523880"/>
            <a:ext cx="6372360" cy="1219320"/>
          </a:xfrm>
          <a:prstGeom prst="rect">
            <a:avLst/>
          </a:prstGeom>
          <a:ln w="19080">
            <a:solidFill>
              <a:srgbClr val="294587"/>
            </a:solidFill>
            <a:miter/>
          </a:ln>
        </p:spPr>
      </p:pic>
      <p:sp>
        <p:nvSpPr>
          <p:cNvPr id="51" name="Rectangle 16"/>
          <p:cNvSpPr/>
          <p:nvPr/>
        </p:nvSpPr>
        <p:spPr>
          <a:xfrm>
            <a:off x="3444840" y="1844640"/>
            <a:ext cx="5029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ahoma"/>
              </a:rPr>
              <a:t>EL4103 – SISTEMAS DE ENERGÍA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ahoma"/>
              </a:rPr>
              <a:t>EQUIPOS ELÉCT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Generadores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Al igual que la mayoría de los elementos de un sistema eléctrico de potencia, es un proyecto en si: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222200" y="2924280"/>
            <a:ext cx="630252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Generadores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39640" y="1527120"/>
            <a:ext cx="7848720" cy="43927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500880" y="6210360"/>
            <a:ext cx="113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Tahoma"/>
              </a:rPr>
              <a:t>Fuente: Alst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990720"/>
            <a:ext cx="6935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Generadores: Modelo de rotor cilíndrico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920" y="1752120"/>
            <a:ext cx="6121440" cy="31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Ecuaciones del estator (notación generador):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Ecuaciones del rotor: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</p:txBody>
      </p:sp>
      <p:graphicFrame>
        <p:nvGraphicFramePr>
          <p:cNvPr id="60" name="Rectangle 3"/>
          <p:cNvGraphicFramePr/>
          <p:nvPr/>
        </p:nvGraphicFramePr>
        <p:xfrm>
          <a:off x="549360" y="2205000"/>
          <a:ext cx="4451400" cy="21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9360" y="2205000"/>
                    <a:ext cx="445140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Rectangle 3"/>
          <p:cNvGraphicFramePr/>
          <p:nvPr/>
        </p:nvGraphicFramePr>
        <p:xfrm>
          <a:off x="477720" y="5124600"/>
          <a:ext cx="4664160" cy="146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Rectangle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7720" y="5124600"/>
                    <a:ext cx="4664160" cy="14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3070080" y="2637000"/>
            <a:ext cx="2737080" cy="70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Tahoma"/>
              </a:rPr>
              <a:t>Los enlaces mutuos  son positivos si una corriente positiva en un enrollado genera un flujo propio y mutuo en la misma direcció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494080" y="3284640"/>
            <a:ext cx="576000" cy="14436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990720"/>
            <a:ext cx="82310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Generadores: Modelo de rotor cilíndrico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218440" cy="32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Si se considera un sistema equilibrado en corrientes y en estado estable: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Si además se considera la resistencia de enrollados de estator, y se aplica la Ley de Faraday – Lenz: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</p:txBody>
      </p:sp>
      <p:graphicFrame>
        <p:nvGraphicFramePr>
          <p:cNvPr id="68" name="Rectangle 3"/>
          <p:cNvGraphicFramePr/>
          <p:nvPr/>
        </p:nvGraphicFramePr>
        <p:xfrm>
          <a:off x="1003320" y="2492280"/>
          <a:ext cx="5621400" cy="17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3320" y="2492280"/>
                    <a:ext cx="562140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Rectangle 3"/>
          <p:cNvGraphicFramePr/>
          <p:nvPr/>
        </p:nvGraphicFramePr>
        <p:xfrm>
          <a:off x="1025640" y="5052960"/>
          <a:ext cx="7181640" cy="167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" name="Rectangle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25640" y="5052960"/>
                    <a:ext cx="7181640" cy="16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990720"/>
            <a:ext cx="6864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Generadores: Modelo de rotor cilíndrico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362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Considerando sólo la fase a (las otras están desfasadas en 120°)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Si además: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</p:txBody>
      </p:sp>
      <p:graphicFrame>
        <p:nvGraphicFramePr>
          <p:cNvPr id="74" name="Rectangle 3"/>
          <p:cNvGraphicFramePr/>
          <p:nvPr/>
        </p:nvGraphicFramePr>
        <p:xfrm>
          <a:off x="974880" y="2378160"/>
          <a:ext cx="3541680" cy="159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4880" y="2378160"/>
                    <a:ext cx="3541680" cy="15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2481120" y="4441680"/>
          <a:ext cx="3461040" cy="312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1120" y="4441680"/>
                    <a:ext cx="3461040" cy="3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Rectangle 3"/>
          <p:cNvGraphicFramePr/>
          <p:nvPr/>
        </p:nvGraphicFramePr>
        <p:xfrm>
          <a:off x="1889280" y="5084640"/>
          <a:ext cx="3487680" cy="1338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" name="Rectangle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89280" y="5084640"/>
                    <a:ext cx="3487680" cy="13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Generador: rotor cilíndrico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Carta de operación: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755640" y="1843200"/>
            <a:ext cx="6669000" cy="52578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7543440" y="6137280"/>
            <a:ext cx="118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Tahoma"/>
              </a:rPr>
              <a:t>Fuente: ENDES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0T21:10:30Z</dcterms:created>
  <dc:creator>cl132563349</dc:creator>
  <dc:description/>
  <dc:language>en-US</dc:language>
  <cp:lastModifiedBy>cl143600734</cp:lastModifiedBy>
  <dcterms:modified xsi:type="dcterms:W3CDTF">2011-11-08T10:48:30Z</dcterms:modified>
  <cp:revision>119</cp:revision>
  <dc:subject/>
  <dc:title>Diapositiva 1</dc:title>
</cp:coreProperties>
</file>