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D353-C4A0-437E-A622-571BD4F4C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EFFE-111D-4783-B656-F1FF5DB31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ECD0-7DE1-4127-90D9-0355F657D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CC1D-1104-4E5D-B908-B75D510B6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DD14-6919-4E8C-86EF-7AEF43755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63AE-1E00-42BF-907F-196A8A22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FAD5-62B4-400C-950C-F1D75B890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4948-8B66-49CF-A4E5-43C1055C1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4B82-5057-4ADE-B899-9F5530632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392C-DA42-4B6D-8C42-538100FF6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9284-F687-490F-A813-722AF702B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398F-020E-4D86-82BF-320B372CE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F37-9581-4B16-BADC-AD0C54D3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7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l igual que la mayoría de los elementos de un sistema eléctrico de potencia, es un proyecto en s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2200" y="2924280"/>
            <a:ext cx="6302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784872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00880" y="6210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Als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1752120"/>
            <a:ext cx="612144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estator (notación generador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rot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549360" y="2205000"/>
          <a:ext cx="445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205000"/>
                    <a:ext cx="445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Rectangle 3"/>
          <p:cNvGraphicFramePr/>
          <p:nvPr/>
        </p:nvGraphicFramePr>
        <p:xfrm>
          <a:off x="477720" y="5124600"/>
          <a:ext cx="466416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5124600"/>
                    <a:ext cx="46641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070080" y="2637000"/>
            <a:ext cx="273708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Los enlaces mutuos  son positivos si una corriente positiva en un enrollado genera un flujo propio y mutuo en la mism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94080" y="3284640"/>
            <a:ext cx="576000" cy="14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1844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onsidera un sistema equilibrado en corrientes y en estado establ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 se considera la resistencia de enrollados de estator, y se aplica la Ley de Faraday – Lenz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1003320" y="2492280"/>
          <a:ext cx="56214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492280"/>
                    <a:ext cx="5621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Rectangle 3"/>
          <p:cNvGraphicFramePr/>
          <p:nvPr/>
        </p:nvGraphicFramePr>
        <p:xfrm>
          <a:off x="1025640" y="5052960"/>
          <a:ext cx="718164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5052960"/>
                    <a:ext cx="71816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86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62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siderando sólo la fase a (las otras están desfasadas en 120°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974880" y="2378160"/>
          <a:ext cx="35416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378160"/>
                    <a:ext cx="35416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481120" y="4441680"/>
          <a:ext cx="34610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1120" y="4441680"/>
                    <a:ext cx="34610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Rectangle 3"/>
          <p:cNvGraphicFramePr/>
          <p:nvPr/>
        </p:nvGraphicFramePr>
        <p:xfrm>
          <a:off x="1889280" y="5084640"/>
          <a:ext cx="3487680" cy="13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9280" y="5084640"/>
                    <a:ext cx="348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: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rta de operació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843200"/>
            <a:ext cx="666900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3440" y="61372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END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1-08T10:48:30Z</dcterms:modified>
  <cp:revision>119</cp:revision>
  <dc:subject/>
  <dc:title>Diapositiva 1</dc:title>
</cp:coreProperties>
</file>