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81B9-6E33-4D49-AC4E-B7DBC94FD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D800-3BE3-476E-8893-99321A42E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1D22-65BE-4050-94CC-BC04F50A0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6824-6FD0-4308-B9DA-432EF65B1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1F26-4DBA-41B2-8FCB-A46796B03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F156-E004-4575-B9FF-A10F38ECA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FC1B-19DF-40FC-A4BA-18322A111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8D86-C81B-4112-9F32-28DFB1689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8D53-FB6B-4957-B2B8-82735985B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A9FA-F1E4-497D-8BA7-F86A63CB0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AAD1-EAA1-47EC-A297-5F3DF5A42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87FA-8DAC-4B4D-82CD-6A4C7873D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0D0-D6CD-4252-A60E-EAB80267A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7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l igual que la mayoría de los elementos de un sistema eléctrico de potencia, es un proyecto en s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2200" y="2924280"/>
            <a:ext cx="6302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784872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00880" y="6210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Alst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935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0" y="1752120"/>
            <a:ext cx="612144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estator (notación generador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rot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549360" y="2205000"/>
          <a:ext cx="4451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205000"/>
                    <a:ext cx="4451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Rectangle 3"/>
          <p:cNvGraphicFramePr/>
          <p:nvPr/>
        </p:nvGraphicFramePr>
        <p:xfrm>
          <a:off x="477720" y="5124600"/>
          <a:ext cx="466416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720" y="5124600"/>
                    <a:ext cx="46641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070080" y="2637000"/>
            <a:ext cx="273708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Los enlaces mutuos  son positivos si una corriente positiva en un enrollado genera un flujo propio y mutuo en la misma direc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494080" y="3284640"/>
            <a:ext cx="576000" cy="144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21844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onsidera un sistema equilibrado en corrientes y en estado establ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 se considera la resistencia de enrollados de estator, y se aplica la Ley de Faraday – Lenz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1003320" y="2492280"/>
          <a:ext cx="56214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492280"/>
                    <a:ext cx="5621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Rectangle 3"/>
          <p:cNvGraphicFramePr/>
          <p:nvPr/>
        </p:nvGraphicFramePr>
        <p:xfrm>
          <a:off x="1025640" y="5052960"/>
          <a:ext cx="718164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5640" y="5052960"/>
                    <a:ext cx="718164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86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62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siderando sólo la fase a (las otras están desfasadas en 120°)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4" name="Rectangle 3"/>
          <p:cNvGraphicFramePr/>
          <p:nvPr/>
        </p:nvGraphicFramePr>
        <p:xfrm>
          <a:off x="974880" y="2378160"/>
          <a:ext cx="35416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2378160"/>
                    <a:ext cx="35416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481120" y="4441680"/>
          <a:ext cx="34610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1120" y="4441680"/>
                    <a:ext cx="34610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Rectangle 3"/>
          <p:cNvGraphicFramePr/>
          <p:nvPr/>
        </p:nvGraphicFramePr>
        <p:xfrm>
          <a:off x="1889280" y="5084640"/>
          <a:ext cx="3487680" cy="13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9280" y="5084640"/>
                    <a:ext cx="34876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: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arta de operació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1843200"/>
            <a:ext cx="666900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3440" y="61372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END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1-08T10:48:30Z</dcterms:modified>
  <cp:revision>119</cp:revision>
  <dc:subject/>
  <dc:title>Diapositiva 1</dc:title>
</cp:coreProperties>
</file>