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2.png" ContentType="image/png"/>
  <Override PartName="/ppt/media/image11.wmf" ContentType="image/x-wmf"/>
  <Override PartName="/ppt/media/image17.jpeg" ContentType="image/jpe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6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3.wmf" ContentType="image/x-wmf"/>
  <Override PartName="/ppt/media/image18.wmf" ContentType="image/x-wmf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BFEE-5452-4BB8-8C79-91341872F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6088-027B-4E6D-AD23-A1C9DB63E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7705-E10C-41DD-8FCA-9A14806C8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004C-A284-4930-86C5-AD961370F4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3037-6C1C-4678-B5E8-BA56664985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1291-6BD8-4E96-97BE-EBF11984B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7791-7E78-4570-9199-662A6AE42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4F65-CBB1-42E7-B4BE-EEC8DCD22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49C8-99B2-4C86-88C4-07124DCE3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127E-096E-4FF1-A4DA-B9E5F45CC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8850-01F3-42A1-8A30-84329C563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C991-FDA8-4561-AD8E-C050B1E9D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AE41-C0CB-42FB-A1F4-70EE96F53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7"/>
          <p:cNvSpPr/>
          <p:nvPr/>
        </p:nvSpPr>
        <p:spPr>
          <a:xfrm>
            <a:off x="3276720" y="457200"/>
            <a:ext cx="586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97840" y="179280"/>
            <a:ext cx="1295280" cy="646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hyperlink" Target="http://www05.abb.com/global/scot/scot252.nsf/veritydisplay/4481cda8ee9a0831852573b40051bb17/$File/1LAB000073_LMPT_2007May_light.pdf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hyperlink" Target="http://www05.abb.com/global/scot/scot252.nsf/veritydisplay/271cc80d8a81e40f852572ab005c9fa5/$File/1LAB000087_ShellFormTrafo_Spanish.pdf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25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epresentación en p.u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e la primera fila de las ecuaciones de la matriz ABC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82" name="Rectangle 3"/>
          <p:cNvGraphicFramePr/>
          <p:nvPr/>
        </p:nvGraphicFramePr>
        <p:xfrm>
          <a:off x="1042920" y="2668680"/>
          <a:ext cx="188928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68680"/>
                    <a:ext cx="1889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Rectangle 3"/>
          <p:cNvGraphicFramePr/>
          <p:nvPr/>
        </p:nvGraphicFramePr>
        <p:xfrm>
          <a:off x="4572000" y="2671920"/>
          <a:ext cx="2133720" cy="66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671920"/>
                    <a:ext cx="213372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03640" y="3213000"/>
          <a:ext cx="1036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3213000"/>
                    <a:ext cx="103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395960" y="3416400"/>
          <a:ext cx="4833720" cy="296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95960" y="3416400"/>
                    <a:ext cx="48337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843200" y="5783400"/>
          <a:ext cx="3879720" cy="91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43200" y="5783400"/>
                    <a:ext cx="3879720" cy="91260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203640" y="2924280"/>
            <a:ext cx="1152360" cy="215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916280" y="2962440"/>
            <a:ext cx="504720" cy="79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360" y="3780000"/>
            <a:ext cx="340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Referido al primario y en posición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49440" y="4019400"/>
          <a:ext cx="2792160" cy="142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9440" y="4019400"/>
                    <a:ext cx="279216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“Boosters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ompuestos por un “transformador serie” y un “transformador paralelo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ermiten realizar operaciones de regulación, ya sea de tensión o de potencia activ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079640" y="31050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30400" y="3502080"/>
            <a:ext cx="127080" cy="1760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30400" y="3678120"/>
            <a:ext cx="127080" cy="1778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19240" y="3855960"/>
            <a:ext cx="127080" cy="17640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1760" y="34354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95360" y="34354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340360" y="3550320"/>
            <a:ext cx="135000" cy="531000"/>
            <a:chOff x="2340360" y="3550320"/>
            <a:chExt cx="135000" cy="531000"/>
          </a:xfrm>
        </p:grpSpPr>
        <p:sp>
          <p:nvSpPr>
            <p:cNvPr id="206" name=""/>
            <p:cNvSpPr/>
            <p:nvPr/>
          </p:nvSpPr>
          <p:spPr>
            <a:xfrm rot="10635000">
              <a:off x="2352960" y="390312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0635000">
              <a:off x="2344320" y="372816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0635000">
              <a:off x="2346120" y="3552840"/>
              <a:ext cx="118080" cy="17496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V="1">
            <a:off x="2030400" y="310464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30400" y="4027320"/>
            <a:ext cx="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079640" y="4403880"/>
            <a:ext cx="36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30400" y="310500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495240" y="3417840"/>
            <a:ext cx="575280" cy="122760"/>
            <a:chOff x="3495240" y="3417840"/>
            <a:chExt cx="575280" cy="122760"/>
          </a:xfrm>
        </p:grpSpPr>
        <p:sp>
          <p:nvSpPr>
            <p:cNvPr id="214" name=""/>
            <p:cNvSpPr/>
            <p:nvPr/>
          </p:nvSpPr>
          <p:spPr>
            <a:xfrm rot="16060200">
              <a:off x="3538440" y="338760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060200">
              <a:off x="3728880" y="338004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060200">
              <a:off x="3919320" y="3381480"/>
              <a:ext cx="107640" cy="1900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46360" y="3083400"/>
            <a:ext cx="516240" cy="191520"/>
            <a:chOff x="3546360" y="3083400"/>
            <a:chExt cx="516240" cy="191520"/>
          </a:xfrm>
        </p:grpSpPr>
        <p:sp>
          <p:nvSpPr>
            <p:cNvPr id="218" name=""/>
            <p:cNvSpPr/>
            <p:nvPr/>
          </p:nvSpPr>
          <p:spPr>
            <a:xfrm rot="5196600">
              <a:off x="3887280" y="308952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196600">
              <a:off x="3718800" y="309960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196600">
              <a:off x="3549600" y="3094200"/>
              <a:ext cx="171720" cy="1684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25760" y="3309840"/>
            <a:ext cx="758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7560" y="3379680"/>
            <a:ext cx="7603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73200" y="355284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73200" y="373068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943360" y="3543480"/>
            <a:ext cx="31752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68480" y="3695760"/>
            <a:ext cx="637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54440" y="3517920"/>
            <a:ext cx="619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67000" y="35384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57560" y="30830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73200" y="4167360"/>
            <a:ext cx="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73200" y="406548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73200" y="421488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57560" y="35179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75080" y="35100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8720" y="2946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7640" y="4245120"/>
            <a:ext cx="3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2739960"/>
            <a:ext cx="59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64240" y="3576600"/>
            <a:ext cx="1679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a’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s-CL" sz="1600" spc="-1" strike="noStrike">
                <a:solidFill>
                  <a:srgbClr val="80808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808080"/>
                </a:solidFill>
                <a:latin typeface="Tahoma"/>
                <a:ea typeface="Tahoma"/>
              </a:rPr>
              <a:t>a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2880" y="2938320"/>
            <a:ext cx="3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79640" y="51624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30400" y="5559480"/>
            <a:ext cx="127080" cy="1760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30400" y="5735520"/>
            <a:ext cx="127080" cy="1778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19240" y="5913360"/>
            <a:ext cx="127080" cy="17640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1760" y="54928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95360" y="54928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340360" y="5607720"/>
            <a:ext cx="135000" cy="531000"/>
            <a:chOff x="2340360" y="5607720"/>
            <a:chExt cx="135000" cy="531000"/>
          </a:xfrm>
        </p:grpSpPr>
        <p:sp>
          <p:nvSpPr>
            <p:cNvPr id="247" name=""/>
            <p:cNvSpPr/>
            <p:nvPr/>
          </p:nvSpPr>
          <p:spPr>
            <a:xfrm rot="10635000">
              <a:off x="2352960" y="596052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0635000">
              <a:off x="2344320" y="578556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0635000">
              <a:off x="2346120" y="5610240"/>
              <a:ext cx="118080" cy="17496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2030400" y="536580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30400" y="6084720"/>
            <a:ext cx="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079280" y="6461280"/>
            <a:ext cx="323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30400" y="516240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495240" y="5475240"/>
            <a:ext cx="575280" cy="122760"/>
            <a:chOff x="3495240" y="5475240"/>
            <a:chExt cx="575280" cy="122760"/>
          </a:xfrm>
        </p:grpSpPr>
        <p:sp>
          <p:nvSpPr>
            <p:cNvPr id="255" name=""/>
            <p:cNvSpPr/>
            <p:nvPr/>
          </p:nvSpPr>
          <p:spPr>
            <a:xfrm rot="16060200">
              <a:off x="3538440" y="544500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060200">
              <a:off x="3728880" y="543744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060200">
              <a:off x="3919320" y="5438880"/>
              <a:ext cx="107640" cy="1900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546360" y="5140800"/>
            <a:ext cx="516240" cy="191520"/>
            <a:chOff x="3546360" y="5140800"/>
            <a:chExt cx="516240" cy="191520"/>
          </a:xfrm>
        </p:grpSpPr>
        <p:sp>
          <p:nvSpPr>
            <p:cNvPr id="259" name=""/>
            <p:cNvSpPr/>
            <p:nvPr/>
          </p:nvSpPr>
          <p:spPr>
            <a:xfrm rot="5196600">
              <a:off x="3887280" y="514692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196600">
              <a:off x="3718800" y="515700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196600">
              <a:off x="3549600" y="5151600"/>
              <a:ext cx="171720" cy="1684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425760" y="5367240"/>
            <a:ext cx="758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7560" y="5437080"/>
            <a:ext cx="7603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73200" y="561024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73200" y="578808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943360" y="5600880"/>
            <a:ext cx="31752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68480" y="5753160"/>
            <a:ext cx="637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54440" y="5575320"/>
            <a:ext cx="619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67000" y="55958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57560" y="51404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73200" y="6224760"/>
            <a:ext cx="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73200" y="612288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73200" y="627228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57560" y="55753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75080" y="55674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8720" y="4927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880" y="625464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65080" y="4797360"/>
            <a:ext cx="58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78200" y="563400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a’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s-CL" sz="1600" spc="-1" strike="noStrike">
                <a:solidFill>
                  <a:srgbClr val="80808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808080"/>
                </a:solidFill>
                <a:latin typeface="Tahoma"/>
                <a:ea typeface="Tahoma"/>
              </a:rPr>
              <a:t>a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82880" y="4995720"/>
            <a:ext cx="3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603840" y="308412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15000" y="3403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892920" y="3670200"/>
            <a:ext cx="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00920" y="3386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324560" y="309672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324560" y="285264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023840" y="5364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8720" y="51530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175520" y="4300560"/>
            <a:ext cx="1857240" cy="1593720"/>
            <a:chOff x="7175520" y="4300560"/>
            <a:chExt cx="1857240" cy="1593720"/>
          </a:xfrm>
        </p:grpSpPr>
        <p:sp>
          <p:nvSpPr>
            <p:cNvPr id="290" name=""/>
            <p:cNvSpPr/>
            <p:nvPr/>
          </p:nvSpPr>
          <p:spPr>
            <a:xfrm flipV="1">
              <a:off x="8084880" y="4581360"/>
              <a:ext cx="0" cy="71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0280" y="5293440"/>
              <a:ext cx="622440" cy="35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457040" y="5294160"/>
              <a:ext cx="622080" cy="359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77880" y="4300560"/>
              <a:ext cx="390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638560" y="5516640"/>
              <a:ext cx="394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b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75520" y="551664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2400" y="4610160"/>
              <a:ext cx="576000" cy="1008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456320" y="4583520"/>
              <a:ext cx="584640" cy="10029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7518960" y="5659560"/>
              <a:ext cx="1161000" cy="4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01680" y="4883400"/>
              <a:ext cx="389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7120" y="5592960"/>
              <a:ext cx="71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cb</a:t>
              </a: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=</a:t>
              </a:r>
              <a:r>
                <a:rPr b="1" lang="es-CL" sz="1200" spc="-1" strike="noStrike">
                  <a:solidFill>
                    <a:srgbClr val="ff3300"/>
                  </a:solidFill>
                  <a:latin typeface="Tahoma"/>
                </a:rPr>
                <a:t>-V</a:t>
              </a:r>
              <a:r>
                <a:rPr b="1" lang="es-CL" sz="1200" spc="-1" strike="noStrike" baseline="-25000">
                  <a:solidFill>
                    <a:srgbClr val="ff3300"/>
                  </a:solidFill>
                  <a:latin typeface="Tahoma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13480" y="4869000"/>
              <a:ext cx="378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042920" y="674208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7640" y="6496200"/>
            <a:ext cx="3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443640" y="593676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54800" y="6256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59640" y="652464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40720" y="62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93080" y="587664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07120" y="674064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93080" y="5876640"/>
            <a:ext cx="287280" cy="865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“Boosters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primer transformador suma una “muestra” del voltaje del primario. Luego, la suma vectorial está en fase con el voltaje primario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utiliza para control de tens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segundo transformador suma una “muestra” de un voltaje del primario, pero desfasado en 90°. Si la “muestra” es pequeña, la magnitud prácticamente no cambia y sólo se introduce un desfas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utiliza para el control de potencia activ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relación de vueltas es complej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86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quipos presentes en todos los niveles de un SEP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centrales, aumentan la tensión para transmitir la potencia generada a grandes distancias, minimizando las pérdid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Junto a los domicilios, reduciendo la tensión hasta un nivel “seguro” y útil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plicaciones especiales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Regulación de tensión, e incluso “flujo de potencia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los SEP’s se los encuentra como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Banco de autotransformadore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tipo “shell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tipo “core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de tres enrollad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173196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7777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tip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29624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Núcleo o “core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2504880" cy="277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4668840" cy="460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511320" y="6210360"/>
            <a:ext cx="938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tip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1068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Acorazado o “shell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884680" cy="198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456000" cy="185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15160" y="907920"/>
            <a:ext cx="232884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708360" y="4495680"/>
            <a:ext cx="38163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82760" y="6165720"/>
            <a:ext cx="938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35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circuito equivalente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circuito equivalente da cuenta de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érdidas Joule en enrollad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Flujo magnético no enlazado por el fierr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orriente de magnetización (</a:t>
            </a:r>
            <a:r>
              <a:rPr b="1" lang="el-GR" sz="1600" spc="-1" strike="noStrike">
                <a:solidFill>
                  <a:srgbClr val="343f7f"/>
                </a:solidFill>
                <a:latin typeface="Tahoma"/>
                <a:ea typeface="Tahoma"/>
              </a:rPr>
              <a:t>μ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  <a:ea typeface="Tahoma"/>
              </a:rPr>
              <a:t> del hierro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 finito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érdidas por corrientes inducidas en el fierr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circuito no da cuenta de la existencia de armónica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ebido a la relación no lineal entre B y H, la corriente de magnetización no puede ser sinusoidal si se quiere un flujo sinusoidal para producir una tensión de iguales característic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4140360" y="2060640"/>
            <a:ext cx="50036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Ensayo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os parámetros del modelo equivalente deben ser estimados a partir de ensay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sayo de cortocircuito: determinación de la “rama serie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sayo de circuito abierto: determinación de la “rama shunt”. ¿está correcto según la figura?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Uso de “wattmetro” para determinación de resistenci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176720" cy="179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321080" cy="185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94760" y="2133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90000" y="1749600"/>
            <a:ext cx="290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14280" y="26370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28320" y="3801960"/>
            <a:ext cx="46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77560" y="50133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52200" y="49417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trifásic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este caso, el tipo de conexión es irrelevante para la determinación de la representación del equipo, debido a la forma en que se realizan los ensayos. Será relevante sólo para el tema de los desfases y cortocircuitos desbalancead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6000" y="4581360"/>
            <a:ext cx="2808000" cy="210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>
            <a:off x="3274560" y="6184800"/>
            <a:ext cx="136836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4390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82600" y="4175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8520" y="4149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4640" y="43894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28280" y="37638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2320" y="354816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7880" y="35226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84360" y="3762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33680" y="30942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97000" y="287820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22920" y="2852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89040" y="3092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3560" y="3035160"/>
            <a:ext cx="431640" cy="144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23840" y="4437000"/>
            <a:ext cx="474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" y="3878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960" y="38527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960" y="321480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280" y="31892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35733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680" y="35481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9040" y="309240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9040" y="364500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9040" y="376704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9320" y="43149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1200" y="43894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1200" y="4024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0920" y="3092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309420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3763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4000" y="4390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4384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377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37160" y="30942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364500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81040" y="33544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635720" y="5877720"/>
            <a:ext cx="110160" cy="226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914800">
            <a:off x="4384440" y="54442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248360" y="5934960"/>
            <a:ext cx="109800" cy="226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914640" y="6000480"/>
            <a:ext cx="51480" cy="253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914800">
            <a:off x="3860640" y="55000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914800">
            <a:off x="3428640" y="564444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429588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6320" y="400536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37080" y="305424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01760" y="276372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716280"/>
            <a:ext cx="8636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3611520"/>
            <a:ext cx="50508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3716280"/>
            <a:ext cx="792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4437000"/>
            <a:ext cx="21607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3716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24360" y="378900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59040" y="38908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4200" y="3284640"/>
            <a:ext cx="44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ahoma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363060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5040" y="33400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885080" y="3860640"/>
            <a:ext cx="142560" cy="431640"/>
            <a:chOff x="7885080" y="3860640"/>
            <a:chExt cx="142560" cy="431640"/>
          </a:xfrm>
        </p:grpSpPr>
        <p:sp>
          <p:nvSpPr>
            <p:cNvPr id="141" name=""/>
            <p:cNvSpPr/>
            <p:nvPr/>
          </p:nvSpPr>
          <p:spPr>
            <a:xfrm>
              <a:off x="7885080" y="386064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85080" y="400500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85080" y="414792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077320" y="3856320"/>
            <a:ext cx="142560" cy="431640"/>
            <a:chOff x="8077320" y="3856320"/>
            <a:chExt cx="142560" cy="431640"/>
          </a:xfrm>
        </p:grpSpPr>
        <p:sp>
          <p:nvSpPr>
            <p:cNvPr id="145" name=""/>
            <p:cNvSpPr/>
            <p:nvPr/>
          </p:nvSpPr>
          <p:spPr>
            <a:xfrm rot="10800000">
              <a:off x="8077320" y="414360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8077320" y="399924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8077320" y="385632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885080" y="371628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885080" y="429228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429264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38960" y="4437000"/>
            <a:ext cx="21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38960" y="3711600"/>
            <a:ext cx="21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29600" y="371160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94560" y="393372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545680" y="3958920"/>
            <a:ext cx="6840" cy="363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5734080"/>
            <a:ext cx="26636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n SE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Voltaje entre f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rriente de lí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los sistemas eléctricos, es muy común que se utilicen “bancos de autotransformadores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umenta la robustez del sistem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horro en enrollad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Desde el punto de vista de proyecto eléctrico, son más complej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Necesidad de esquema de reemplazo de unida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Mayor cantidad de muros cortafuegos y sistema de extinción de incendi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2448000" cy="3265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76720" y="1009800"/>
            <a:ext cx="4067280" cy="3051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19746000">
            <a:off x="4179960" y="4681440"/>
            <a:ext cx="151452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Representación en modelo pi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asume que Y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0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 es pequeña, la representación ABCD del transformador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=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B=NZ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+Z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1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/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=0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=1/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demás, recordar que Z=Z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1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+N</a:t>
            </a:r>
            <a:r>
              <a:rPr b="1" lang="es-CL" sz="1800" spc="-1" strike="noStrike" baseline="30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Z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. Luego B=Z/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puede demostrar que el circuito pi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832040" y="48448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11320" y="4708440"/>
            <a:ext cx="576360" cy="2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75080" y="48448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2247120" y="5359680"/>
            <a:ext cx="576360" cy="2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50960" y="484452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550960" y="5805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702600" y="5347080"/>
            <a:ext cx="576360" cy="28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06800" y="483192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006800" y="57924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2040" y="6140520"/>
            <a:ext cx="273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37120" y="4645080"/>
            <a:ext cx="130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=(1-N)/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4240" y="534816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31840" y="43783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Z/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36400" y="5013360"/>
            <a:ext cx="144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=(N</a:t>
            </a:r>
            <a:r>
              <a:rPr b="1" lang="es-CL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N)/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5200" y="5348160"/>
            <a:ext cx="40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5800680"/>
            <a:ext cx="3764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43e75"/>
                </a:solidFill>
                <a:latin typeface="Tahoma"/>
              </a:rPr>
              <a:t>Ojo: Z</a:t>
            </a:r>
            <a:r>
              <a:rPr b="1" lang="es-CL" sz="1600" spc="-1" strike="noStrike" baseline="-25000">
                <a:solidFill>
                  <a:srgbClr val="243e75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243e75"/>
                </a:solidFill>
                <a:latin typeface="Tahoma"/>
              </a:rPr>
              <a:t> depende de la posición del tap (del valor que tenga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0-24T00:38:49Z</dcterms:modified>
  <cp:revision>83</cp:revision>
  <dc:subject/>
  <dc:title>Diapositiva 1</dc:title>
</cp:coreProperties>
</file>