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.png" ContentType="image/png"/>
  <Override PartName="/ppt/media/image11.wmf" ContentType="image/x-wmf"/>
  <Override PartName="/ppt/media/image17.jpeg" ContentType="image/jpe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3.wmf" ContentType="image/x-wmf"/>
  <Override PartName="/ppt/media/image18.wmf" ContentType="image/x-wmf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74FF-2CD2-44EC-987D-412525660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5786-7A42-48CF-B58B-62FF2C403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A0D0-9A30-4F63-BE59-FB5A85921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4D03-9678-415C-BC55-A16B1FF57B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DAFA-B492-4B6A-BA5F-1D0C9D982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6AD5-A36D-4531-9991-28496E444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8F33-5A3E-4DAA-983A-09B70859D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2677-9069-4082-80A8-E4B7C35B4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C595-A40D-4CF4-9B77-9071FD96F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7B4D-137D-422C-B527-1DCBA7A2D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04D6-E197-4037-B7C0-B45FA4D2B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0C93-2E9D-4F97-8E59-95A6375E0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B466-56F9-4F36-83C2-E0F8C491E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hyperlink" Target="http://www05.abb.com/global/scot/scot252.nsf/veritydisplay/4481cda8ee9a0831852573b40051bb17/$File/1LAB000073_LMPT_2007May_light.pdf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hyperlink" Target="http://www05.abb.com/global/scot/scot252.nsf/veritydisplay/271cc80d8a81e40f852572ab005c9fa5/$File/1LAB000087_ShellFormTrafo_Spanish.pdf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25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epresentación en p.u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 la primera fila de las ecuaciones de la matriz ABC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82" name="Rectangle 3"/>
          <p:cNvGraphicFramePr/>
          <p:nvPr/>
        </p:nvGraphicFramePr>
        <p:xfrm>
          <a:off x="1042920" y="2668680"/>
          <a:ext cx="1889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68680"/>
                    <a:ext cx="1889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Rectangle 3"/>
          <p:cNvGraphicFramePr/>
          <p:nvPr/>
        </p:nvGraphicFramePr>
        <p:xfrm>
          <a:off x="4572000" y="2671920"/>
          <a:ext cx="2133720" cy="66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671920"/>
                    <a:ext cx="213372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03640" y="3213000"/>
          <a:ext cx="1036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3213000"/>
                    <a:ext cx="103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395960" y="3416400"/>
          <a:ext cx="4833720" cy="29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95960" y="3416400"/>
                    <a:ext cx="48337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843200" y="5783400"/>
          <a:ext cx="3879720" cy="91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43200" y="5783400"/>
                    <a:ext cx="3879720" cy="91260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203640" y="2924280"/>
            <a:ext cx="1152360" cy="215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916280" y="2962440"/>
            <a:ext cx="50472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360" y="3780000"/>
            <a:ext cx="340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ferido al primario y en posición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49440" y="4019400"/>
          <a:ext cx="2792160" cy="14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440" y="4019400"/>
                    <a:ext cx="27921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mpuestos por un “transformador serie” y un “transformador paralelo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ermiten realizar operaciones de regulación, ya sea de tensión o de potencia activ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079640" y="31050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30400" y="35020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30400" y="36781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19240" y="38559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17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953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340360" y="3550320"/>
            <a:ext cx="135000" cy="531000"/>
            <a:chOff x="2340360" y="3550320"/>
            <a:chExt cx="135000" cy="531000"/>
          </a:xfrm>
        </p:grpSpPr>
        <p:sp>
          <p:nvSpPr>
            <p:cNvPr id="206" name=""/>
            <p:cNvSpPr/>
            <p:nvPr/>
          </p:nvSpPr>
          <p:spPr>
            <a:xfrm rot="10635000">
              <a:off x="2352960" y="39031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0635000">
              <a:off x="2344320" y="37281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635000">
              <a:off x="2346120" y="35528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2030400" y="310464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30400" y="40273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079640" y="4403880"/>
            <a:ext cx="36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30400" y="31050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495240" y="3417840"/>
            <a:ext cx="575280" cy="122760"/>
            <a:chOff x="3495240" y="3417840"/>
            <a:chExt cx="575280" cy="122760"/>
          </a:xfrm>
        </p:grpSpPr>
        <p:sp>
          <p:nvSpPr>
            <p:cNvPr id="214" name=""/>
            <p:cNvSpPr/>
            <p:nvPr/>
          </p:nvSpPr>
          <p:spPr>
            <a:xfrm rot="16060200">
              <a:off x="3538440" y="33876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060200">
              <a:off x="3728880" y="33800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060200">
              <a:off x="3919320" y="33814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46360" y="3083400"/>
            <a:ext cx="516240" cy="191520"/>
            <a:chOff x="3546360" y="3083400"/>
            <a:chExt cx="516240" cy="191520"/>
          </a:xfrm>
        </p:grpSpPr>
        <p:sp>
          <p:nvSpPr>
            <p:cNvPr id="218" name=""/>
            <p:cNvSpPr/>
            <p:nvPr/>
          </p:nvSpPr>
          <p:spPr>
            <a:xfrm rot="5196600">
              <a:off x="3887280" y="30895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196600">
              <a:off x="3718800" y="30996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196600">
              <a:off x="3549600" y="30942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25760" y="33098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7560" y="33796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73200" y="35528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73200" y="37306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43360" y="35434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8480" y="36957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54440" y="35179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7000" y="35384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57560" y="30830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73200" y="41673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73200" y="40654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73200" y="42148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57560" y="35179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75080" y="35100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720" y="2946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7640" y="424512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2739960"/>
            <a:ext cx="59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4240" y="3576600"/>
            <a:ext cx="1679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2880" y="29383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79640" y="51624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30400" y="55594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30400" y="57355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240" y="59133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17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53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340360" y="5607720"/>
            <a:ext cx="135000" cy="531000"/>
            <a:chOff x="2340360" y="5607720"/>
            <a:chExt cx="135000" cy="531000"/>
          </a:xfrm>
        </p:grpSpPr>
        <p:sp>
          <p:nvSpPr>
            <p:cNvPr id="247" name=""/>
            <p:cNvSpPr/>
            <p:nvPr/>
          </p:nvSpPr>
          <p:spPr>
            <a:xfrm rot="10635000">
              <a:off x="2352960" y="59605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0635000">
              <a:off x="2344320" y="57855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635000">
              <a:off x="2346120" y="56102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2030400" y="53658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30400" y="60847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079280" y="6461280"/>
            <a:ext cx="323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30400" y="51624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495240" y="5475240"/>
            <a:ext cx="575280" cy="122760"/>
            <a:chOff x="3495240" y="5475240"/>
            <a:chExt cx="575280" cy="122760"/>
          </a:xfrm>
        </p:grpSpPr>
        <p:sp>
          <p:nvSpPr>
            <p:cNvPr id="255" name=""/>
            <p:cNvSpPr/>
            <p:nvPr/>
          </p:nvSpPr>
          <p:spPr>
            <a:xfrm rot="16060200">
              <a:off x="3538440" y="54450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060200">
              <a:off x="3728880" y="54374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060200">
              <a:off x="3919320" y="54388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546360" y="5140800"/>
            <a:ext cx="516240" cy="191520"/>
            <a:chOff x="3546360" y="5140800"/>
            <a:chExt cx="516240" cy="191520"/>
          </a:xfrm>
        </p:grpSpPr>
        <p:sp>
          <p:nvSpPr>
            <p:cNvPr id="259" name=""/>
            <p:cNvSpPr/>
            <p:nvPr/>
          </p:nvSpPr>
          <p:spPr>
            <a:xfrm rot="5196600">
              <a:off x="3887280" y="51469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196600">
              <a:off x="3718800" y="51570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196600">
              <a:off x="3549600" y="51516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25760" y="53672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7560" y="54370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73200" y="56102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3200" y="57880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943360" y="56008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68480" y="57531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54440" y="55753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67000" y="55958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57560" y="51404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73200" y="62247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73200" y="61228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73200" y="62722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57560" y="55753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5080" y="55674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720" y="4927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880" y="62546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65080" y="4797360"/>
            <a:ext cx="58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78200" y="563400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82880" y="49957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603840" y="308412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15000" y="3403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892920" y="3670200"/>
            <a:ext cx="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00920" y="3386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324560" y="309672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324560" y="285264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023840" y="5364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8720" y="51530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175520" y="4300560"/>
            <a:ext cx="1857240" cy="1593720"/>
            <a:chOff x="7175520" y="4300560"/>
            <a:chExt cx="1857240" cy="1593720"/>
          </a:xfrm>
        </p:grpSpPr>
        <p:sp>
          <p:nvSpPr>
            <p:cNvPr id="290" name=""/>
            <p:cNvSpPr/>
            <p:nvPr/>
          </p:nvSpPr>
          <p:spPr>
            <a:xfrm flipV="1">
              <a:off x="8084880" y="4581360"/>
              <a:ext cx="0" cy="71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0280" y="5293440"/>
              <a:ext cx="622440" cy="35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57040" y="5294160"/>
              <a:ext cx="622080" cy="359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77880" y="4300560"/>
              <a:ext cx="390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38560" y="5516640"/>
              <a:ext cx="394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b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5520" y="551664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2400" y="4610160"/>
              <a:ext cx="576000" cy="1008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456320" y="4583520"/>
              <a:ext cx="584640" cy="1002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7518960" y="5659560"/>
              <a:ext cx="1161000" cy="4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01680" y="4883400"/>
              <a:ext cx="389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7120" y="5592960"/>
              <a:ext cx="71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cb</a:t>
              </a: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=</a:t>
              </a:r>
              <a:r>
                <a:rPr b="1" lang="es-CL" sz="1200" spc="-1" strike="noStrike">
                  <a:solidFill>
                    <a:srgbClr val="ff3300"/>
                  </a:solidFill>
                  <a:latin typeface="Tahoma"/>
                </a:rPr>
                <a:t>-V</a:t>
              </a:r>
              <a:r>
                <a:rPr b="1" lang="es-CL" sz="1200" spc="-1" strike="noStrike" baseline="-25000">
                  <a:solidFill>
                    <a:srgbClr val="ff3300"/>
                  </a:solidFill>
                  <a:latin typeface="Tahoma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13480" y="4869000"/>
              <a:ext cx="378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042920" y="674208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7640" y="649620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443640" y="593676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54800" y="6256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9640" y="6524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40720" y="62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93080" y="587664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07120" y="6740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93080" y="5876640"/>
            <a:ext cx="287280" cy="865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primer transformador suma una “muestra” del voltaje del primario. Luego, la suma vectorial está en fase con el voltaje primario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control de tens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segundo transformador suma una “muestra” de un voltaje del primario, pero desfasado en 90°. Si la “muestra” es pequeña, la magnitud prácticamente no cambia y sólo se introduce un desfas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el control de potencia activ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relación de vueltas es complej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86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quipos presentes en todos los niveles de un SEP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centrales, aumentan la tensión para transmitir la potencia generada a grandes distancias, minimizando las pérdid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Junto a los domicilios, reduciendo la tensión hasta un nivel “seguro” y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plicaciones especiales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Regulación de tensión, e incluso “flujo de potencia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los SEP’s se los encuentra como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anco de autotransformador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shell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cor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de tres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7319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7777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9624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Núcleo o “core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2504880" cy="277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668840" cy="460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511320" y="621036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06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corazado o “shell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884680" cy="198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456000" cy="185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15160" y="907920"/>
            <a:ext cx="232884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708360" y="4495680"/>
            <a:ext cx="38163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82760" y="616572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35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circuito equivalente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equivalente da cuenta de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Joule en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Flujo magnético no enlazado por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rriente de magnetización (</a:t>
            </a:r>
            <a:r>
              <a:rPr b="1" lang="el-GR" sz="1600" spc="-1" strike="noStrike">
                <a:solidFill>
                  <a:srgbClr val="343f7f"/>
                </a:solidFill>
                <a:latin typeface="Tahoma"/>
                <a:ea typeface="Tahoma"/>
              </a:rPr>
              <a:t>μ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  <a:ea typeface="Tahoma"/>
              </a:rPr>
              <a:t> del hierro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finito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por corrientes inducidas en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no da cuenta de la existencia de armónica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bido a la relación no lineal entre B y H, la corriente de magnetización no puede ser sinusoidal si se quiere un flujo sinusoidal para producir una tensión de iguales característic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5003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Ensayo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os parámetros del modelo equivalente deben ser estimados a partir de ensay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ortocircuito: determinación de la “rama seri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ircuito abierto: determinación de la “rama shunt”. ¿está correcto según la figura?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Uso de “wattmetro” para determinación de resistenci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176720" cy="179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321080" cy="18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94760" y="2133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90000" y="1749600"/>
            <a:ext cx="290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14280" y="26370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8320" y="3801960"/>
            <a:ext cx="46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77560" y="50133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52200" y="49417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trifásic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ste caso, el tipo de conexión es irrelevante para la determinación de la representación del equipo, debido a la forma en que se realizan los ensayos. Será relevante sólo para el tema de los desfases y cortocircuitos desbalancead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6000" y="4581360"/>
            <a:ext cx="2808000" cy="210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3274560" y="6184800"/>
            <a:ext cx="136836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4390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82600" y="4175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8520" y="4149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4640" y="43894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28280" y="37638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2320" y="354816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7880" y="35226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84360" y="3762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3680" y="30942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97000" y="287820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22920" y="2852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9040" y="3092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3560" y="3035160"/>
            <a:ext cx="43164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23840" y="4437000"/>
            <a:ext cx="474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" y="3878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960" y="3852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960" y="321480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280" y="31892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3573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680" y="3548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9040" y="30924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9040" y="36450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9040" y="376704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9320" y="43149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200" y="43894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1200" y="4024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0920" y="3092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0942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3763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4000" y="4390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384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77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37160" y="30942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6450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81040" y="33544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635720" y="5877720"/>
            <a:ext cx="110160" cy="226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914800">
            <a:off x="4384440" y="54442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48360" y="5934960"/>
            <a:ext cx="109800" cy="226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914640" y="6000480"/>
            <a:ext cx="51480" cy="253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914800">
            <a:off x="3860640" y="550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914800">
            <a:off x="3428640" y="564444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429588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6320" y="400536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7080" y="305424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01760" y="276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8636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3611520"/>
            <a:ext cx="50508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3716280"/>
            <a:ext cx="792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4437000"/>
            <a:ext cx="21607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3716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24360" y="378900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9040" y="38908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4200" y="3284640"/>
            <a:ext cx="44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36306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5040" y="334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885080" y="3860640"/>
            <a:ext cx="142560" cy="431640"/>
            <a:chOff x="7885080" y="3860640"/>
            <a:chExt cx="142560" cy="431640"/>
          </a:xfrm>
        </p:grpSpPr>
        <p:sp>
          <p:nvSpPr>
            <p:cNvPr id="141" name=""/>
            <p:cNvSpPr/>
            <p:nvPr/>
          </p:nvSpPr>
          <p:spPr>
            <a:xfrm>
              <a:off x="7885080" y="38606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85080" y="40050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5080" y="41479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077320" y="3856320"/>
            <a:ext cx="142560" cy="431640"/>
            <a:chOff x="8077320" y="3856320"/>
            <a:chExt cx="142560" cy="431640"/>
          </a:xfrm>
        </p:grpSpPr>
        <p:sp>
          <p:nvSpPr>
            <p:cNvPr id="145" name=""/>
            <p:cNvSpPr/>
            <p:nvPr/>
          </p:nvSpPr>
          <p:spPr>
            <a:xfrm rot="10800000">
              <a:off x="8077320" y="41436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8077320" y="39992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8077320" y="38563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885080" y="3716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85080" y="4292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429264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38960" y="44370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38960" y="37116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29600" y="371160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94560" y="393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545680" y="3958920"/>
            <a:ext cx="6840" cy="363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734080"/>
            <a:ext cx="26636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n SE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oltaje entre 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rriente de lí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los sistemas eléctricos, es muy común que se utilicen “bancos de autotransformadores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umenta la robustez del sistem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horro en enrollad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sde el punto de vista de proyecto eléctrico, son más complej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Necesidad de esquema de reemplazo de unida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Mayor cantidad de muros cortafuegos y sistema de extinción de incendi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2448000" cy="3265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1009800"/>
            <a:ext cx="4067280" cy="3051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9746000">
            <a:off x="4179960" y="4681440"/>
            <a:ext cx="151452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Representación en modelo pi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asume que Y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0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es pequeña, la representación ABCD del transformador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=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=N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+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=0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=1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demás, recordar que Z=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+N</a:t>
            </a:r>
            <a:r>
              <a:rPr b="1" lang="es-CL" sz="1800" spc="-1" strike="noStrike" baseline="30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. Luego B=Z/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puede demostrar que el circuito pi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1320" y="470844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7508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247120" y="535968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50960" y="48445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550960" y="5805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702600" y="5347080"/>
            <a:ext cx="576360" cy="28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06800" y="48319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006800" y="57924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2040" y="6140520"/>
            <a:ext cx="27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37120" y="4645080"/>
            <a:ext cx="130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1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4240" y="534816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31840" y="43783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Z/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36400" y="5013360"/>
            <a:ext cx="144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N</a:t>
            </a:r>
            <a:r>
              <a:rPr b="1" lang="es-CL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5200" y="534816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5800680"/>
            <a:ext cx="3764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Ojo: Z</a:t>
            </a:r>
            <a:r>
              <a:rPr b="1" lang="es-CL" sz="1600" spc="-1" strike="noStrike" baseline="-25000">
                <a:solidFill>
                  <a:srgbClr val="243e75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 depende de la posición del tap (del valor que tenga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24T00:38:49Z</dcterms:modified>
  <cp:revision>83</cp:revision>
  <dc:subject/>
  <dc:title>Diapositiva 1</dc:title>
</cp:coreProperties>
</file>