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png" ContentType="image/png"/>
  <Override PartName="/ppt/media/image11.wmf" ContentType="image/x-wmf"/>
  <Override PartName="/ppt/media/image17.jpeg" ContentType="image/jpe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83F6-4D25-464A-959C-19F443947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7174-02D8-48A1-805F-79C842457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0BBD-A208-4B5C-B4BB-6796BA16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DB06-F871-481C-927E-B6798C14F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FB11-2CF6-47FD-A141-3D15BB978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03B3-CDD6-4642-8F12-FB95C7F55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E143-BBD4-40CB-9663-E1B41B369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95F-D530-4BB8-B50A-CDDE134F8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9E85-82A4-4A23-BE6D-4D1133518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1D82-1FB4-4159-904B-2B597CDC0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67DB-CD84-40FD-96E3-017BA9413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6CEB-0A4A-4108-BD4D-593FA4083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967-D453-4CB1-ADC0-A66D5499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http://www05.abb.com/global/scot/scot252.nsf/veritydisplay/4481cda8ee9a0831852573b40051bb17/$File/1LAB000073_LMPT_2007May_light.pdf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hyperlink" Target="http://www05.abb.com/global/scot/scot252.nsf/veritydisplay/271cc80d8a81e40f852572ab005c9fa5/$File/1LAB000087_ShellFormTrafo_Spanish.pdf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5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presentación en p.u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 la primera fila de las ecuaciones de la matriz ABC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1042920" y="2668680"/>
          <a:ext cx="1889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68680"/>
                    <a:ext cx="1889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Rectangle 3"/>
          <p:cNvGraphicFramePr/>
          <p:nvPr/>
        </p:nvGraphicFramePr>
        <p:xfrm>
          <a:off x="4572000" y="2671920"/>
          <a:ext cx="213372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2133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03640" y="3213000"/>
          <a:ext cx="103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213000"/>
                    <a:ext cx="103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395960" y="3416400"/>
          <a:ext cx="4833720" cy="29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960" y="3416400"/>
                    <a:ext cx="48337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43200" y="5783400"/>
          <a:ext cx="387972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3200" y="5783400"/>
                    <a:ext cx="3879720" cy="91260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2924280"/>
            <a:ext cx="1152360" cy="215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16280" y="2962440"/>
            <a:ext cx="50472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360" y="3780000"/>
            <a:ext cx="34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ferido al primario y en posición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9440" y="4019400"/>
          <a:ext cx="2792160" cy="14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440" y="4019400"/>
                    <a:ext cx="27921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mpuestos por un “transformador serie” y un “transformador paralelo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rmiten realizar operaciones de regulación, ya sea de tensión o de potencia activ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31050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0" y="35020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30400" y="36781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38559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17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4354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340360" y="3550320"/>
            <a:ext cx="135000" cy="531000"/>
            <a:chOff x="2340360" y="3550320"/>
            <a:chExt cx="135000" cy="531000"/>
          </a:xfrm>
        </p:grpSpPr>
        <p:sp>
          <p:nvSpPr>
            <p:cNvPr id="206" name=""/>
            <p:cNvSpPr/>
            <p:nvPr/>
          </p:nvSpPr>
          <p:spPr>
            <a:xfrm rot="10635000">
              <a:off x="2352960" y="39031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635000">
              <a:off x="2344320" y="37281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635000">
              <a:off x="2346120" y="35528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030400" y="310464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0" y="40273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079640" y="4403880"/>
            <a:ext cx="36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30400" y="31050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495240" y="3417840"/>
            <a:ext cx="575280" cy="122760"/>
            <a:chOff x="3495240" y="3417840"/>
            <a:chExt cx="575280" cy="122760"/>
          </a:xfrm>
        </p:grpSpPr>
        <p:sp>
          <p:nvSpPr>
            <p:cNvPr id="214" name=""/>
            <p:cNvSpPr/>
            <p:nvPr/>
          </p:nvSpPr>
          <p:spPr>
            <a:xfrm rot="16060200">
              <a:off x="3538440" y="33876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060200">
              <a:off x="3728880" y="33800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060200">
              <a:off x="3919320" y="33814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46360" y="3083400"/>
            <a:ext cx="516240" cy="191520"/>
            <a:chOff x="3546360" y="3083400"/>
            <a:chExt cx="516240" cy="191520"/>
          </a:xfrm>
        </p:grpSpPr>
        <p:sp>
          <p:nvSpPr>
            <p:cNvPr id="218" name=""/>
            <p:cNvSpPr/>
            <p:nvPr/>
          </p:nvSpPr>
          <p:spPr>
            <a:xfrm rot="5196600">
              <a:off x="3887280" y="30895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196600">
              <a:off x="3718800" y="30996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196600">
              <a:off x="3549600" y="30942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25760" y="33098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7560" y="33796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3200" y="35528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73200" y="37306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43360" y="35434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8480" y="36957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4440" y="35179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35384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7560" y="30830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3200" y="41673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73200" y="40654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73200" y="42148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35179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75080" y="35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294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7640" y="424512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273996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4240" y="3576600"/>
            <a:ext cx="1679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ff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2880" y="29383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5162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5559480"/>
            <a:ext cx="127080" cy="1760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5735520"/>
            <a:ext cx="127080" cy="17784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5913360"/>
            <a:ext cx="127080" cy="176400"/>
          </a:xfrm>
          <a:custGeom>
            <a:avLst/>
            <a:gdLst/>
            <a:ahLst/>
            <a:rect l="l" t="t" r="r" b="b"/>
            <a:pathLst>
              <a:path w="90" h="136">
                <a:moveTo>
                  <a:pt x="0" y="0"/>
                </a:moveTo>
                <a:cubicBezTo>
                  <a:pt x="45" y="33"/>
                  <a:pt x="90" y="67"/>
                  <a:pt x="90" y="90"/>
                </a:cubicBezTo>
                <a:cubicBezTo>
                  <a:pt x="90" y="113"/>
                  <a:pt x="45" y="124"/>
                  <a:pt x="0" y="1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17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360" y="5492880"/>
            <a:ext cx="0" cy="766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360" y="5607720"/>
            <a:ext cx="135000" cy="531000"/>
            <a:chOff x="2340360" y="5607720"/>
            <a:chExt cx="135000" cy="531000"/>
          </a:xfrm>
        </p:grpSpPr>
        <p:sp>
          <p:nvSpPr>
            <p:cNvPr id="247" name=""/>
            <p:cNvSpPr/>
            <p:nvPr/>
          </p:nvSpPr>
          <p:spPr>
            <a:xfrm rot="10635000">
              <a:off x="2352960" y="596052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635000">
              <a:off x="2344320" y="5785560"/>
              <a:ext cx="118080" cy="17532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635000">
              <a:off x="2346120" y="5610240"/>
              <a:ext cx="118080" cy="17496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030400" y="53658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30400" y="6084720"/>
            <a:ext cx="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79280" y="6461280"/>
            <a:ext cx="32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0400" y="516240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5240" y="5475240"/>
            <a:ext cx="575280" cy="122760"/>
            <a:chOff x="3495240" y="5475240"/>
            <a:chExt cx="575280" cy="122760"/>
          </a:xfrm>
        </p:grpSpPr>
        <p:sp>
          <p:nvSpPr>
            <p:cNvPr id="255" name=""/>
            <p:cNvSpPr/>
            <p:nvPr/>
          </p:nvSpPr>
          <p:spPr>
            <a:xfrm rot="16060200">
              <a:off x="3538440" y="544500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060200">
              <a:off x="3728880" y="5437440"/>
              <a:ext cx="107640" cy="1904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060200">
              <a:off x="3919320" y="5438880"/>
              <a:ext cx="107640" cy="1900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6360" y="5140800"/>
            <a:ext cx="516240" cy="191520"/>
            <a:chOff x="3546360" y="5140800"/>
            <a:chExt cx="516240" cy="191520"/>
          </a:xfrm>
        </p:grpSpPr>
        <p:sp>
          <p:nvSpPr>
            <p:cNvPr id="259" name=""/>
            <p:cNvSpPr/>
            <p:nvPr/>
          </p:nvSpPr>
          <p:spPr>
            <a:xfrm rot="5196600">
              <a:off x="3887280" y="514692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196600">
              <a:off x="3718800" y="5157000"/>
              <a:ext cx="171720" cy="16884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196600">
              <a:off x="3549600" y="5151600"/>
              <a:ext cx="171720" cy="168480"/>
            </a:xfrm>
            <a:custGeom>
              <a:avLst/>
              <a:gdLst/>
              <a:ahLst/>
              <a:rect l="l" t="t" r="r" b="b"/>
              <a:pathLst>
                <a:path w="90" h="136">
                  <a:moveTo>
                    <a:pt x="0" y="0"/>
                  </a:moveTo>
                  <a:cubicBezTo>
                    <a:pt x="45" y="33"/>
                    <a:pt x="90" y="67"/>
                    <a:pt x="90" y="90"/>
                  </a:cubicBezTo>
                  <a:cubicBezTo>
                    <a:pt x="90" y="113"/>
                    <a:pt x="45" y="124"/>
                    <a:pt x="0" y="1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5760" y="5367240"/>
            <a:ext cx="758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7560" y="5437080"/>
            <a:ext cx="760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73200" y="56102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578808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43360" y="5600880"/>
            <a:ext cx="31752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8480" y="5753160"/>
            <a:ext cx="637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5575320"/>
            <a:ext cx="61920" cy="58680"/>
          </a:xfrm>
          <a:prstGeom prst="ellipse">
            <a:avLst/>
          </a:prstGeom>
          <a:solidFill>
            <a:srgbClr val="343f7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67000" y="55958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51404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73200" y="622476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3200" y="612288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73200" y="627228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57560" y="55753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5080" y="55674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492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880" y="6254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080" y="4797360"/>
            <a:ext cx="58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563400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a’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s-CL" sz="1600" spc="-1" strike="noStrike">
                <a:solidFill>
                  <a:srgbClr val="808080"/>
                </a:solidFill>
                <a:latin typeface="Tahoma"/>
                <a:ea typeface="Tahoma"/>
              </a:rPr>
              <a:t>V</a:t>
            </a:r>
            <a:r>
              <a:rPr b="1" lang="es-CL" sz="1600" spc="-1" strike="noStrike" baseline="-25000">
                <a:solidFill>
                  <a:srgbClr val="808080"/>
                </a:solidFill>
                <a:latin typeface="Tahoma"/>
                <a:ea typeface="Tahoma"/>
              </a:rPr>
              <a:t>an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l-GR" sz="1600" spc="-1" strike="noStrike">
                <a:solidFill>
                  <a:srgbClr val="ff3300"/>
                </a:solidFill>
                <a:latin typeface="Tahoma"/>
                <a:ea typeface="Tahoma"/>
              </a:rPr>
              <a:t>Δ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V</a:t>
            </a:r>
            <a:r>
              <a:rPr b="1" lang="es-CL" sz="1600" spc="-1" strike="noStrike" baseline="-25000">
                <a:solidFill>
                  <a:srgbClr val="ff3300"/>
                </a:solidFill>
                <a:latin typeface="Tahoma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2880" y="4995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Tahoma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603840" y="308412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5000" y="3403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92920" y="367020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0920" y="3386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24560" y="309672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324560" y="285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3840" y="5364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8720" y="515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175520" y="4300560"/>
            <a:ext cx="1857240" cy="1593720"/>
            <a:chOff x="7175520" y="4300560"/>
            <a:chExt cx="1857240" cy="1593720"/>
          </a:xfrm>
        </p:grpSpPr>
        <p:sp>
          <p:nvSpPr>
            <p:cNvPr id="290" name=""/>
            <p:cNvSpPr/>
            <p:nvPr/>
          </p:nvSpPr>
          <p:spPr>
            <a:xfrm flipV="1">
              <a:off x="8084880" y="4581360"/>
              <a:ext cx="0" cy="71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0280" y="5293440"/>
              <a:ext cx="622440" cy="35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57040" y="5294160"/>
              <a:ext cx="622080" cy="359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77880" y="4300560"/>
              <a:ext cx="39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38560" y="5516640"/>
              <a:ext cx="394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5520" y="551664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80808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808080"/>
                  </a:solidFill>
                  <a:latin typeface="Tahoma"/>
                </a:rPr>
                <a:t>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2400" y="4610160"/>
              <a:ext cx="576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456320" y="4583520"/>
              <a:ext cx="584640" cy="1002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518960" y="5659560"/>
              <a:ext cx="116100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01680" y="4883400"/>
              <a:ext cx="38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7120" y="5592960"/>
              <a:ext cx="71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cb</a:t>
              </a: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=</a:t>
              </a:r>
              <a:r>
                <a:rPr b="1" lang="es-CL" sz="1200" spc="-1" strike="noStrike">
                  <a:solidFill>
                    <a:srgbClr val="ff3300"/>
                  </a:solidFill>
                  <a:latin typeface="Tahoma"/>
                </a:rPr>
                <a:t>-V</a:t>
              </a:r>
              <a:r>
                <a:rPr b="1" lang="es-CL" sz="1200" spc="-1" strike="noStrike" baseline="-25000">
                  <a:solidFill>
                    <a:srgbClr val="ff3300"/>
                  </a:solidFill>
                  <a:latin typeface="Tahoma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3480" y="4869000"/>
              <a:ext cx="378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8000"/>
                  </a:solidFill>
                  <a:latin typeface="Tahoma"/>
                </a:rPr>
                <a:t>V</a:t>
              </a:r>
              <a:r>
                <a:rPr b="1" lang="es-CL" sz="1200" spc="-1" strike="noStrike" baseline="-25000">
                  <a:solidFill>
                    <a:srgbClr val="008000"/>
                  </a:solidFill>
                  <a:latin typeface="Tahoma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042920" y="67420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640" y="64962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443640" y="593676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4800" y="6256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6524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0720" y="62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5876640"/>
            <a:ext cx="0" cy="863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07120" y="67406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93080" y="5876640"/>
            <a:ext cx="287280" cy="865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“Boosters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primer transformador suma una “muestra” del voltaje del primario. Luego, la suma vectorial está en fase con el voltaje primario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control de tens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segundo transformador suma una “muestra” de un voltaje del primario, pero desfasado en 90°. Si la “muestra” es pequeña, la magnitud prácticamente no cambia y sólo se introduce un desfas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utiliza para el control de potencia activ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lación de vueltas es complej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86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quipos presentes en todos los niveles de un SEP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centrales, aumentan la tensión para transmitir la potencia generada a grandes distancias, minimizando las pérdid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Junto a los domicilios, reduciendo la tensión hasta un nivel “seguro” y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plicaciones especiales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Regulación de tensión, e incluso “flujo de potencia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los SEP’s se los encuentra como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anco de autotransformador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shell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tipo “cor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Transformadores de tres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7319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77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62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Núcleo o “core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504880" cy="27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68840" cy="460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11320" y="621036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tip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06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corazado o “shell”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84680" cy="198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456000" cy="185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15160" y="907920"/>
            <a:ext cx="232884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708360" y="4495680"/>
            <a:ext cx="38163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82760" y="6165720"/>
            <a:ext cx="938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35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circuito equivalente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equivalente da cuenta d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Joule en enrollad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Flujo magnético no enlazado por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orriente de magnetización (</a:t>
            </a:r>
            <a:r>
              <a:rPr b="1" lang="el-GR" sz="1600" spc="-1" strike="noStrike">
                <a:solidFill>
                  <a:srgbClr val="343f7f"/>
                </a:solidFill>
                <a:latin typeface="Tahoma"/>
                <a:ea typeface="Tahoma"/>
              </a:rPr>
              <a:t>μ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  <a:ea typeface="Tahoma"/>
              </a:rPr>
              <a:t> del hierro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finito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érdidas por corrientes inducidas en el fierr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circuito no da cuenta de la existencia de armónica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ebido a la relación no lineal entre B y H, la corriente de magnetización no puede ser sinusoidal si se quiere un flujo sinusoidal para producir una tensión de iguales característic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5003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: Ensay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s parámetros del modelo equivalente deben ser estimados a partir de ensay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ortocircuito: determinación de la “rama serie”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sayo de circuito abierto: determinación de la “rama shunt”. ¿está correcto según la figura?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Uso de “wattmetro” para determinación de resistencia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76720" cy="179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32108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9476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0000" y="1749600"/>
            <a:ext cx="29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14280" y="26370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8320" y="3801960"/>
            <a:ext cx="46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7560" y="5013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52200" y="4941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80"/>
                </a:solidFill>
                <a:latin typeface="Tahoma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 trifásic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ste caso, el tipo de conexión es irrelevante para la determinación de la representación del equipo, debido a la forma en que se realizan los ensayos. Será relevante sólo para el tema de los desfases y cortocircuitos desbalancead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2808000" cy="210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4560" y="6184800"/>
            <a:ext cx="136836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43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4175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8520" y="414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4640" y="4389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28280" y="37638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354816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7880" y="35226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4360" y="3762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33680" y="3094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7000" y="287820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2920" y="2852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040" y="3092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3560" y="3035160"/>
            <a:ext cx="43164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4437000"/>
            <a:ext cx="474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3878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3852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960" y="321480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280" y="31892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35733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80" y="3548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0924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040" y="3645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7670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43149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200" y="43894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1200" y="402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0920" y="3092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0942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763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439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84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77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37160" y="30942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6450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1040" y="33544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635720" y="5877720"/>
            <a:ext cx="110160" cy="226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14800">
            <a:off x="4384440" y="54442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48360" y="5934960"/>
            <a:ext cx="109800" cy="226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914640" y="6000480"/>
            <a:ext cx="51480" cy="253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914800">
            <a:off x="3860640" y="550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14800">
            <a:off x="3428640" y="564444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29588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6320" y="400536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305424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01760" y="276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8636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611520"/>
            <a:ext cx="50508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716280"/>
            <a:ext cx="792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4437000"/>
            <a:ext cx="2160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3716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24360" y="378900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9040" y="38908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4200" y="3284640"/>
            <a:ext cx="44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630600"/>
            <a:ext cx="863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334008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Tahoma"/>
              </a:rPr>
              <a:t>1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885080" y="3860640"/>
            <a:ext cx="142560" cy="431640"/>
            <a:chOff x="7885080" y="3860640"/>
            <a:chExt cx="142560" cy="431640"/>
          </a:xfrm>
        </p:grpSpPr>
        <p:sp>
          <p:nvSpPr>
            <p:cNvPr id="141" name=""/>
            <p:cNvSpPr/>
            <p:nvPr/>
          </p:nvSpPr>
          <p:spPr>
            <a:xfrm>
              <a:off x="7885080" y="38606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5080" y="40050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41479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77320" y="3856320"/>
            <a:ext cx="142560" cy="431640"/>
            <a:chOff x="8077320" y="3856320"/>
            <a:chExt cx="142560" cy="431640"/>
          </a:xfrm>
        </p:grpSpPr>
        <p:sp>
          <p:nvSpPr>
            <p:cNvPr id="145" name=""/>
            <p:cNvSpPr/>
            <p:nvPr/>
          </p:nvSpPr>
          <p:spPr>
            <a:xfrm rot="10800000">
              <a:off x="8077320" y="414360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8077320" y="399924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8077320" y="3856320"/>
              <a:ext cx="142560" cy="14436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0" y="0"/>
                  </a:moveTo>
                  <a:cubicBezTo>
                    <a:pt x="22" y="15"/>
                    <a:pt x="45" y="30"/>
                    <a:pt x="45" y="45"/>
                  </a:cubicBezTo>
                  <a:cubicBezTo>
                    <a:pt x="45" y="60"/>
                    <a:pt x="7" y="83"/>
                    <a:pt x="0" y="91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885080" y="3716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85080" y="429228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429264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38960" y="44370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8960" y="371160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711600"/>
            <a:ext cx="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94560" y="3933720"/>
            <a:ext cx="545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s-CL" sz="1400" spc="-1" strike="noStrike" baseline="-25000">
                <a:solidFill>
                  <a:srgbClr val="ff0000"/>
                </a:solidFill>
                <a:latin typeface="Tahoma"/>
              </a:rPr>
              <a:t>2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45680" y="3958920"/>
            <a:ext cx="6840" cy="3639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734080"/>
            <a:ext cx="26636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n S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Voltaje entre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rriente de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los sistemas eléctricos, es muy común que se utilicen “bancos de autotransformadores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umenta la robustez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horro en enrollad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de el punto de vista de proyecto eléctrico, son más complej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Necesidad de esquema de reemplazo de unida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ayor cantidad de muros cortafuegos y sistema de extinción de incendi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2448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10098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746000">
            <a:off x="4179960" y="4681440"/>
            <a:ext cx="15145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Representación en modelo p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asume que Y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es pequeña, la representación ABCD del transformador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=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B=N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+Z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=0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=1/N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demás, recordar que Z=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+N</a:t>
            </a:r>
            <a:r>
              <a:rPr b="1" lang="es-CL" sz="1800" spc="-1" strike="noStrike" baseline="30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Z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. Luego B=Z/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e puede demostrar que el circuito pi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1320" y="470844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75080" y="48448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247120" y="5359680"/>
            <a:ext cx="57636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50960" y="48445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50960" y="5805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702600" y="5347080"/>
            <a:ext cx="576360" cy="28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06800" y="4831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06800" y="57924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2040" y="614052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7120" y="4645080"/>
            <a:ext cx="130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1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4240" y="534816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1840" y="43783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Z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36400" y="5013360"/>
            <a:ext cx="144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=(N</a:t>
            </a:r>
            <a:r>
              <a:rPr b="1" lang="es-CL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N)/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5200" y="53481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5800680"/>
            <a:ext cx="3764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Ojo: Z</a:t>
            </a:r>
            <a:r>
              <a:rPr b="1" lang="es-CL" sz="1600" spc="-1" strike="noStrike" baseline="-25000">
                <a:solidFill>
                  <a:srgbClr val="243e75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243e75"/>
                </a:solidFill>
                <a:latin typeface="Tahoma"/>
              </a:rPr>
              <a:t> depende de la posición del tap (del valor que tenga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24T00:38:49Z</dcterms:modified>
  <cp:revision>83</cp:revision>
  <dc:subject/>
  <dc:title>Diapositiva 1</dc:title>
</cp:coreProperties>
</file>