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2.png" ContentType="image/png"/>
  <Override PartName="/ppt/media/image11.wmf" ContentType="image/x-wmf"/>
  <Override PartName="/ppt/media/image17.jpeg" ContentType="image/jpeg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6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23.wmf" ContentType="image/x-wmf"/>
  <Override PartName="/ppt/media/image18.wmf" ContentType="image/x-wmf"/>
  <Override PartName="/ppt/media/image20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9F81D-D07A-4621-8F7B-2FEBB65FE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060F9-360E-477C-AFA5-FEAC3639A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E0DE-6C9F-40AB-AC43-CBE636B32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85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128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85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128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D8BED-7A00-4C81-9F39-6EB92AAECD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8643-FD4E-4C8A-90B7-F8FC262E32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578E1-4AE5-44AA-A7FE-66EC6E2C8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E7FDA-BA09-42DE-95D7-ABE4416DB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32ED-2264-4FFA-890A-3E44A020D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990720"/>
            <a:ext cx="39625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A8CC5-CFA9-4B4E-995B-1889C22C8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B0B38-36CE-47F7-AB84-F9858AB60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8B7D5-5061-49E3-B745-476431524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4EB9-241C-4CE1-ADBC-68907CE0C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6"/>
          <p:cNvSpPr/>
          <p:nvPr/>
        </p:nvSpPr>
        <p:spPr>
          <a:xfrm>
            <a:off x="0" y="152280"/>
            <a:ext cx="4343400" cy="762120"/>
          </a:xfrm>
          <a:custGeom>
            <a:avLst/>
            <a:gdLst>
              <a:gd name="textAreaLeft" fmla="*/ 0 w 4343400"/>
              <a:gd name="textAreaRight" fmla="*/ 4343400 w 43434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2" y="0"/>
                </a:lnTo>
                <a:lnTo>
                  <a:pt x="21600" y="10800"/>
                </a:lnTo>
                <a:lnTo>
                  <a:pt x="160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343f7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462C-204D-47D7-A96C-9AE0F3116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7"/>
          <p:cNvSpPr/>
          <p:nvPr/>
        </p:nvSpPr>
        <p:spPr>
          <a:xfrm>
            <a:off x="3276720" y="457200"/>
            <a:ext cx="5867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46"/>
          <p:cNvGraphicFramePr/>
          <p:nvPr/>
        </p:nvGraphicFramePr>
        <p:xfrm>
          <a:off x="395280" y="44280"/>
          <a:ext cx="266400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4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4280"/>
                    <a:ext cx="26640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197840" y="179280"/>
            <a:ext cx="1295280" cy="646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934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hyperlink" Target="http://www05.abb.com/global/scot/scot252.nsf/veritydisplay/4481cda8ee9a0831852573b40051bb17/$File/1LAB000073_LMPT_2007May_light.pdf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hyperlink" Target="http://www05.abb.com/global/scot/scot252.nsf/veritydisplay/271cc80d8a81e40f852572ab005c9fa5/$File/1LAB000087_ShellFormTrafo_Spanish.pdf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76320" y="990720"/>
            <a:ext cx="5105160" cy="5790960"/>
          </a:xfrm>
          <a:prstGeom prst="rect">
            <a:avLst/>
          </a:prstGeom>
          <a:solidFill>
            <a:srgbClr val="343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5" descr="MVC-131S"/>
          <p:cNvPicPr/>
          <p:nvPr/>
        </p:nvPicPr>
        <p:blipFill>
          <a:blip r:embed="rId1"/>
          <a:stretch/>
        </p:blipFill>
        <p:spPr>
          <a:xfrm>
            <a:off x="228600" y="32767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2003101506a"/>
          <p:cNvPicPr/>
          <p:nvPr/>
        </p:nvPicPr>
        <p:blipFill>
          <a:blip r:embed="rId2"/>
          <a:stretch/>
        </p:blipFill>
        <p:spPr>
          <a:xfrm>
            <a:off x="228600" y="11239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5334120" y="3657600"/>
            <a:ext cx="3349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Pablo Medina Cof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25-10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34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vinnetaAzul"/>
          <p:cNvPicPr/>
          <p:nvPr/>
        </p:nvPicPr>
        <p:blipFill>
          <a:blip r:embed="rId3"/>
          <a:stretch/>
        </p:blipFill>
        <p:spPr>
          <a:xfrm>
            <a:off x="2771640" y="1523880"/>
            <a:ext cx="6372360" cy="1219320"/>
          </a:xfrm>
          <a:prstGeom prst="rect">
            <a:avLst/>
          </a:prstGeom>
          <a:ln w="19080">
            <a:solidFill>
              <a:srgbClr val="294587"/>
            </a:solidFill>
            <a:miter/>
          </a:ln>
        </p:spPr>
      </p:pic>
      <p:sp>
        <p:nvSpPr>
          <p:cNvPr id="51" name="Rectangle 16"/>
          <p:cNvSpPr/>
          <p:nvPr/>
        </p:nvSpPr>
        <p:spPr>
          <a:xfrm>
            <a:off x="3444840" y="184464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L4103 – SISTEMAS DE ENERGÍ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QUIPOS ELÉCT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Representación en p.u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De la primera fila de las ecuaciones de la matriz ABCD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82" name="Rectangle 3"/>
          <p:cNvGraphicFramePr/>
          <p:nvPr/>
        </p:nvGraphicFramePr>
        <p:xfrm>
          <a:off x="1042920" y="2668680"/>
          <a:ext cx="1889280" cy="5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668680"/>
                    <a:ext cx="18892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Rectangle 3"/>
          <p:cNvGraphicFramePr/>
          <p:nvPr/>
        </p:nvGraphicFramePr>
        <p:xfrm>
          <a:off x="4572000" y="2671920"/>
          <a:ext cx="2133720" cy="66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671920"/>
                    <a:ext cx="2133720" cy="66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203640" y="3213000"/>
          <a:ext cx="1036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3213000"/>
                    <a:ext cx="103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395960" y="3416400"/>
          <a:ext cx="4833720" cy="296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95960" y="3416400"/>
                    <a:ext cx="483372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843200" y="5783400"/>
          <a:ext cx="3879720" cy="912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43200" y="5783400"/>
                    <a:ext cx="3879720" cy="912600"/>
                  </a:xfrm>
                  <a:prstGeom prst="rect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203640" y="2924280"/>
            <a:ext cx="1152360" cy="21564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916280" y="2962440"/>
            <a:ext cx="504720" cy="7920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4360" y="3780000"/>
            <a:ext cx="340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Referido al primario y en posición n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49440" y="4019400"/>
          <a:ext cx="2792160" cy="1425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9440" y="4019400"/>
                    <a:ext cx="279216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 “Boosters”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Compuestos por un “transformador serie” y un “transformador paralelo”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Permiten realizar operaciones de regulación, ya sea de tensión o de potencia activa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1079640" y="3105000"/>
            <a:ext cx="9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30400" y="3502080"/>
            <a:ext cx="127080" cy="17604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30400" y="3678120"/>
            <a:ext cx="127080" cy="17784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19240" y="3855960"/>
            <a:ext cx="127080" cy="17640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01760" y="3435480"/>
            <a:ext cx="0" cy="7668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95360" y="3435480"/>
            <a:ext cx="0" cy="7668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340360" y="3550320"/>
            <a:ext cx="135000" cy="531000"/>
            <a:chOff x="2340360" y="3550320"/>
            <a:chExt cx="135000" cy="531000"/>
          </a:xfrm>
        </p:grpSpPr>
        <p:sp>
          <p:nvSpPr>
            <p:cNvPr id="206" name=""/>
            <p:cNvSpPr/>
            <p:nvPr/>
          </p:nvSpPr>
          <p:spPr>
            <a:xfrm rot="10635000">
              <a:off x="2352960" y="3903120"/>
              <a:ext cx="118080" cy="17532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0635000">
              <a:off x="2344320" y="3728160"/>
              <a:ext cx="118080" cy="17532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0635000">
              <a:off x="2346120" y="3552840"/>
              <a:ext cx="118080" cy="17496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 flipV="1">
            <a:off x="2030400" y="3104640"/>
            <a:ext cx="0" cy="41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30400" y="4027320"/>
            <a:ext cx="0" cy="38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079640" y="4403880"/>
            <a:ext cx="36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30400" y="310500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495240" y="3417840"/>
            <a:ext cx="575280" cy="122760"/>
            <a:chOff x="3495240" y="3417840"/>
            <a:chExt cx="575280" cy="122760"/>
          </a:xfrm>
        </p:grpSpPr>
        <p:sp>
          <p:nvSpPr>
            <p:cNvPr id="214" name=""/>
            <p:cNvSpPr/>
            <p:nvPr/>
          </p:nvSpPr>
          <p:spPr>
            <a:xfrm rot="16060200">
              <a:off x="3538440" y="3387600"/>
              <a:ext cx="107640" cy="1904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060200">
              <a:off x="3728880" y="3380040"/>
              <a:ext cx="107640" cy="1904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060200">
              <a:off x="3919320" y="3381480"/>
              <a:ext cx="107640" cy="19008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546360" y="3083400"/>
            <a:ext cx="516240" cy="191520"/>
            <a:chOff x="3546360" y="3083400"/>
            <a:chExt cx="516240" cy="191520"/>
          </a:xfrm>
        </p:grpSpPr>
        <p:sp>
          <p:nvSpPr>
            <p:cNvPr id="218" name=""/>
            <p:cNvSpPr/>
            <p:nvPr/>
          </p:nvSpPr>
          <p:spPr>
            <a:xfrm rot="5196600">
              <a:off x="3887280" y="3089520"/>
              <a:ext cx="171720" cy="1688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5196600">
              <a:off x="3718800" y="3099600"/>
              <a:ext cx="171720" cy="1688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196600">
              <a:off x="3549600" y="3094200"/>
              <a:ext cx="171720" cy="16848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425760" y="3309840"/>
            <a:ext cx="758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7560" y="3379680"/>
            <a:ext cx="7603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73200" y="3552840"/>
            <a:ext cx="3812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73200" y="3730680"/>
            <a:ext cx="3812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943360" y="3543480"/>
            <a:ext cx="31752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68480" y="3695760"/>
            <a:ext cx="63720" cy="58680"/>
          </a:xfrm>
          <a:prstGeom prst="ellipse">
            <a:avLst/>
          </a:prstGeom>
          <a:solidFill>
            <a:srgbClr val="343f7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54440" y="3517920"/>
            <a:ext cx="61920" cy="58680"/>
          </a:xfrm>
          <a:prstGeom prst="ellipse">
            <a:avLst/>
          </a:prstGeom>
          <a:solidFill>
            <a:srgbClr val="343f7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67000" y="35384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57560" y="308304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73200" y="4167360"/>
            <a:ext cx="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73200" y="4065480"/>
            <a:ext cx="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73200" y="4214880"/>
            <a:ext cx="190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57560" y="351792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75080" y="3510000"/>
            <a:ext cx="0" cy="7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8720" y="29462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7640" y="4245120"/>
            <a:ext cx="3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2739960"/>
            <a:ext cx="595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3300"/>
                </a:solidFill>
                <a:latin typeface="Tahoma"/>
                <a:ea typeface="Tahoma"/>
              </a:rPr>
              <a:t>Δ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V</a:t>
            </a:r>
            <a:r>
              <a:rPr b="1" lang="es-CL" sz="1600" spc="-1" strike="noStrike" baseline="-25000">
                <a:solidFill>
                  <a:srgbClr val="ff3300"/>
                </a:solidFill>
                <a:latin typeface="Tahoma"/>
              </a:rPr>
              <a:t>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64240" y="3576600"/>
            <a:ext cx="1679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Tahoma"/>
                <a:ea typeface="Tahoma"/>
              </a:rPr>
              <a:t>V</a:t>
            </a:r>
            <a:r>
              <a:rPr b="1" lang="es-CL" sz="1600" spc="-1" strike="noStrike" baseline="-25000">
                <a:solidFill>
                  <a:srgbClr val="0000ff"/>
                </a:solidFill>
                <a:latin typeface="Tahoma"/>
                <a:ea typeface="Tahoma"/>
              </a:rPr>
              <a:t>a’n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s-CL" sz="1600" spc="-1" strike="noStrike">
                <a:solidFill>
                  <a:srgbClr val="808080"/>
                </a:solidFill>
                <a:latin typeface="Tahoma"/>
                <a:ea typeface="Tahoma"/>
              </a:rPr>
              <a:t>V</a:t>
            </a:r>
            <a:r>
              <a:rPr b="1" lang="es-CL" sz="1600" spc="-1" strike="noStrike" baseline="-25000">
                <a:solidFill>
                  <a:srgbClr val="808080"/>
                </a:solidFill>
                <a:latin typeface="Tahoma"/>
                <a:ea typeface="Tahoma"/>
              </a:rPr>
              <a:t>an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1" lang="el-GR" sz="1600" spc="-1" strike="noStrike">
                <a:solidFill>
                  <a:srgbClr val="ff3300"/>
                </a:solidFill>
                <a:latin typeface="Tahoma"/>
                <a:ea typeface="Tahoma"/>
              </a:rPr>
              <a:t>Δ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V</a:t>
            </a:r>
            <a:r>
              <a:rPr b="1" lang="es-CL" sz="1600" spc="-1" strike="noStrike" baseline="-25000">
                <a:solidFill>
                  <a:srgbClr val="ff3300"/>
                </a:solidFill>
                <a:latin typeface="Tahoma"/>
              </a:rPr>
              <a:t>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82880" y="2938320"/>
            <a:ext cx="3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Tahoma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79640" y="5162400"/>
            <a:ext cx="9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30400" y="5559480"/>
            <a:ext cx="127080" cy="17604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30400" y="5735520"/>
            <a:ext cx="127080" cy="17784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19240" y="5913360"/>
            <a:ext cx="127080" cy="17640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01760" y="5492880"/>
            <a:ext cx="0" cy="7668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95360" y="5492880"/>
            <a:ext cx="0" cy="7668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340360" y="5607720"/>
            <a:ext cx="135000" cy="531000"/>
            <a:chOff x="2340360" y="5607720"/>
            <a:chExt cx="135000" cy="531000"/>
          </a:xfrm>
        </p:grpSpPr>
        <p:sp>
          <p:nvSpPr>
            <p:cNvPr id="247" name=""/>
            <p:cNvSpPr/>
            <p:nvPr/>
          </p:nvSpPr>
          <p:spPr>
            <a:xfrm rot="10635000">
              <a:off x="2352960" y="5960520"/>
              <a:ext cx="118080" cy="17532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0635000">
              <a:off x="2344320" y="5785560"/>
              <a:ext cx="118080" cy="17532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0635000">
              <a:off x="2346120" y="5610240"/>
              <a:ext cx="118080" cy="17496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 flipV="1">
            <a:off x="2030400" y="536580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30400" y="6084720"/>
            <a:ext cx="0" cy="38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079280" y="6461280"/>
            <a:ext cx="323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30400" y="516240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495240" y="5475240"/>
            <a:ext cx="575280" cy="122760"/>
            <a:chOff x="3495240" y="5475240"/>
            <a:chExt cx="575280" cy="122760"/>
          </a:xfrm>
        </p:grpSpPr>
        <p:sp>
          <p:nvSpPr>
            <p:cNvPr id="255" name=""/>
            <p:cNvSpPr/>
            <p:nvPr/>
          </p:nvSpPr>
          <p:spPr>
            <a:xfrm rot="16060200">
              <a:off x="3538440" y="5445000"/>
              <a:ext cx="107640" cy="1904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6060200">
              <a:off x="3728880" y="5437440"/>
              <a:ext cx="107640" cy="1904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6060200">
              <a:off x="3919320" y="5438880"/>
              <a:ext cx="107640" cy="19008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546360" y="5140800"/>
            <a:ext cx="516240" cy="191520"/>
            <a:chOff x="3546360" y="5140800"/>
            <a:chExt cx="516240" cy="191520"/>
          </a:xfrm>
        </p:grpSpPr>
        <p:sp>
          <p:nvSpPr>
            <p:cNvPr id="259" name=""/>
            <p:cNvSpPr/>
            <p:nvPr/>
          </p:nvSpPr>
          <p:spPr>
            <a:xfrm rot="5196600">
              <a:off x="3887280" y="5146920"/>
              <a:ext cx="171720" cy="1688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196600">
              <a:off x="3718800" y="5157000"/>
              <a:ext cx="171720" cy="1688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196600">
              <a:off x="3549600" y="5151600"/>
              <a:ext cx="171720" cy="16848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425760" y="5367240"/>
            <a:ext cx="758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27560" y="5437080"/>
            <a:ext cx="7603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73200" y="5610240"/>
            <a:ext cx="3812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73200" y="5788080"/>
            <a:ext cx="3812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943360" y="5600880"/>
            <a:ext cx="31752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68480" y="5753160"/>
            <a:ext cx="63720" cy="58680"/>
          </a:xfrm>
          <a:prstGeom prst="ellipse">
            <a:avLst/>
          </a:prstGeom>
          <a:solidFill>
            <a:srgbClr val="343f7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54440" y="5575320"/>
            <a:ext cx="61920" cy="58680"/>
          </a:xfrm>
          <a:prstGeom prst="ellipse">
            <a:avLst/>
          </a:prstGeom>
          <a:solidFill>
            <a:srgbClr val="343f7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67000" y="55958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57560" y="514044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73200" y="6224760"/>
            <a:ext cx="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73200" y="6122880"/>
            <a:ext cx="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73200" y="6272280"/>
            <a:ext cx="190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57560" y="557532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75080" y="5567400"/>
            <a:ext cx="0" cy="7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8720" y="4927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0880" y="625464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65080" y="4797360"/>
            <a:ext cx="58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3300"/>
                </a:solidFill>
                <a:latin typeface="Tahoma"/>
                <a:ea typeface="Tahoma"/>
              </a:rPr>
              <a:t>Δ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V</a:t>
            </a:r>
            <a:r>
              <a:rPr b="1" lang="es-CL" sz="1600" spc="-1" strike="noStrike" baseline="-25000">
                <a:solidFill>
                  <a:srgbClr val="ff3300"/>
                </a:solidFill>
                <a:latin typeface="Tahoma"/>
              </a:rPr>
              <a:t>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78200" y="5634000"/>
            <a:ext cx="1752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V</a:t>
            </a:r>
            <a:r>
              <a:rPr b="1" lang="es-CL" sz="16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a’n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s-CL" sz="1600" spc="-1" strike="noStrike">
                <a:solidFill>
                  <a:srgbClr val="808080"/>
                </a:solidFill>
                <a:latin typeface="Tahoma"/>
                <a:ea typeface="Tahoma"/>
              </a:rPr>
              <a:t>V</a:t>
            </a:r>
            <a:r>
              <a:rPr b="1" lang="es-CL" sz="1600" spc="-1" strike="noStrike" baseline="-25000">
                <a:solidFill>
                  <a:srgbClr val="808080"/>
                </a:solidFill>
                <a:latin typeface="Tahoma"/>
                <a:ea typeface="Tahoma"/>
              </a:rPr>
              <a:t>an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1" lang="el-GR" sz="1600" spc="-1" strike="noStrike">
                <a:solidFill>
                  <a:srgbClr val="ff3300"/>
                </a:solidFill>
                <a:latin typeface="Tahoma"/>
                <a:ea typeface="Tahoma"/>
              </a:rPr>
              <a:t>Δ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V</a:t>
            </a:r>
            <a:r>
              <a:rPr b="1" lang="es-CL" sz="1600" spc="-1" strike="noStrike" baseline="-25000">
                <a:solidFill>
                  <a:srgbClr val="ff3300"/>
                </a:solidFill>
                <a:latin typeface="Tahoma"/>
              </a:rPr>
              <a:t>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82880" y="4995720"/>
            <a:ext cx="3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Tahoma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603840" y="3084120"/>
            <a:ext cx="0" cy="863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15000" y="34034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892920" y="3670200"/>
            <a:ext cx="0" cy="287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00920" y="33861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324560" y="3096720"/>
            <a:ext cx="0" cy="863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324560" y="2852640"/>
            <a:ext cx="0" cy="287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023840" y="5364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8720" y="515304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7175520" y="4300560"/>
            <a:ext cx="1857240" cy="1593720"/>
            <a:chOff x="7175520" y="4300560"/>
            <a:chExt cx="1857240" cy="1593720"/>
          </a:xfrm>
        </p:grpSpPr>
        <p:sp>
          <p:nvSpPr>
            <p:cNvPr id="290" name=""/>
            <p:cNvSpPr/>
            <p:nvPr/>
          </p:nvSpPr>
          <p:spPr>
            <a:xfrm flipV="1">
              <a:off x="8084880" y="4581360"/>
              <a:ext cx="0" cy="71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0280" y="5293440"/>
              <a:ext cx="622440" cy="359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457040" y="5294160"/>
              <a:ext cx="622080" cy="359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77880" y="4300560"/>
              <a:ext cx="390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80808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808080"/>
                  </a:solidFill>
                  <a:latin typeface="Tahoma"/>
                </a:rPr>
                <a:t>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638560" y="5516640"/>
              <a:ext cx="394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80808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808080"/>
                  </a:solidFill>
                  <a:latin typeface="Tahoma"/>
                </a:rPr>
                <a:t>b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75520" y="551664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80808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808080"/>
                  </a:solidFill>
                  <a:latin typeface="Tahoma"/>
                </a:rPr>
                <a:t>c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2400" y="4610160"/>
              <a:ext cx="576000" cy="1008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456320" y="4583520"/>
              <a:ext cx="584640" cy="10029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7518960" y="5659560"/>
              <a:ext cx="1161000" cy="46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401680" y="4883400"/>
              <a:ext cx="389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800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008000"/>
                  </a:solidFill>
                  <a:latin typeface="Tahoma"/>
                </a:rPr>
                <a:t>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7120" y="5592960"/>
              <a:ext cx="71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800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008000"/>
                  </a:solidFill>
                  <a:latin typeface="Tahoma"/>
                </a:rPr>
                <a:t>cb</a:t>
              </a:r>
              <a:r>
                <a:rPr b="1" lang="es-CL" sz="1200" spc="-1" strike="noStrike">
                  <a:solidFill>
                    <a:srgbClr val="008000"/>
                  </a:solidFill>
                  <a:latin typeface="Tahoma"/>
                </a:rPr>
                <a:t>=</a:t>
              </a:r>
              <a:r>
                <a:rPr b="1" lang="es-CL" sz="1200" spc="-1" strike="noStrike">
                  <a:solidFill>
                    <a:srgbClr val="ff3300"/>
                  </a:solidFill>
                  <a:latin typeface="Tahoma"/>
                </a:rPr>
                <a:t>-V</a:t>
              </a:r>
              <a:r>
                <a:rPr b="1" lang="es-CL" sz="1200" spc="-1" strike="noStrike" baseline="-25000">
                  <a:solidFill>
                    <a:srgbClr val="ff3300"/>
                  </a:solidFill>
                  <a:latin typeface="Tahoma"/>
                </a:rPr>
                <a:t>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13480" y="4869000"/>
              <a:ext cx="3787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800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008000"/>
                  </a:solidFill>
                  <a:latin typeface="Tahoma"/>
                </a:rPr>
                <a:t>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042920" y="674208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7640" y="6496200"/>
            <a:ext cx="3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443640" y="5936760"/>
            <a:ext cx="0" cy="863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54800" y="62564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59640" y="6524640"/>
            <a:ext cx="287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40720" y="623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093080" y="5876640"/>
            <a:ext cx="0" cy="8636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07120" y="6740640"/>
            <a:ext cx="28728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093080" y="5876640"/>
            <a:ext cx="287280" cy="865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 “Boosters”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l primer transformador suma una “muestra” del voltaje del primario. Luego, la suma vectorial está en fase con el voltaje primario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e utiliza para control de tensión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l segundo transformador suma una “muestra” de un voltaje del primario, pero desfasado en 90°. Si la “muestra” es pequeña, la magnitud prácticamente no cambia y sólo se introduce un desfase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e utiliza para el control de potencia activa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a relación de vueltas es compleja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 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1860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quipos presentes en todos los niveles de un SEP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n centrales, aumentan la tensión para transmitir la potencia generada a grandes distancias, minimizando las pérdida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Junto a los domicilios, reduciendo la tensión hasta un nivel “seguro” y útil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plicaciones especiales: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Regulación de tensión, e incluso “flujo de potencia”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n los SEP’s se los encuentra como: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Banco de autotransformadore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Transformadores tipo “shell”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Transformadores tipo “core”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Transformadores de tres enrollado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00720" y="1731960"/>
            <a:ext cx="4572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7777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: tipo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296244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Núcleo o “core”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2504880" cy="2771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40360" y="1413000"/>
            <a:ext cx="4668840" cy="4606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511320" y="6210360"/>
            <a:ext cx="9381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Fuente: </a:t>
            </a:r>
            <a:r>
              <a:rPr b="0" lang="es-CL" sz="1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A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: tipo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10680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Acorazado o “shell”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2884680" cy="1984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4365720"/>
            <a:ext cx="3456000" cy="1850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815160" y="907920"/>
            <a:ext cx="2328840" cy="3810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708360" y="4495680"/>
            <a:ext cx="381636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82760" y="6165720"/>
            <a:ext cx="9381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Fuente: </a:t>
            </a:r>
            <a:r>
              <a:rPr b="0" lang="es-CL" sz="10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A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635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: circuito equivalente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80988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l circuito equivalente da cuenta de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Pérdidas Joule en enrollado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Flujo magnético no enlazado por el fierro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Corriente de magnetización (</a:t>
            </a:r>
            <a:r>
              <a:rPr b="1" lang="el-GR" sz="1600" spc="-1" strike="noStrike">
                <a:solidFill>
                  <a:srgbClr val="343f7f"/>
                </a:solidFill>
                <a:latin typeface="Tahoma"/>
                <a:ea typeface="Tahoma"/>
              </a:rPr>
              <a:t>μ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  <a:ea typeface="Tahoma"/>
              </a:rPr>
              <a:t> del hierro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 finito)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Pérdidas por corrientes inducidas en el fierro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l circuito no da cuenta de la existencia de armónica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Debido a la relación no lineal entre B y H, la corriente de magnetización no puede ser sinusoidal si se quiere un flujo sinusoidal para producir una tensión de iguales característica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69" name="Rectangle 3" descr=""/>
          <p:cNvPicPr/>
          <p:nvPr/>
        </p:nvPicPr>
        <p:blipFill>
          <a:blip r:embed="rId1"/>
          <a:stretch/>
        </p:blipFill>
        <p:spPr>
          <a:xfrm>
            <a:off x="4140360" y="2060640"/>
            <a:ext cx="500364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: Ensayo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os parámetros del modelo equivalente deben ser estimados a partir de ensayo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nsayo de cortocircuito: determinación de la “rama serie”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nsayo de circuito abierto: determinación de la “rama shunt”. ¿está correcto según la figura?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Uso de “wattmetro” para determinación de resistencia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427640" y="1844640"/>
            <a:ext cx="4176720" cy="1795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4321080" cy="1857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294760" y="2133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190000" y="1749600"/>
            <a:ext cx="290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14280" y="263700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80"/>
                </a:solidFill>
                <a:latin typeface="Tahoma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28320" y="3801960"/>
            <a:ext cx="46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77560" y="501336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80"/>
                </a:solidFill>
                <a:latin typeface="Tahoma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52200" y="49417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80"/>
                </a:solidFill>
                <a:latin typeface="Tahoma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 trifásico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n este caso, el tipo de conexión es irrelevante para la determinación de la representación del equipo, debido a la forma en que se realizan los ensayos. Será relevante sólo para el tema de los desfases y cortocircuitos desbalanceado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56000" y="4581360"/>
            <a:ext cx="2808000" cy="2108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H="1">
            <a:off x="3274560" y="6184800"/>
            <a:ext cx="136836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619280" y="4390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82600" y="417528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08520" y="41497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4640" y="43894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628280" y="37638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2320" y="354816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7880" y="35226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84360" y="3762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633680" y="30942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97000" y="287820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22920" y="28526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89040" y="30924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33560" y="3035160"/>
            <a:ext cx="431640" cy="1440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23840" y="4437000"/>
            <a:ext cx="474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8640" y="387828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9960" y="38527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960" y="321480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2280" y="31892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360" y="3573360"/>
            <a:ext cx="4320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680" y="35481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9040" y="309240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9040" y="364500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9040" y="376704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9320" y="43149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41200" y="43894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1200" y="4024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0920" y="3092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306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24000" y="309420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37638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24000" y="4390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4384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51280" y="377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37160" y="309420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3645000"/>
            <a:ext cx="863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81040" y="335448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Tahoma"/>
              </a:rPr>
              <a:t>1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4635720" y="5877720"/>
            <a:ext cx="110160" cy="2264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914800">
            <a:off x="4384440" y="544428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ff0000"/>
                </a:solidFill>
                <a:latin typeface="Tahoma"/>
              </a:rPr>
              <a:t>2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248360" y="5934960"/>
            <a:ext cx="109800" cy="2268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3914640" y="6000480"/>
            <a:ext cx="51480" cy="2538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0914800">
            <a:off x="3860640" y="550008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ff0000"/>
                </a:solidFill>
                <a:latin typeface="Tahoma"/>
              </a:rPr>
              <a:t>2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20914800">
            <a:off x="3428640" y="564444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ff0000"/>
                </a:solidFill>
                <a:latin typeface="Tahoma"/>
              </a:rPr>
              <a:t>2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4295880"/>
            <a:ext cx="863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76320" y="400536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Tahoma"/>
              </a:rPr>
              <a:t>1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37080" y="3054240"/>
            <a:ext cx="863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01760" y="276372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Tahoma"/>
              </a:rPr>
              <a:t>1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3716280"/>
            <a:ext cx="8636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88000" y="3611520"/>
            <a:ext cx="505080" cy="21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3716280"/>
            <a:ext cx="7920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24360" y="4437000"/>
            <a:ext cx="216072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59640" y="3716280"/>
            <a:ext cx="0" cy="720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24360" y="3789000"/>
            <a:ext cx="0" cy="576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59040" y="38908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04200" y="3284640"/>
            <a:ext cx="44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lang="es-CL" sz="1600" spc="-1" strike="noStrike" baseline="-25000">
                <a:solidFill>
                  <a:srgbClr val="000000"/>
                </a:solidFill>
                <a:latin typeface="Tahoma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3630600"/>
            <a:ext cx="863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5040" y="334008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Tahoma"/>
              </a:rPr>
              <a:t>1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885080" y="3860640"/>
            <a:ext cx="142560" cy="431640"/>
            <a:chOff x="7885080" y="3860640"/>
            <a:chExt cx="142560" cy="431640"/>
          </a:xfrm>
        </p:grpSpPr>
        <p:sp>
          <p:nvSpPr>
            <p:cNvPr id="141" name=""/>
            <p:cNvSpPr/>
            <p:nvPr/>
          </p:nvSpPr>
          <p:spPr>
            <a:xfrm>
              <a:off x="7885080" y="386064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85080" y="400500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85080" y="414792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8077320" y="3856320"/>
            <a:ext cx="142560" cy="431640"/>
            <a:chOff x="8077320" y="3856320"/>
            <a:chExt cx="142560" cy="431640"/>
          </a:xfrm>
        </p:grpSpPr>
        <p:sp>
          <p:nvSpPr>
            <p:cNvPr id="145" name=""/>
            <p:cNvSpPr/>
            <p:nvPr/>
          </p:nvSpPr>
          <p:spPr>
            <a:xfrm rot="10800000">
              <a:off x="8077320" y="414360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00000">
              <a:off x="8077320" y="399924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0800000">
              <a:off x="8077320" y="385632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7885080" y="3716280"/>
            <a:ext cx="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885080" y="4292280"/>
            <a:ext cx="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29600" y="4292640"/>
            <a:ext cx="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38960" y="4437000"/>
            <a:ext cx="216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38960" y="3711600"/>
            <a:ext cx="216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29600" y="3711600"/>
            <a:ext cx="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494560" y="393372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ff0000"/>
                </a:solidFill>
                <a:latin typeface="Tahoma"/>
              </a:rPr>
              <a:t>2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8545680" y="3958920"/>
            <a:ext cx="6840" cy="3639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5734080"/>
            <a:ext cx="26636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En SE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Voltaje entre f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orriente de lí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n los sistemas eléctricos, es muy común que se utilicen “bancos de autotransformadores”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umenta la robustez del sistema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horro en enrollado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Desde el punto de vista de proyecto eléctrico, son más complejo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Necesidad de esquema de reemplazo de unidad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Mayor cantidad de muros cortafuegos y sistema de extinción de incendio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716360" y="3573360"/>
            <a:ext cx="2448000" cy="3265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076720" y="1009800"/>
            <a:ext cx="4067280" cy="3051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rot="19746000">
            <a:off x="4179960" y="4681440"/>
            <a:ext cx="151452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Representación en modelo pi: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se asume que Y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0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 es pequeña, la representación ABCD del transformador es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=N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B=NZ</a:t>
            </a:r>
            <a:r>
              <a:rPr b="1" lang="es-CL" sz="1600" spc="-1" strike="noStrike" baseline="-25000">
                <a:solidFill>
                  <a:srgbClr val="343f7f"/>
                </a:solidFill>
                <a:latin typeface="Tahoma"/>
              </a:rPr>
              <a:t>2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+Z</a:t>
            </a:r>
            <a:r>
              <a:rPr b="1" lang="es-CL" sz="1600" spc="-1" strike="noStrike" baseline="-25000">
                <a:solidFill>
                  <a:srgbClr val="343f7f"/>
                </a:solidFill>
                <a:latin typeface="Tahoma"/>
              </a:rPr>
              <a:t>1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/N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C=0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D=1/N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Además, recordar que Z=Z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1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+N</a:t>
            </a:r>
            <a:r>
              <a:rPr b="1" lang="es-CL" sz="1800" spc="-1" strike="noStrike" baseline="30000">
                <a:solidFill>
                  <a:srgbClr val="343f7f"/>
                </a:solidFill>
                <a:latin typeface="Tahoma"/>
              </a:rPr>
              <a:t>2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Z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2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. Luego B=Z/N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e puede demostrar que el circuito pi es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832040" y="4844880"/>
            <a:ext cx="107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11320" y="4708440"/>
            <a:ext cx="576360" cy="28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75080" y="4844880"/>
            <a:ext cx="107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2247120" y="5359680"/>
            <a:ext cx="576360" cy="28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50960" y="484452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550960" y="580500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3702600" y="5347080"/>
            <a:ext cx="576360" cy="28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006800" y="483192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006800" y="579240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32040" y="6140520"/>
            <a:ext cx="273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37120" y="4645080"/>
            <a:ext cx="1308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=(1-N)/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4240" y="534816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31840" y="437832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Z/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36400" y="5013360"/>
            <a:ext cx="144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=(N</a:t>
            </a:r>
            <a:r>
              <a:rPr b="1" lang="es-CL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-N)/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15200" y="5348160"/>
            <a:ext cx="40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76720" y="5800680"/>
            <a:ext cx="3764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243e75"/>
                </a:solidFill>
                <a:latin typeface="Tahoma"/>
              </a:rPr>
              <a:t>Ojo: Z</a:t>
            </a:r>
            <a:r>
              <a:rPr b="1" lang="es-CL" sz="1600" spc="-1" strike="noStrike" baseline="-25000">
                <a:solidFill>
                  <a:srgbClr val="243e75"/>
                </a:solidFill>
                <a:latin typeface="Tahoma"/>
              </a:rPr>
              <a:t>2</a:t>
            </a:r>
            <a:r>
              <a:rPr b="1" lang="es-CL" sz="1600" spc="-1" strike="noStrike">
                <a:solidFill>
                  <a:srgbClr val="243e75"/>
                </a:solidFill>
                <a:latin typeface="Tahoma"/>
              </a:rPr>
              <a:t> depende de la posición del tap (del valor que tenga 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1:10:30Z</dcterms:created>
  <dc:creator>cl132563349</dc:creator>
  <dc:description/>
  <dc:language>en-US</dc:language>
  <cp:lastModifiedBy>cl143600734</cp:lastModifiedBy>
  <dcterms:modified xsi:type="dcterms:W3CDTF">2011-10-24T00:38:49Z</dcterms:modified>
  <cp:revision>83</cp:revision>
  <dc:subject/>
  <dc:title>Diapositiva 1</dc:title>
</cp:coreProperties>
</file>