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media/image28.wmf" ContentType="image/x-wmf"/>
  <Override PartName="/ppt/media/image3.jpeg" ContentType="image/jpeg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5.jpeg" ContentType="image/jpeg"/>
  <Override PartName="/ppt/media/image11.wmf" ContentType="image/x-wmf"/>
  <Override PartName="/ppt/media/image9.wmf" ContentType="image/x-wmf"/>
  <Override PartName="/ppt/media/image39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37.wmf" ContentType="image/x-wmf"/>
  <Override PartName="/ppt/media/image45.wmf" ContentType="image/x-wmf"/>
  <Override PartName="/ppt/media/image2.png" ContentType="image/png"/>
  <Override PartName="/ppt/media/image51.wmf" ContentType="image/x-wmf"/>
  <Override PartName="/ppt/media/image12.wmf" ContentType="image/x-wmf"/>
  <Override PartName="/ppt/media/image49.wmf" ContentType="image/x-wmf"/>
  <Override PartName="/ppt/media/image46.wmf" ContentType="image/x-wmf"/>
  <Override PartName="/ppt/media/image48.jpeg" ContentType="image/jpeg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0.wmf" ContentType="image/x-wmf"/>
  <Override PartName="/ppt/media/image35.wmf" ContentType="image/x-wmf"/>
  <Override PartName="/ppt/media/image34.wmf" ContentType="image/x-wmf"/>
  <Override PartName="/ppt/media/image33.wmf" ContentType="image/x-wmf"/>
  <Override PartName="/ppt/media/image4.jpeg" ContentType="image/jpeg"/>
  <Override PartName="/ppt/media/image38.wmf" ContentType="image/x-wmf"/>
  <Override PartName="/ppt/media/image8.wmf" ContentType="image/x-wmf"/>
  <Override PartName="/ppt/media/image32.wmf" ContentType="image/x-wmf"/>
  <Override PartName="/ppt/media/image31.wmf" ContentType="image/x-wmf"/>
  <Override PartName="/ppt/media/image30.wmf" ContentType="image/x-wmf"/>
  <Override PartName="/ppt/media/image10.wmf" ContentType="image/x-wmf"/>
  <Override PartName="/ppt/media/image47.wmf" ContentType="image/x-wmf"/>
  <Override PartName="/ppt/media/image50.jpeg" ContentType="image/jpeg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A97E4-3754-4984-90D7-9848273F62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D4026-9E66-4A53-AB8D-844A67F9AB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398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4398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61501-3554-4183-A5CD-132817A95D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852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128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852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128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CAA63-0195-4942-840B-B37CB9EE35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75651-31A4-487A-9EB8-CBE4C2DE40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06F27-C1F7-4745-921E-5D0A503FF9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4398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70509-788B-4A2F-B1E1-8F7832117B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E74F9-1AB9-4550-973E-1E7A67174A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240" y="990720"/>
            <a:ext cx="396252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71312-64DF-4C84-BAD4-E7CBC8FEFF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4398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A1198-4AB6-4B6B-A240-EB94C7C39D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4398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4398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56677-AACA-4203-92DA-E21B31AB82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4398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4AB0D-5FFC-429C-9083-CC6000CB5B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6"/>
          <p:cNvSpPr/>
          <p:nvPr/>
        </p:nvSpPr>
        <p:spPr>
          <a:xfrm>
            <a:off x="0" y="152280"/>
            <a:ext cx="4343400" cy="762120"/>
          </a:xfrm>
          <a:custGeom>
            <a:avLst/>
            <a:gdLst>
              <a:gd name="textAreaLeft" fmla="*/ 0 w 4343400"/>
              <a:gd name="textAreaRight" fmla="*/ 4343400 w 434340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82" y="0"/>
                </a:lnTo>
                <a:lnTo>
                  <a:pt x="21600" y="10800"/>
                </a:lnTo>
                <a:lnTo>
                  <a:pt x="1608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43f7f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f7f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f7f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f7f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f7f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343f7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f7f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f7f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f7f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62EFE-3320-4876-93CC-22AE87CB89E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Object 46"/>
          <p:cNvGraphicFramePr/>
          <p:nvPr/>
        </p:nvGraphicFramePr>
        <p:xfrm>
          <a:off x="395280" y="44280"/>
          <a:ext cx="2664000" cy="852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Object 4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44280"/>
                    <a:ext cx="266400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38160">
            <a:solidFill>
              <a:srgbClr val="343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7164360" y="189000"/>
            <a:ext cx="1295280" cy="646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3.wmf"/><Relationship Id="rId1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7.wmf"/><Relationship Id="rId9" Type="http://schemas.openxmlformats.org/officeDocument/2006/relationships/hyperlink" Target="http://www.readthespirit.com/.a/6a00e54ef51d7688340120a65aa8d6970b-pi" TargetMode="External"/><Relationship Id="rId10" Type="http://schemas.openxmlformats.org/officeDocument/2006/relationships/image" Target="../media/image48.jpeg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49.wmf"/><Relationship Id="rId1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1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7.wmf"/><Relationship Id="rId9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image" Target="../media/image59.wmf"/><Relationship Id="rId3" Type="http://schemas.openxmlformats.org/officeDocument/2006/relationships/hyperlink" Target="http://www05.abb.com/global/scot/scot245.nsf/veritydisplay/0cb847bb3d05efacc12570a80022fdd5/$File/SIKAP%20Ed1%20en.pdf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wmf"/><Relationship Id="rId1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.wmf"/><Relationship Id="rId1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2.wmf"/><Relationship Id="rId1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8"/>
          <p:cNvSpPr/>
          <p:nvPr/>
        </p:nvSpPr>
        <p:spPr>
          <a:xfrm>
            <a:off x="76320" y="990720"/>
            <a:ext cx="5105160" cy="5790960"/>
          </a:xfrm>
          <a:prstGeom prst="rect">
            <a:avLst/>
          </a:prstGeom>
          <a:solidFill>
            <a:srgbClr val="343f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15" descr="MVC-131S"/>
          <p:cNvPicPr/>
          <p:nvPr/>
        </p:nvPicPr>
        <p:blipFill>
          <a:blip r:embed="rId1"/>
          <a:stretch/>
        </p:blipFill>
        <p:spPr>
          <a:xfrm>
            <a:off x="228600" y="3276720"/>
            <a:ext cx="4495680" cy="3371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4" descr="2003101506a"/>
          <p:cNvPicPr/>
          <p:nvPr/>
        </p:nvPicPr>
        <p:blipFill>
          <a:blip r:embed="rId2"/>
          <a:stretch/>
        </p:blipFill>
        <p:spPr>
          <a:xfrm>
            <a:off x="228600" y="112392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vinnetaAzul"/>
          <p:cNvPicPr/>
          <p:nvPr/>
        </p:nvPicPr>
        <p:blipFill>
          <a:blip r:embed="rId3"/>
          <a:stretch/>
        </p:blipFill>
        <p:spPr>
          <a:xfrm>
            <a:off x="2771640" y="1523880"/>
            <a:ext cx="6372360" cy="1219320"/>
          </a:xfrm>
          <a:prstGeom prst="rect">
            <a:avLst/>
          </a:prstGeom>
          <a:ln w="19080">
            <a:solidFill>
              <a:srgbClr val="294587"/>
            </a:solidFill>
            <a:miter/>
          </a:ln>
        </p:spPr>
      </p:pic>
      <p:sp>
        <p:nvSpPr>
          <p:cNvPr id="48" name="Text Box 7"/>
          <p:cNvSpPr/>
          <p:nvPr/>
        </p:nvSpPr>
        <p:spPr>
          <a:xfrm>
            <a:off x="5334120" y="3657600"/>
            <a:ext cx="33494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ahoma"/>
              </a:rPr>
              <a:t>Pablo Medina Cofr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Tahoma"/>
              </a:rPr>
              <a:t>12-10-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3444840" y="1844640"/>
            <a:ext cx="5029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ahoma"/>
              </a:rPr>
              <a:t>EL4103 – SISTEMAS DE ENERGÍA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ahoma"/>
              </a:rPr>
              <a:t>EQUIPOS ELÉCT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Cálculo en p.u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3809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Esta materia se estudió en los cursos anteriores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Sin embargo, el trabajo en este curso se hace con esta metodología, razón por la cual se analizará al menos el uso de “base trifásica”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Motivación: Analizar el circuito de la figura: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6308640" y="1927080"/>
            <a:ext cx="36036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659640" y="2779560"/>
            <a:ext cx="36036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961240" y="2787480"/>
            <a:ext cx="36036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477120" y="228600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6183360" y="2642760"/>
            <a:ext cx="2872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481800" y="2643120"/>
            <a:ext cx="2887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244000" y="1957320"/>
            <a:ext cx="144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rot="19824600">
            <a:off x="8459280" y="2742840"/>
            <a:ext cx="144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1986600">
            <a:off x="8002440" y="2743200"/>
            <a:ext cx="144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315280" y="22446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8166240" y="2546280"/>
            <a:ext cx="1425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315280" y="253368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515280" y="174132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515280" y="17413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315280" y="17413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75640" y="325296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604360" y="30369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6862680" y="31096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988400" y="2997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6114960" y="342252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6114960" y="31291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91280" y="15969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295040" y="1255680"/>
            <a:ext cx="2782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s-CL" sz="12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870160" y="1957320"/>
            <a:ext cx="3574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s-CL" sz="1200" spc="-1" strike="noStrike" baseline="-25000">
                <a:solidFill>
                  <a:srgbClr val="000000"/>
                </a:solidFill>
                <a:latin typeface="Tahoma"/>
              </a:rPr>
              <a:t>f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227640" y="1812960"/>
            <a:ext cx="0" cy="7920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57760" y="1943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318360" y="4551480"/>
            <a:ext cx="36036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6485040" y="4910040"/>
            <a:ext cx="1440" cy="27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253360" y="4581360"/>
            <a:ext cx="144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25000" y="4869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524640" y="436572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524640" y="436572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325000" y="436572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101000" y="422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304400" y="3879720"/>
            <a:ext cx="2782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s-CL" sz="12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879880" y="4581360"/>
            <a:ext cx="3574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s-CL" sz="1200" spc="-1" strike="noStrike" baseline="-25000">
                <a:solidFill>
                  <a:srgbClr val="000000"/>
                </a:solidFill>
                <a:latin typeface="Tahoma"/>
              </a:rPr>
              <a:t>f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6237360" y="4436640"/>
            <a:ext cx="0" cy="79236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67120" y="456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85040" y="518328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6235560" y="5445000"/>
          <a:ext cx="2578320" cy="12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5560" y="5445000"/>
                    <a:ext cx="257832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0" name=""/>
          <p:cNvGrpSpPr/>
          <p:nvPr/>
        </p:nvGrpSpPr>
        <p:grpSpPr>
          <a:xfrm>
            <a:off x="700200" y="4773600"/>
            <a:ext cx="4808520" cy="2111400"/>
            <a:chOff x="700200" y="4773600"/>
            <a:chExt cx="4808520" cy="2111400"/>
          </a:xfrm>
        </p:grpSpPr>
        <p:graphicFrame>
          <p:nvGraphicFramePr>
            <p:cNvPr id="211" name="Rectangle 3"/>
            <p:cNvGraphicFramePr/>
            <p:nvPr/>
          </p:nvGraphicFramePr>
          <p:xfrm>
            <a:off x="700200" y="5343480"/>
            <a:ext cx="1279440" cy="893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2" name="Rectangle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00200" y="5343480"/>
                      <a:ext cx="1279440" cy="89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3" name="Rectangle 3"/>
            <p:cNvGraphicFramePr/>
            <p:nvPr/>
          </p:nvGraphicFramePr>
          <p:xfrm>
            <a:off x="2441520" y="4773600"/>
            <a:ext cx="3067200" cy="2111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14" name="Rectangle 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441520" y="4773600"/>
                      <a:ext cx="3067200" cy="2111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5" name=""/>
            <p:cNvSpPr/>
            <p:nvPr/>
          </p:nvSpPr>
          <p:spPr>
            <a:xfrm>
              <a:off x="1979640" y="5013360"/>
              <a:ext cx="216000" cy="1655640"/>
            </a:xfrm>
            <a:custGeom>
              <a:avLst/>
              <a:gdLst>
                <a:gd name="textAreaLeft" fmla="*/ 0 w 216000"/>
                <a:gd name="textAreaRight" fmla="*/ 78120 w 216000"/>
                <a:gd name="textAreaTop" fmla="*/ 42840 h 1655640"/>
                <a:gd name="textAreaBottom" fmla="*/ 1612800 h 165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9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9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Cálculo en p.u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Definiendo dos cantidades bases, se tienen las restantes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En el curso, V y S serán las bases principales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El cálculo en p.u. se utiliza porque: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Evita complicaciones con las unidades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Permite la rápida detección de errores (ej.: en los SEP’s, las tensiones son valores cercanos a uno)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El trabajo en sistemas con diferentes niveles de tensión se simplifica … no es necesario incorporar “transformadores ideales” a la representación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Para que el método “funcione”, la base trifásica de potencia debe ser común para todo el sistema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Cálculo en p.u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250920" y="2205000"/>
          <a:ext cx="1725480" cy="8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205000"/>
                    <a:ext cx="172548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250920" y="3141720"/>
          <a:ext cx="3006720" cy="771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3141720"/>
                    <a:ext cx="300672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5364000" y="3860640"/>
          <a:ext cx="1625760" cy="406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64000" y="3860640"/>
                    <a:ext cx="162576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250920" y="4038480"/>
          <a:ext cx="3432240" cy="974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0920" y="4038480"/>
                    <a:ext cx="3432240" cy="9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179280" y="5157720"/>
          <a:ext cx="3411720" cy="1381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79280" y="5157720"/>
                    <a:ext cx="3411720" cy="13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3995640" y="5734080"/>
          <a:ext cx="4935600" cy="771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995640" y="5734080"/>
                    <a:ext cx="493560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1" name=""/>
          <p:cNvGrpSpPr/>
          <p:nvPr/>
        </p:nvGrpSpPr>
        <p:grpSpPr>
          <a:xfrm>
            <a:off x="3924360" y="5013360"/>
            <a:ext cx="5075280" cy="1584360"/>
            <a:chOff x="3924360" y="5013360"/>
            <a:chExt cx="5075280" cy="1584360"/>
          </a:xfrm>
        </p:grpSpPr>
        <p:sp>
          <p:nvSpPr>
            <p:cNvPr id="232" name=""/>
            <p:cNvSpPr/>
            <p:nvPr/>
          </p:nvSpPr>
          <p:spPr>
            <a:xfrm>
              <a:off x="7740720" y="5661000"/>
              <a:ext cx="1258920" cy="9367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924360" y="5013360"/>
              <a:ext cx="5040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0000"/>
                  </a:solidFill>
                  <a:latin typeface="Tahoma"/>
                </a:rPr>
                <a:t>Si se eligen los voltajes bases de ambos sectores iguales a la relación de vueltas, ¡todo se simplifica!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 flipV="1">
              <a:off x="6372000" y="5589360"/>
              <a:ext cx="1584360" cy="215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5857920" y="2727360"/>
            <a:ext cx="680760" cy="837720"/>
            <a:chOff x="5857920" y="2727360"/>
            <a:chExt cx="680760" cy="837720"/>
          </a:xfrm>
        </p:grpSpPr>
        <p:grpSp>
          <p:nvGrpSpPr>
            <p:cNvPr id="236" name=""/>
            <p:cNvGrpSpPr/>
            <p:nvPr/>
          </p:nvGrpSpPr>
          <p:grpSpPr>
            <a:xfrm>
              <a:off x="5857920" y="2727360"/>
              <a:ext cx="279000" cy="837720"/>
              <a:chOff x="5857920" y="2727360"/>
              <a:chExt cx="279000" cy="837720"/>
            </a:xfrm>
          </p:grpSpPr>
          <p:grpSp>
            <p:nvGrpSpPr>
              <p:cNvPr id="237" name=""/>
              <p:cNvGrpSpPr/>
              <p:nvPr/>
            </p:nvGrpSpPr>
            <p:grpSpPr>
              <a:xfrm>
                <a:off x="5864400" y="2727360"/>
                <a:ext cx="272520" cy="455760"/>
                <a:chOff x="5864400" y="2727360"/>
                <a:chExt cx="272520" cy="455760"/>
              </a:xfrm>
            </p:grpSpPr>
            <p:grpSp>
              <p:nvGrpSpPr>
                <p:cNvPr id="238" name=""/>
                <p:cNvGrpSpPr/>
                <p:nvPr/>
              </p:nvGrpSpPr>
              <p:grpSpPr>
                <a:xfrm>
                  <a:off x="5867640" y="2727360"/>
                  <a:ext cx="269280" cy="266400"/>
                  <a:chOff x="5867640" y="2727360"/>
                  <a:chExt cx="269280" cy="266400"/>
                </a:xfrm>
              </p:grpSpPr>
              <p:sp>
                <p:nvSpPr>
                  <p:cNvPr id="239" name=""/>
                  <p:cNvSpPr/>
                  <p:nvPr/>
                </p:nvSpPr>
                <p:spPr>
                  <a:xfrm>
                    <a:off x="5867640" y="2727360"/>
                    <a:ext cx="26928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64" h="728">
                        <a:moveTo>
                          <a:pt x="0" y="200"/>
                        </a:moveTo>
                        <a:cubicBezTo>
                          <a:pt x="72" y="144"/>
                          <a:pt x="144" y="88"/>
                          <a:pt x="240" y="56"/>
                        </a:cubicBezTo>
                        <a:cubicBezTo>
                          <a:pt x="336" y="24"/>
                          <a:pt x="464" y="0"/>
                          <a:pt x="576" y="8"/>
                        </a:cubicBezTo>
                        <a:cubicBezTo>
                          <a:pt x="688" y="16"/>
                          <a:pt x="816" y="56"/>
                          <a:pt x="912" y="104"/>
                        </a:cubicBezTo>
                        <a:cubicBezTo>
                          <a:pt x="1008" y="152"/>
                          <a:pt x="1096" y="216"/>
                          <a:pt x="1152" y="296"/>
                        </a:cubicBezTo>
                        <a:cubicBezTo>
                          <a:pt x="1208" y="376"/>
                          <a:pt x="1232" y="512"/>
                          <a:pt x="1248" y="584"/>
                        </a:cubicBezTo>
                        <a:cubicBezTo>
                          <a:pt x="1264" y="656"/>
                          <a:pt x="1240" y="712"/>
                          <a:pt x="1248" y="728"/>
                        </a:cubicBezTo>
                      </a:path>
                    </a:pathLst>
                  </a:custGeom>
                  <a:noFill/>
                  <a:ln w="57240">
                    <a:solidFill>
                      <a:srgbClr val="33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 flipV="1">
                    <a:off x="5867640" y="2855520"/>
                    <a:ext cx="26928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64" h="728">
                        <a:moveTo>
                          <a:pt x="0" y="200"/>
                        </a:moveTo>
                        <a:cubicBezTo>
                          <a:pt x="72" y="144"/>
                          <a:pt x="144" y="88"/>
                          <a:pt x="240" y="56"/>
                        </a:cubicBezTo>
                        <a:cubicBezTo>
                          <a:pt x="336" y="24"/>
                          <a:pt x="464" y="0"/>
                          <a:pt x="576" y="8"/>
                        </a:cubicBezTo>
                        <a:cubicBezTo>
                          <a:pt x="688" y="16"/>
                          <a:pt x="816" y="56"/>
                          <a:pt x="912" y="104"/>
                        </a:cubicBezTo>
                        <a:cubicBezTo>
                          <a:pt x="1008" y="152"/>
                          <a:pt x="1096" y="216"/>
                          <a:pt x="1152" y="296"/>
                        </a:cubicBezTo>
                        <a:cubicBezTo>
                          <a:pt x="1208" y="376"/>
                          <a:pt x="1232" y="512"/>
                          <a:pt x="1248" y="584"/>
                        </a:cubicBezTo>
                        <a:cubicBezTo>
                          <a:pt x="1264" y="656"/>
                          <a:pt x="1240" y="712"/>
                          <a:pt x="1248" y="728"/>
                        </a:cubicBezTo>
                      </a:path>
                    </a:pathLst>
                  </a:custGeom>
                  <a:noFill/>
                  <a:ln w="57240">
                    <a:solidFill>
                      <a:srgbClr val="33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1" name=""/>
                <p:cNvGrpSpPr/>
                <p:nvPr/>
              </p:nvGrpSpPr>
              <p:grpSpPr>
                <a:xfrm>
                  <a:off x="5864400" y="2916720"/>
                  <a:ext cx="269280" cy="266400"/>
                  <a:chOff x="5864400" y="2916720"/>
                  <a:chExt cx="269280" cy="266400"/>
                </a:xfrm>
              </p:grpSpPr>
              <p:sp>
                <p:nvSpPr>
                  <p:cNvPr id="242" name=""/>
                  <p:cNvSpPr/>
                  <p:nvPr/>
                </p:nvSpPr>
                <p:spPr>
                  <a:xfrm>
                    <a:off x="5864400" y="2916720"/>
                    <a:ext cx="26928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64" h="728">
                        <a:moveTo>
                          <a:pt x="0" y="200"/>
                        </a:moveTo>
                        <a:cubicBezTo>
                          <a:pt x="72" y="144"/>
                          <a:pt x="144" y="88"/>
                          <a:pt x="240" y="56"/>
                        </a:cubicBezTo>
                        <a:cubicBezTo>
                          <a:pt x="336" y="24"/>
                          <a:pt x="464" y="0"/>
                          <a:pt x="576" y="8"/>
                        </a:cubicBezTo>
                        <a:cubicBezTo>
                          <a:pt x="688" y="16"/>
                          <a:pt x="816" y="56"/>
                          <a:pt x="912" y="104"/>
                        </a:cubicBezTo>
                        <a:cubicBezTo>
                          <a:pt x="1008" y="152"/>
                          <a:pt x="1096" y="216"/>
                          <a:pt x="1152" y="296"/>
                        </a:cubicBezTo>
                        <a:cubicBezTo>
                          <a:pt x="1208" y="376"/>
                          <a:pt x="1232" y="512"/>
                          <a:pt x="1248" y="584"/>
                        </a:cubicBezTo>
                        <a:cubicBezTo>
                          <a:pt x="1264" y="656"/>
                          <a:pt x="1240" y="712"/>
                          <a:pt x="1248" y="728"/>
                        </a:cubicBezTo>
                      </a:path>
                    </a:pathLst>
                  </a:custGeom>
                  <a:noFill/>
                  <a:ln w="57240">
                    <a:solidFill>
                      <a:srgbClr val="33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 flipV="1">
                    <a:off x="5864400" y="3044880"/>
                    <a:ext cx="26928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64" h="728">
                        <a:moveTo>
                          <a:pt x="0" y="200"/>
                        </a:moveTo>
                        <a:cubicBezTo>
                          <a:pt x="72" y="144"/>
                          <a:pt x="144" y="88"/>
                          <a:pt x="240" y="56"/>
                        </a:cubicBezTo>
                        <a:cubicBezTo>
                          <a:pt x="336" y="24"/>
                          <a:pt x="464" y="0"/>
                          <a:pt x="576" y="8"/>
                        </a:cubicBezTo>
                        <a:cubicBezTo>
                          <a:pt x="688" y="16"/>
                          <a:pt x="816" y="56"/>
                          <a:pt x="912" y="104"/>
                        </a:cubicBezTo>
                        <a:cubicBezTo>
                          <a:pt x="1008" y="152"/>
                          <a:pt x="1096" y="216"/>
                          <a:pt x="1152" y="296"/>
                        </a:cubicBezTo>
                        <a:cubicBezTo>
                          <a:pt x="1208" y="376"/>
                          <a:pt x="1232" y="512"/>
                          <a:pt x="1248" y="584"/>
                        </a:cubicBezTo>
                        <a:cubicBezTo>
                          <a:pt x="1264" y="656"/>
                          <a:pt x="1240" y="712"/>
                          <a:pt x="1248" y="728"/>
                        </a:cubicBezTo>
                      </a:path>
                    </a:pathLst>
                  </a:custGeom>
                  <a:noFill/>
                  <a:ln w="57240">
                    <a:solidFill>
                      <a:srgbClr val="33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4" name=""/>
              <p:cNvGrpSpPr/>
              <p:nvPr/>
            </p:nvGrpSpPr>
            <p:grpSpPr>
              <a:xfrm>
                <a:off x="5857920" y="3109320"/>
                <a:ext cx="272520" cy="455760"/>
                <a:chOff x="5857920" y="3109320"/>
                <a:chExt cx="272520" cy="455760"/>
              </a:xfrm>
            </p:grpSpPr>
            <p:grpSp>
              <p:nvGrpSpPr>
                <p:cNvPr id="245" name=""/>
                <p:cNvGrpSpPr/>
                <p:nvPr/>
              </p:nvGrpSpPr>
              <p:grpSpPr>
                <a:xfrm>
                  <a:off x="5861160" y="3109320"/>
                  <a:ext cx="269280" cy="266400"/>
                  <a:chOff x="5861160" y="3109320"/>
                  <a:chExt cx="269280" cy="266400"/>
                </a:xfrm>
              </p:grpSpPr>
              <p:sp>
                <p:nvSpPr>
                  <p:cNvPr id="246" name=""/>
                  <p:cNvSpPr/>
                  <p:nvPr/>
                </p:nvSpPr>
                <p:spPr>
                  <a:xfrm>
                    <a:off x="5861160" y="3109320"/>
                    <a:ext cx="26928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64" h="728">
                        <a:moveTo>
                          <a:pt x="0" y="200"/>
                        </a:moveTo>
                        <a:cubicBezTo>
                          <a:pt x="72" y="144"/>
                          <a:pt x="144" y="88"/>
                          <a:pt x="240" y="56"/>
                        </a:cubicBezTo>
                        <a:cubicBezTo>
                          <a:pt x="336" y="24"/>
                          <a:pt x="464" y="0"/>
                          <a:pt x="576" y="8"/>
                        </a:cubicBezTo>
                        <a:cubicBezTo>
                          <a:pt x="688" y="16"/>
                          <a:pt x="816" y="56"/>
                          <a:pt x="912" y="104"/>
                        </a:cubicBezTo>
                        <a:cubicBezTo>
                          <a:pt x="1008" y="152"/>
                          <a:pt x="1096" y="216"/>
                          <a:pt x="1152" y="296"/>
                        </a:cubicBezTo>
                        <a:cubicBezTo>
                          <a:pt x="1208" y="376"/>
                          <a:pt x="1232" y="512"/>
                          <a:pt x="1248" y="584"/>
                        </a:cubicBezTo>
                        <a:cubicBezTo>
                          <a:pt x="1264" y="656"/>
                          <a:pt x="1240" y="712"/>
                          <a:pt x="1248" y="728"/>
                        </a:cubicBezTo>
                      </a:path>
                    </a:pathLst>
                  </a:custGeom>
                  <a:noFill/>
                  <a:ln w="57240">
                    <a:solidFill>
                      <a:srgbClr val="33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 flipV="1">
                    <a:off x="5861160" y="3237480"/>
                    <a:ext cx="26928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64" h="728">
                        <a:moveTo>
                          <a:pt x="0" y="200"/>
                        </a:moveTo>
                        <a:cubicBezTo>
                          <a:pt x="72" y="144"/>
                          <a:pt x="144" y="88"/>
                          <a:pt x="240" y="56"/>
                        </a:cubicBezTo>
                        <a:cubicBezTo>
                          <a:pt x="336" y="24"/>
                          <a:pt x="464" y="0"/>
                          <a:pt x="576" y="8"/>
                        </a:cubicBezTo>
                        <a:cubicBezTo>
                          <a:pt x="688" y="16"/>
                          <a:pt x="816" y="56"/>
                          <a:pt x="912" y="104"/>
                        </a:cubicBezTo>
                        <a:cubicBezTo>
                          <a:pt x="1008" y="152"/>
                          <a:pt x="1096" y="216"/>
                          <a:pt x="1152" y="296"/>
                        </a:cubicBezTo>
                        <a:cubicBezTo>
                          <a:pt x="1208" y="376"/>
                          <a:pt x="1232" y="512"/>
                          <a:pt x="1248" y="584"/>
                        </a:cubicBezTo>
                        <a:cubicBezTo>
                          <a:pt x="1264" y="656"/>
                          <a:pt x="1240" y="712"/>
                          <a:pt x="1248" y="728"/>
                        </a:cubicBezTo>
                      </a:path>
                    </a:pathLst>
                  </a:custGeom>
                  <a:noFill/>
                  <a:ln w="57240">
                    <a:solidFill>
                      <a:srgbClr val="33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8" name=""/>
                <p:cNvGrpSpPr/>
                <p:nvPr/>
              </p:nvGrpSpPr>
              <p:grpSpPr>
                <a:xfrm>
                  <a:off x="5857920" y="3298680"/>
                  <a:ext cx="269280" cy="266400"/>
                  <a:chOff x="5857920" y="3298680"/>
                  <a:chExt cx="269280" cy="26640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>
                    <a:off x="5857920" y="3298680"/>
                    <a:ext cx="26928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64" h="728">
                        <a:moveTo>
                          <a:pt x="0" y="200"/>
                        </a:moveTo>
                        <a:cubicBezTo>
                          <a:pt x="72" y="144"/>
                          <a:pt x="144" y="88"/>
                          <a:pt x="240" y="56"/>
                        </a:cubicBezTo>
                        <a:cubicBezTo>
                          <a:pt x="336" y="24"/>
                          <a:pt x="464" y="0"/>
                          <a:pt x="576" y="8"/>
                        </a:cubicBezTo>
                        <a:cubicBezTo>
                          <a:pt x="688" y="16"/>
                          <a:pt x="816" y="56"/>
                          <a:pt x="912" y="104"/>
                        </a:cubicBezTo>
                        <a:cubicBezTo>
                          <a:pt x="1008" y="152"/>
                          <a:pt x="1096" y="216"/>
                          <a:pt x="1152" y="296"/>
                        </a:cubicBezTo>
                        <a:cubicBezTo>
                          <a:pt x="1208" y="376"/>
                          <a:pt x="1232" y="512"/>
                          <a:pt x="1248" y="584"/>
                        </a:cubicBezTo>
                        <a:cubicBezTo>
                          <a:pt x="1264" y="656"/>
                          <a:pt x="1240" y="712"/>
                          <a:pt x="1248" y="728"/>
                        </a:cubicBezTo>
                      </a:path>
                    </a:pathLst>
                  </a:custGeom>
                  <a:noFill/>
                  <a:ln w="57240">
                    <a:solidFill>
                      <a:srgbClr val="33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V="1">
                    <a:off x="5857920" y="3426840"/>
                    <a:ext cx="26928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64" h="728">
                        <a:moveTo>
                          <a:pt x="0" y="200"/>
                        </a:moveTo>
                        <a:cubicBezTo>
                          <a:pt x="72" y="144"/>
                          <a:pt x="144" y="88"/>
                          <a:pt x="240" y="56"/>
                        </a:cubicBezTo>
                        <a:cubicBezTo>
                          <a:pt x="336" y="24"/>
                          <a:pt x="464" y="0"/>
                          <a:pt x="576" y="8"/>
                        </a:cubicBezTo>
                        <a:cubicBezTo>
                          <a:pt x="688" y="16"/>
                          <a:pt x="816" y="56"/>
                          <a:pt x="912" y="104"/>
                        </a:cubicBezTo>
                        <a:cubicBezTo>
                          <a:pt x="1008" y="152"/>
                          <a:pt x="1096" y="216"/>
                          <a:pt x="1152" y="296"/>
                        </a:cubicBezTo>
                        <a:cubicBezTo>
                          <a:pt x="1208" y="376"/>
                          <a:pt x="1232" y="512"/>
                          <a:pt x="1248" y="584"/>
                        </a:cubicBezTo>
                        <a:cubicBezTo>
                          <a:pt x="1264" y="656"/>
                          <a:pt x="1240" y="712"/>
                          <a:pt x="1248" y="728"/>
                        </a:cubicBezTo>
                      </a:path>
                    </a:pathLst>
                  </a:custGeom>
                  <a:noFill/>
                  <a:ln w="57240">
                    <a:solidFill>
                      <a:srgbClr val="33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51" name=""/>
            <p:cNvGrpSpPr/>
            <p:nvPr/>
          </p:nvGrpSpPr>
          <p:grpSpPr>
            <a:xfrm>
              <a:off x="6259680" y="2727360"/>
              <a:ext cx="279000" cy="837720"/>
              <a:chOff x="6259680" y="2727360"/>
              <a:chExt cx="279000" cy="83772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259680" y="2727360"/>
                <a:ext cx="272520" cy="455760"/>
                <a:chOff x="6259680" y="2727360"/>
                <a:chExt cx="272520" cy="455760"/>
              </a:xfrm>
            </p:grpSpPr>
            <p:grpSp>
              <p:nvGrpSpPr>
                <p:cNvPr id="253" name=""/>
                <p:cNvGrpSpPr/>
                <p:nvPr/>
              </p:nvGrpSpPr>
              <p:grpSpPr>
                <a:xfrm>
                  <a:off x="6259680" y="2727360"/>
                  <a:ext cx="269280" cy="266400"/>
                  <a:chOff x="6259680" y="2727360"/>
                  <a:chExt cx="269280" cy="266400"/>
                </a:xfrm>
              </p:grpSpPr>
              <p:sp>
                <p:nvSpPr>
                  <p:cNvPr id="254" name=""/>
                  <p:cNvSpPr/>
                  <p:nvPr/>
                </p:nvSpPr>
                <p:spPr>
                  <a:xfrm flipH="1">
                    <a:off x="6259680" y="2727360"/>
                    <a:ext cx="26928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64" h="728">
                        <a:moveTo>
                          <a:pt x="0" y="200"/>
                        </a:moveTo>
                        <a:cubicBezTo>
                          <a:pt x="72" y="144"/>
                          <a:pt x="144" y="88"/>
                          <a:pt x="240" y="56"/>
                        </a:cubicBezTo>
                        <a:cubicBezTo>
                          <a:pt x="336" y="24"/>
                          <a:pt x="464" y="0"/>
                          <a:pt x="576" y="8"/>
                        </a:cubicBezTo>
                        <a:cubicBezTo>
                          <a:pt x="688" y="16"/>
                          <a:pt x="816" y="56"/>
                          <a:pt x="912" y="104"/>
                        </a:cubicBezTo>
                        <a:cubicBezTo>
                          <a:pt x="1008" y="152"/>
                          <a:pt x="1096" y="216"/>
                          <a:pt x="1152" y="296"/>
                        </a:cubicBezTo>
                        <a:cubicBezTo>
                          <a:pt x="1208" y="376"/>
                          <a:pt x="1232" y="512"/>
                          <a:pt x="1248" y="584"/>
                        </a:cubicBezTo>
                        <a:cubicBezTo>
                          <a:pt x="1264" y="656"/>
                          <a:pt x="1240" y="712"/>
                          <a:pt x="1248" y="728"/>
                        </a:cubicBezTo>
                      </a:path>
                    </a:pathLst>
                  </a:custGeom>
                  <a:noFill/>
                  <a:ln w="57240">
                    <a:solidFill>
                      <a:srgbClr val="33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 flipH="1" flipV="1">
                    <a:off x="6259680" y="2855520"/>
                    <a:ext cx="26928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64" h="728">
                        <a:moveTo>
                          <a:pt x="0" y="200"/>
                        </a:moveTo>
                        <a:cubicBezTo>
                          <a:pt x="72" y="144"/>
                          <a:pt x="144" y="88"/>
                          <a:pt x="240" y="56"/>
                        </a:cubicBezTo>
                        <a:cubicBezTo>
                          <a:pt x="336" y="24"/>
                          <a:pt x="464" y="0"/>
                          <a:pt x="576" y="8"/>
                        </a:cubicBezTo>
                        <a:cubicBezTo>
                          <a:pt x="688" y="16"/>
                          <a:pt x="816" y="56"/>
                          <a:pt x="912" y="104"/>
                        </a:cubicBezTo>
                        <a:cubicBezTo>
                          <a:pt x="1008" y="152"/>
                          <a:pt x="1096" y="216"/>
                          <a:pt x="1152" y="296"/>
                        </a:cubicBezTo>
                        <a:cubicBezTo>
                          <a:pt x="1208" y="376"/>
                          <a:pt x="1232" y="512"/>
                          <a:pt x="1248" y="584"/>
                        </a:cubicBezTo>
                        <a:cubicBezTo>
                          <a:pt x="1264" y="656"/>
                          <a:pt x="1240" y="712"/>
                          <a:pt x="1248" y="728"/>
                        </a:cubicBezTo>
                      </a:path>
                    </a:pathLst>
                  </a:custGeom>
                  <a:noFill/>
                  <a:ln w="57240">
                    <a:solidFill>
                      <a:srgbClr val="33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6" name=""/>
                <p:cNvGrpSpPr/>
                <p:nvPr/>
              </p:nvGrpSpPr>
              <p:grpSpPr>
                <a:xfrm>
                  <a:off x="6262920" y="2916720"/>
                  <a:ext cx="269280" cy="266400"/>
                  <a:chOff x="6262920" y="2916720"/>
                  <a:chExt cx="269280" cy="266400"/>
                </a:xfrm>
              </p:grpSpPr>
              <p:sp>
                <p:nvSpPr>
                  <p:cNvPr id="257" name=""/>
                  <p:cNvSpPr/>
                  <p:nvPr/>
                </p:nvSpPr>
                <p:spPr>
                  <a:xfrm flipH="1">
                    <a:off x="6262920" y="2916720"/>
                    <a:ext cx="26928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64" h="728">
                        <a:moveTo>
                          <a:pt x="0" y="200"/>
                        </a:moveTo>
                        <a:cubicBezTo>
                          <a:pt x="72" y="144"/>
                          <a:pt x="144" y="88"/>
                          <a:pt x="240" y="56"/>
                        </a:cubicBezTo>
                        <a:cubicBezTo>
                          <a:pt x="336" y="24"/>
                          <a:pt x="464" y="0"/>
                          <a:pt x="576" y="8"/>
                        </a:cubicBezTo>
                        <a:cubicBezTo>
                          <a:pt x="688" y="16"/>
                          <a:pt x="816" y="56"/>
                          <a:pt x="912" y="104"/>
                        </a:cubicBezTo>
                        <a:cubicBezTo>
                          <a:pt x="1008" y="152"/>
                          <a:pt x="1096" y="216"/>
                          <a:pt x="1152" y="296"/>
                        </a:cubicBezTo>
                        <a:cubicBezTo>
                          <a:pt x="1208" y="376"/>
                          <a:pt x="1232" y="512"/>
                          <a:pt x="1248" y="584"/>
                        </a:cubicBezTo>
                        <a:cubicBezTo>
                          <a:pt x="1264" y="656"/>
                          <a:pt x="1240" y="712"/>
                          <a:pt x="1248" y="728"/>
                        </a:cubicBezTo>
                      </a:path>
                    </a:pathLst>
                  </a:custGeom>
                  <a:noFill/>
                  <a:ln w="57240">
                    <a:solidFill>
                      <a:srgbClr val="33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 flipH="1" flipV="1">
                    <a:off x="6262920" y="3044880"/>
                    <a:ext cx="26928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64" h="728">
                        <a:moveTo>
                          <a:pt x="0" y="200"/>
                        </a:moveTo>
                        <a:cubicBezTo>
                          <a:pt x="72" y="144"/>
                          <a:pt x="144" y="88"/>
                          <a:pt x="240" y="56"/>
                        </a:cubicBezTo>
                        <a:cubicBezTo>
                          <a:pt x="336" y="24"/>
                          <a:pt x="464" y="0"/>
                          <a:pt x="576" y="8"/>
                        </a:cubicBezTo>
                        <a:cubicBezTo>
                          <a:pt x="688" y="16"/>
                          <a:pt x="816" y="56"/>
                          <a:pt x="912" y="104"/>
                        </a:cubicBezTo>
                        <a:cubicBezTo>
                          <a:pt x="1008" y="152"/>
                          <a:pt x="1096" y="216"/>
                          <a:pt x="1152" y="296"/>
                        </a:cubicBezTo>
                        <a:cubicBezTo>
                          <a:pt x="1208" y="376"/>
                          <a:pt x="1232" y="512"/>
                          <a:pt x="1248" y="584"/>
                        </a:cubicBezTo>
                        <a:cubicBezTo>
                          <a:pt x="1264" y="656"/>
                          <a:pt x="1240" y="712"/>
                          <a:pt x="1248" y="728"/>
                        </a:cubicBezTo>
                      </a:path>
                    </a:pathLst>
                  </a:custGeom>
                  <a:noFill/>
                  <a:ln w="57240">
                    <a:solidFill>
                      <a:srgbClr val="33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9" name=""/>
              <p:cNvGrpSpPr/>
              <p:nvPr/>
            </p:nvGrpSpPr>
            <p:grpSpPr>
              <a:xfrm>
                <a:off x="6266160" y="3109320"/>
                <a:ext cx="272520" cy="455760"/>
                <a:chOff x="6266160" y="3109320"/>
                <a:chExt cx="272520" cy="45576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6266160" y="3109320"/>
                  <a:ext cx="269280" cy="266400"/>
                  <a:chOff x="6266160" y="3109320"/>
                  <a:chExt cx="269280" cy="2664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 flipH="1">
                    <a:off x="6266160" y="3109320"/>
                    <a:ext cx="26928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64" h="728">
                        <a:moveTo>
                          <a:pt x="0" y="200"/>
                        </a:moveTo>
                        <a:cubicBezTo>
                          <a:pt x="72" y="144"/>
                          <a:pt x="144" y="88"/>
                          <a:pt x="240" y="56"/>
                        </a:cubicBezTo>
                        <a:cubicBezTo>
                          <a:pt x="336" y="24"/>
                          <a:pt x="464" y="0"/>
                          <a:pt x="576" y="8"/>
                        </a:cubicBezTo>
                        <a:cubicBezTo>
                          <a:pt x="688" y="16"/>
                          <a:pt x="816" y="56"/>
                          <a:pt x="912" y="104"/>
                        </a:cubicBezTo>
                        <a:cubicBezTo>
                          <a:pt x="1008" y="152"/>
                          <a:pt x="1096" y="216"/>
                          <a:pt x="1152" y="296"/>
                        </a:cubicBezTo>
                        <a:cubicBezTo>
                          <a:pt x="1208" y="376"/>
                          <a:pt x="1232" y="512"/>
                          <a:pt x="1248" y="584"/>
                        </a:cubicBezTo>
                        <a:cubicBezTo>
                          <a:pt x="1264" y="656"/>
                          <a:pt x="1240" y="712"/>
                          <a:pt x="1248" y="728"/>
                        </a:cubicBezTo>
                      </a:path>
                    </a:pathLst>
                  </a:custGeom>
                  <a:noFill/>
                  <a:ln w="57240">
                    <a:solidFill>
                      <a:srgbClr val="33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 flipH="1" flipV="1">
                    <a:off x="6266160" y="3237480"/>
                    <a:ext cx="26928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64" h="728">
                        <a:moveTo>
                          <a:pt x="0" y="200"/>
                        </a:moveTo>
                        <a:cubicBezTo>
                          <a:pt x="72" y="144"/>
                          <a:pt x="144" y="88"/>
                          <a:pt x="240" y="56"/>
                        </a:cubicBezTo>
                        <a:cubicBezTo>
                          <a:pt x="336" y="24"/>
                          <a:pt x="464" y="0"/>
                          <a:pt x="576" y="8"/>
                        </a:cubicBezTo>
                        <a:cubicBezTo>
                          <a:pt x="688" y="16"/>
                          <a:pt x="816" y="56"/>
                          <a:pt x="912" y="104"/>
                        </a:cubicBezTo>
                        <a:cubicBezTo>
                          <a:pt x="1008" y="152"/>
                          <a:pt x="1096" y="216"/>
                          <a:pt x="1152" y="296"/>
                        </a:cubicBezTo>
                        <a:cubicBezTo>
                          <a:pt x="1208" y="376"/>
                          <a:pt x="1232" y="512"/>
                          <a:pt x="1248" y="584"/>
                        </a:cubicBezTo>
                        <a:cubicBezTo>
                          <a:pt x="1264" y="656"/>
                          <a:pt x="1240" y="712"/>
                          <a:pt x="1248" y="728"/>
                        </a:cubicBezTo>
                      </a:path>
                    </a:pathLst>
                  </a:custGeom>
                  <a:noFill/>
                  <a:ln w="57240">
                    <a:solidFill>
                      <a:srgbClr val="33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3" name=""/>
                <p:cNvGrpSpPr/>
                <p:nvPr/>
              </p:nvGrpSpPr>
              <p:grpSpPr>
                <a:xfrm>
                  <a:off x="6269400" y="3298680"/>
                  <a:ext cx="269280" cy="266400"/>
                  <a:chOff x="6269400" y="3298680"/>
                  <a:chExt cx="269280" cy="266400"/>
                </a:xfrm>
              </p:grpSpPr>
              <p:sp>
                <p:nvSpPr>
                  <p:cNvPr id="264" name=""/>
                  <p:cNvSpPr/>
                  <p:nvPr/>
                </p:nvSpPr>
                <p:spPr>
                  <a:xfrm flipH="1">
                    <a:off x="6269400" y="3298680"/>
                    <a:ext cx="26928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64" h="728">
                        <a:moveTo>
                          <a:pt x="0" y="200"/>
                        </a:moveTo>
                        <a:cubicBezTo>
                          <a:pt x="72" y="144"/>
                          <a:pt x="144" y="88"/>
                          <a:pt x="240" y="56"/>
                        </a:cubicBezTo>
                        <a:cubicBezTo>
                          <a:pt x="336" y="24"/>
                          <a:pt x="464" y="0"/>
                          <a:pt x="576" y="8"/>
                        </a:cubicBezTo>
                        <a:cubicBezTo>
                          <a:pt x="688" y="16"/>
                          <a:pt x="816" y="56"/>
                          <a:pt x="912" y="104"/>
                        </a:cubicBezTo>
                        <a:cubicBezTo>
                          <a:pt x="1008" y="152"/>
                          <a:pt x="1096" y="216"/>
                          <a:pt x="1152" y="296"/>
                        </a:cubicBezTo>
                        <a:cubicBezTo>
                          <a:pt x="1208" y="376"/>
                          <a:pt x="1232" y="512"/>
                          <a:pt x="1248" y="584"/>
                        </a:cubicBezTo>
                        <a:cubicBezTo>
                          <a:pt x="1264" y="656"/>
                          <a:pt x="1240" y="712"/>
                          <a:pt x="1248" y="728"/>
                        </a:cubicBezTo>
                      </a:path>
                    </a:pathLst>
                  </a:custGeom>
                  <a:noFill/>
                  <a:ln w="57240">
                    <a:solidFill>
                      <a:srgbClr val="33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 flipH="1" flipV="1">
                    <a:off x="6269400" y="3426840"/>
                    <a:ext cx="26928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64" h="728">
                        <a:moveTo>
                          <a:pt x="0" y="200"/>
                        </a:moveTo>
                        <a:cubicBezTo>
                          <a:pt x="72" y="144"/>
                          <a:pt x="144" y="88"/>
                          <a:pt x="240" y="56"/>
                        </a:cubicBezTo>
                        <a:cubicBezTo>
                          <a:pt x="336" y="24"/>
                          <a:pt x="464" y="0"/>
                          <a:pt x="576" y="8"/>
                        </a:cubicBezTo>
                        <a:cubicBezTo>
                          <a:pt x="688" y="16"/>
                          <a:pt x="816" y="56"/>
                          <a:pt x="912" y="104"/>
                        </a:cubicBezTo>
                        <a:cubicBezTo>
                          <a:pt x="1008" y="152"/>
                          <a:pt x="1096" y="216"/>
                          <a:pt x="1152" y="296"/>
                        </a:cubicBezTo>
                        <a:cubicBezTo>
                          <a:pt x="1208" y="376"/>
                          <a:pt x="1232" y="512"/>
                          <a:pt x="1248" y="584"/>
                        </a:cubicBezTo>
                        <a:cubicBezTo>
                          <a:pt x="1264" y="656"/>
                          <a:pt x="1240" y="712"/>
                          <a:pt x="1248" y="728"/>
                        </a:cubicBezTo>
                      </a:path>
                    </a:pathLst>
                  </a:custGeom>
                  <a:noFill/>
                  <a:ln w="57240">
                    <a:solidFill>
                      <a:srgbClr val="33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266" name=""/>
          <p:cNvSpPr/>
          <p:nvPr/>
        </p:nvSpPr>
        <p:spPr>
          <a:xfrm flipH="1">
            <a:off x="4869000" y="2781360"/>
            <a:ext cx="968400" cy="0"/>
          </a:xfrm>
          <a:prstGeom prst="line">
            <a:avLst/>
          </a:prstGeom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6557760" y="2781360"/>
            <a:ext cx="966600" cy="0"/>
          </a:xfrm>
          <a:prstGeom prst="line">
            <a:avLst/>
          </a:prstGeom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 flipV="1">
            <a:off x="3708000" y="3543480"/>
            <a:ext cx="2163960" cy="18720"/>
          </a:xfrm>
          <a:prstGeom prst="line">
            <a:avLst/>
          </a:prstGeom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6523200" y="3562200"/>
            <a:ext cx="1968480" cy="0"/>
          </a:xfrm>
          <a:prstGeom prst="line">
            <a:avLst/>
          </a:prstGeom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5573880" y="2254320"/>
          <a:ext cx="466560" cy="385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573880" y="2254320"/>
                    <a:ext cx="46656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2" name=""/>
          <p:cNvGrpSpPr/>
          <p:nvPr/>
        </p:nvGrpSpPr>
        <p:grpSpPr>
          <a:xfrm>
            <a:off x="4388040" y="2574000"/>
            <a:ext cx="450360" cy="324000"/>
            <a:chOff x="4388040" y="2574000"/>
            <a:chExt cx="450360" cy="324000"/>
          </a:xfrm>
        </p:grpSpPr>
        <p:sp>
          <p:nvSpPr>
            <p:cNvPr id="273" name=""/>
            <p:cNvSpPr/>
            <p:nvPr/>
          </p:nvSpPr>
          <p:spPr>
            <a:xfrm flipV="1">
              <a:off x="4388040" y="2574000"/>
              <a:ext cx="41040" cy="202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500720" y="2587680"/>
              <a:ext cx="83880" cy="285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4801320" y="2724480"/>
              <a:ext cx="37080" cy="17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4426560" y="2580120"/>
              <a:ext cx="64800" cy="302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 flipV="1">
              <a:off x="4575960" y="2588040"/>
              <a:ext cx="64800" cy="302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4641120" y="2585880"/>
              <a:ext cx="84240" cy="285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 flipV="1">
              <a:off x="4725360" y="2595600"/>
              <a:ext cx="65160" cy="302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7517160" y="2574000"/>
            <a:ext cx="451800" cy="324000"/>
            <a:chOff x="7517160" y="2574000"/>
            <a:chExt cx="451800" cy="324000"/>
          </a:xfrm>
        </p:grpSpPr>
        <p:sp>
          <p:nvSpPr>
            <p:cNvPr id="281" name=""/>
            <p:cNvSpPr/>
            <p:nvPr/>
          </p:nvSpPr>
          <p:spPr>
            <a:xfrm flipV="1">
              <a:off x="7517160" y="2574000"/>
              <a:ext cx="41400" cy="202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7630200" y="2587680"/>
              <a:ext cx="84240" cy="285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7931520" y="2724480"/>
              <a:ext cx="37440" cy="17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 flipV="1">
              <a:off x="7555320" y="2580120"/>
              <a:ext cx="65160" cy="302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 flipV="1">
              <a:off x="7705440" y="2588040"/>
              <a:ext cx="65160" cy="302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7770960" y="2585880"/>
              <a:ext cx="84600" cy="285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 flipV="1">
              <a:off x="7855200" y="2595600"/>
              <a:ext cx="65520" cy="302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" name=""/>
          <p:cNvSpPr/>
          <p:nvPr/>
        </p:nvSpPr>
        <p:spPr>
          <a:xfrm flipH="1" flipV="1">
            <a:off x="7911720" y="2761920"/>
            <a:ext cx="668520" cy="19080"/>
          </a:xfrm>
          <a:prstGeom prst="line">
            <a:avLst/>
          </a:prstGeom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 flipV="1">
            <a:off x="3691080" y="2761920"/>
            <a:ext cx="668160" cy="19080"/>
          </a:xfrm>
          <a:prstGeom prst="line">
            <a:avLst/>
          </a:prstGeom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6215040" y="2292480"/>
          <a:ext cx="487440" cy="385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215040" y="2292480"/>
                    <a:ext cx="48744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"/>
          <p:cNvSpPr/>
          <p:nvPr/>
        </p:nvSpPr>
        <p:spPr>
          <a:xfrm flipV="1">
            <a:off x="6091200" y="2259000"/>
            <a:ext cx="211320" cy="3808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4433760" y="2863800"/>
                <a:ext cx="32724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7559640" y="2806560"/>
                <a:ext cx="37152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95" name=""/>
          <p:cNvGrpSpPr/>
          <p:nvPr/>
        </p:nvGrpSpPr>
        <p:grpSpPr>
          <a:xfrm>
            <a:off x="2268360" y="3716280"/>
            <a:ext cx="4680000" cy="720720"/>
            <a:chOff x="2268360" y="3716280"/>
            <a:chExt cx="4680000" cy="720720"/>
          </a:xfrm>
        </p:grpSpPr>
        <p:sp>
          <p:nvSpPr>
            <p:cNvPr id="296" name=""/>
            <p:cNvSpPr/>
            <p:nvPr/>
          </p:nvSpPr>
          <p:spPr>
            <a:xfrm>
              <a:off x="5148360" y="3789360"/>
              <a:ext cx="1800000" cy="64764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2268360" y="4076640"/>
              <a:ext cx="2880000" cy="289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2411280" y="3716280"/>
              <a:ext cx="648000" cy="5047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9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9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9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9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28600" y="990720"/>
            <a:ext cx="671976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Potencia activa y reactiva monofásica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7859880" cy="59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43f7f"/>
                </a:solidFill>
                <a:latin typeface="Tahoma"/>
              </a:rPr>
              <a:t>La potencia instantánea consumida por una carga es: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</p:txBody>
      </p:sp>
      <p:graphicFrame>
        <p:nvGraphicFramePr>
          <p:cNvPr id="301" name="Rectangle 3"/>
          <p:cNvGraphicFramePr/>
          <p:nvPr/>
        </p:nvGraphicFramePr>
        <p:xfrm>
          <a:off x="806400" y="2565360"/>
          <a:ext cx="4956120" cy="42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6400" y="2565360"/>
                    <a:ext cx="495612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Rectangle 3"/>
          <p:cNvGraphicFramePr/>
          <p:nvPr/>
        </p:nvGraphicFramePr>
        <p:xfrm>
          <a:off x="1285920" y="2997360"/>
          <a:ext cx="3066840" cy="406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4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85920" y="2997360"/>
                    <a:ext cx="3066840" cy="40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1262160" y="3429000"/>
          <a:ext cx="7881840" cy="690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62160" y="3429000"/>
                    <a:ext cx="788184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Rectangle 8"/>
          <p:cNvSpPr/>
          <p:nvPr/>
        </p:nvSpPr>
        <p:spPr>
          <a:xfrm>
            <a:off x="468360" y="4272120"/>
            <a:ext cx="78595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43f7f"/>
                </a:solidFill>
                <a:latin typeface="Tahoma"/>
              </a:rPr>
              <a:t>Expandiendo el término oscila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547560" y="4923000"/>
          <a:ext cx="7480440" cy="406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7560" y="4923000"/>
                    <a:ext cx="7480440" cy="40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10" name="" descr="O Brother Where Art Thou Baptism Scene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012000" y="5300640"/>
            <a:ext cx="2879640" cy="1316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1" name=""/>
          <p:cNvGraphicFramePr/>
          <p:nvPr/>
        </p:nvGraphicFramePr>
        <p:xfrm>
          <a:off x="657360" y="5640480"/>
          <a:ext cx="3700440" cy="406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7360" y="5640480"/>
                    <a:ext cx="3700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"/>
          <p:cNvSpPr/>
          <p:nvPr/>
        </p:nvSpPr>
        <p:spPr>
          <a:xfrm flipH="1" flipV="1">
            <a:off x="4211640" y="6021360"/>
            <a:ext cx="1728720" cy="2160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691160" y="6093000"/>
            <a:ext cx="90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¡Bautizo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47280" y="6364440"/>
            <a:ext cx="144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Potencia Acti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797200" y="638172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Potencia Reacti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1260000" y="6093000"/>
            <a:ext cx="142920" cy="28872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276720" y="6093000"/>
            <a:ext cx="142920" cy="36036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332000" y="5589720"/>
            <a:ext cx="287280" cy="50328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139920" y="5589720"/>
            <a:ext cx="287640" cy="50328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6288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Potencia activa y reactiva monofásica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3809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Al integrar en un periodo la potencia instantánea: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El primer término nunca es cero, pero oscila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El segundo término es cero, por lo que no produce trabajo útil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Para probar lo anterior, analizaremos el sistema físico de la derecha. Calcularemos cuál es el trabajo que desarrolla en un ciclo cada componente de la potencia instantánea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23" name=""/>
          <p:cNvSpPr/>
          <p:nvPr/>
        </p:nvSpPr>
        <p:spPr>
          <a:xfrm rot="5400000">
            <a:off x="7617240" y="3607560"/>
            <a:ext cx="1152360" cy="360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6621120" y="3211560"/>
            <a:ext cx="158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6602040" y="4365720"/>
            <a:ext cx="158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6" name=""/>
          <p:cNvCxnSpPr/>
          <p:nvPr/>
        </p:nvCxnSpPr>
        <p:spPr>
          <a:xfrm rot="5400000">
            <a:off x="6037560" y="3785760"/>
            <a:ext cx="1152720" cy="2160"/>
          </a:xfrm>
          <a:prstGeom prst="curvedConnector5">
            <a:avLst>
              <a:gd name="adj1" fmla="val 0"/>
              <a:gd name="adj2" fmla="val 7900000"/>
              <a:gd name="adj3" fmla="val 0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327" name=""/>
          <p:cNvSpPr/>
          <p:nvPr/>
        </p:nvSpPr>
        <p:spPr>
          <a:xfrm>
            <a:off x="8205840" y="37940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6011640" y="37940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rot="5400000">
            <a:off x="8126640" y="3691440"/>
            <a:ext cx="588960" cy="289080"/>
          </a:xfrm>
          <a:custGeom>
            <a:avLst/>
            <a:gdLst/>
            <a:ahLst/>
            <a:rect l="l" t="t" r="r" b="b"/>
            <a:pathLst>
              <a:path w="371" h="182">
                <a:moveTo>
                  <a:pt x="23" y="46"/>
                </a:moveTo>
                <a:cubicBezTo>
                  <a:pt x="11" y="79"/>
                  <a:pt x="0" y="113"/>
                  <a:pt x="23" y="136"/>
                </a:cubicBezTo>
                <a:cubicBezTo>
                  <a:pt x="46" y="159"/>
                  <a:pt x="106" y="182"/>
                  <a:pt x="159" y="182"/>
                </a:cubicBezTo>
                <a:cubicBezTo>
                  <a:pt x="212" y="182"/>
                  <a:pt x="311" y="159"/>
                  <a:pt x="341" y="136"/>
                </a:cubicBezTo>
                <a:cubicBezTo>
                  <a:pt x="371" y="113"/>
                  <a:pt x="356" y="69"/>
                  <a:pt x="341" y="46"/>
                </a:cubicBezTo>
                <a:cubicBezTo>
                  <a:pt x="326" y="23"/>
                  <a:pt x="288" y="11"/>
                  <a:pt x="250" y="0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508600" y="3813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3333cc"/>
                </a:solidFill>
                <a:latin typeface="Tahoma"/>
                <a:ea typeface="Tahoma"/>
              </a:rPr>
              <a:t>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4780080" y="3160800"/>
            <a:ext cx="1311120" cy="100152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7113960" y="430992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3" name="Rectangle 3"/>
          <p:cNvGraphicFramePr/>
          <p:nvPr/>
        </p:nvGraphicFramePr>
        <p:xfrm>
          <a:off x="4643280" y="2492280"/>
          <a:ext cx="3457800" cy="379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4" name="Rectangle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3280" y="2492280"/>
                    <a:ext cx="34578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28600" y="990720"/>
            <a:ext cx="64310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Potencia activa y reactiva monofásica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65628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Concepto de potencia compleja: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</p:txBody>
      </p:sp>
      <p:graphicFrame>
        <p:nvGraphicFramePr>
          <p:cNvPr id="337" name="Rectangle 3"/>
          <p:cNvGraphicFramePr/>
          <p:nvPr/>
        </p:nvGraphicFramePr>
        <p:xfrm>
          <a:off x="755640" y="3716280"/>
          <a:ext cx="4732200" cy="3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3716280"/>
                    <a:ext cx="4732200" cy="3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9" name="Rectangle 3"/>
          <p:cNvGraphicFramePr/>
          <p:nvPr/>
        </p:nvGraphicFramePr>
        <p:xfrm>
          <a:off x="828720" y="2425680"/>
          <a:ext cx="4503600" cy="99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0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8720" y="2425680"/>
                    <a:ext cx="4503600" cy="9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1" name=""/>
          <p:cNvSpPr/>
          <p:nvPr/>
        </p:nvSpPr>
        <p:spPr>
          <a:xfrm>
            <a:off x="468360" y="4560840"/>
            <a:ext cx="74883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La forma de la expresión anterior se debe en parte al uso de valores efectivos en la definición de faso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6791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Potencia activa y reactiva trifásica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067520" cy="5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La potencia instantánea en un sistema trifásico es: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</p:txBody>
      </p:sp>
      <p:graphicFrame>
        <p:nvGraphicFramePr>
          <p:cNvPr id="344" name="Rectangle 3"/>
          <p:cNvGraphicFramePr/>
          <p:nvPr/>
        </p:nvGraphicFramePr>
        <p:xfrm>
          <a:off x="971640" y="2276640"/>
          <a:ext cx="4286160" cy="44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276640"/>
                    <a:ext cx="428616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"/>
          <p:cNvSpPr/>
          <p:nvPr/>
        </p:nvSpPr>
        <p:spPr>
          <a:xfrm>
            <a:off x="468360" y="2832120"/>
            <a:ext cx="6851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Si el sistema es equilibrad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7" name="Rectangle 3"/>
          <p:cNvGraphicFramePr/>
          <p:nvPr/>
        </p:nvGraphicFramePr>
        <p:xfrm>
          <a:off x="698400" y="3429000"/>
          <a:ext cx="7616880" cy="85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8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8400" y="3429000"/>
                    <a:ext cx="761688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9" name=""/>
          <p:cNvGraphicFramePr/>
          <p:nvPr/>
        </p:nvGraphicFramePr>
        <p:xfrm>
          <a:off x="698400" y="4365720"/>
          <a:ext cx="8410680" cy="933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98400" y="4365720"/>
                    <a:ext cx="841068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1" name=""/>
          <p:cNvGraphicFramePr/>
          <p:nvPr/>
        </p:nvGraphicFramePr>
        <p:xfrm>
          <a:off x="3067200" y="5791320"/>
          <a:ext cx="2293920" cy="446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67200" y="5791320"/>
                    <a:ext cx="2293920" cy="4460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528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Potencia activa y reactiva trifásica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80988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La potencia activa es constante y genera trabajo neto no nulo en un ciclo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A diferencia del caso monofásico, no tiene “componente reactiva”, pero existe componente reactiva en cada una de las fases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Por un asunto de uniformidad, se asume que existe una potencia reactiva trifásica y Q</a:t>
            </a:r>
            <a:r>
              <a:rPr b="1" lang="es-CL" sz="1800" spc="-1" strike="noStrike" baseline="-25000">
                <a:solidFill>
                  <a:srgbClr val="343f7f"/>
                </a:solidFill>
                <a:latin typeface="Tahoma"/>
              </a:rPr>
              <a:t>3f</a:t>
            </a: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=3Q</a:t>
            </a:r>
            <a:r>
              <a:rPr b="1" lang="es-CL" sz="1800" spc="-1" strike="noStrike" baseline="-25000">
                <a:solidFill>
                  <a:srgbClr val="343f7f"/>
                </a:solidFill>
                <a:latin typeface="Tahoma"/>
              </a:rPr>
              <a:t>1f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¿Qué potencia es esta si no “existe” la potencia reactiva trifásica?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5076720" y="4648320"/>
            <a:ext cx="2951280" cy="202068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4716360" y="946080"/>
            <a:ext cx="4075200" cy="372744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7636680" y="4121280"/>
            <a:ext cx="903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</a:rPr>
              <a:t>Fuente: </a:t>
            </a:r>
            <a:r>
              <a:rPr b="0" lang="es-CL" sz="1000" spc="-1" strike="noStrike" u="sng">
                <a:solidFill>
                  <a:srgbClr val="ccccff"/>
                </a:solidFill>
                <a:uFillTx/>
                <a:latin typeface="Tahoma"/>
                <a:hlinkClick r:id="rId3"/>
              </a:rPr>
              <a:t>AB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796000" y="4941720"/>
            <a:ext cx="2232000" cy="235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3419280" y="5084640"/>
            <a:ext cx="2376360" cy="505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Herramientas matemáticas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En general, en ingeniería podemos separar el estudio de los fenómenos en: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Régimen permanente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Transitorios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Un buen conocimiento del régimen permanente es necesario, ya que la mayor parte del tiempo los sistemas operan ahí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Herramientas de cálculo simples, que permitan aprovechar el hecho de que d/dt=0 o que se tienen “sistemas harmónicos”, son muy necesarias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El root mean square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764388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Para una función f(t) en el intervalo [to,to+T], se define el valor medio cuadrático (RMS) como: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</p:txBody>
      </p:sp>
      <p:graphicFrame>
        <p:nvGraphicFramePr>
          <p:cNvPr id="54" name="Rectangle 3"/>
          <p:cNvGraphicFramePr/>
          <p:nvPr/>
        </p:nvGraphicFramePr>
        <p:xfrm>
          <a:off x="2771640" y="2513160"/>
          <a:ext cx="2403720" cy="93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2513160"/>
                    <a:ext cx="2403720" cy="93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468360" y="3521160"/>
            <a:ext cx="79311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Para una función sinusoidal de amplitud A y período T=1/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Rectangle 3"/>
          <p:cNvGraphicFramePr/>
          <p:nvPr/>
        </p:nvGraphicFramePr>
        <p:xfrm>
          <a:off x="2489040" y="4025880"/>
          <a:ext cx="3184560" cy="1068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9040" y="4025880"/>
                    <a:ext cx="3184560" cy="10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6013440" y="4241880"/>
          <a:ext cx="452520" cy="712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13440" y="4241880"/>
                    <a:ext cx="452520" cy="7128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61" name=""/>
          <p:cNvGrpSpPr/>
          <p:nvPr/>
        </p:nvGrpSpPr>
        <p:grpSpPr>
          <a:xfrm>
            <a:off x="5199120" y="4818240"/>
            <a:ext cx="1533600" cy="679320"/>
            <a:chOff x="5199120" y="4818240"/>
            <a:chExt cx="1533600" cy="679320"/>
          </a:xfrm>
        </p:grpSpPr>
        <p:graphicFrame>
          <p:nvGraphicFramePr>
            <p:cNvPr id="62" name=""/>
            <p:cNvGraphicFramePr/>
            <p:nvPr/>
          </p:nvGraphicFramePr>
          <p:xfrm>
            <a:off x="5199120" y="5105520"/>
            <a:ext cx="1533600" cy="3920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199120" y="5105520"/>
                      <a:ext cx="1533600" cy="39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4" name=""/>
            <p:cNvSpPr/>
            <p:nvPr/>
          </p:nvSpPr>
          <p:spPr>
            <a:xfrm flipV="1">
              <a:off x="5775480" y="4818240"/>
              <a:ext cx="0" cy="2872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457200" y="5537160"/>
            <a:ext cx="79311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En electricidad, a la amplitud se le llama “valor efectivo”. Lueg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3708360" y="5986440"/>
          <a:ext cx="1162080" cy="755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08360" y="5986440"/>
                    <a:ext cx="1162080" cy="7556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9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El root mean square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4716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Si se calcula la energía disipada por la resistencia del circuito en un ciclo: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</p:txBody>
      </p:sp>
      <p:graphicFrame>
        <p:nvGraphicFramePr>
          <p:cNvPr id="70" name="Rectangle 3"/>
          <p:cNvGraphicFramePr/>
          <p:nvPr/>
        </p:nvGraphicFramePr>
        <p:xfrm>
          <a:off x="1258920" y="3500280"/>
          <a:ext cx="5308560" cy="70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3500280"/>
                    <a:ext cx="530856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Rectangle 3"/>
          <p:cNvGraphicFramePr/>
          <p:nvPr/>
        </p:nvGraphicFramePr>
        <p:xfrm>
          <a:off x="1238400" y="4581360"/>
          <a:ext cx="5271840" cy="86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38400" y="4581360"/>
                    <a:ext cx="5271840" cy="8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6640560" y="4670280"/>
          <a:ext cx="668160" cy="711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40560" y="4670280"/>
                    <a:ext cx="668160" cy="7113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457200" y="6005520"/>
            <a:ext cx="81471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El V</a:t>
            </a:r>
            <a:r>
              <a:rPr b="1" lang="es-CL" sz="1800" spc="-1" strike="noStrike" baseline="-25000">
                <a:solidFill>
                  <a:srgbClr val="343f7f"/>
                </a:solidFill>
                <a:latin typeface="Tahoma"/>
              </a:rPr>
              <a:t>RMS</a:t>
            </a: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 de la fuente alterna es el voltaje de una fuente continua que entrega la misma energía a la resistencia durante un cicl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703600" y="2451240"/>
            <a:ext cx="10080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711600" y="2306520"/>
            <a:ext cx="73080" cy="1447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84680" y="2306520"/>
            <a:ext cx="142920" cy="28728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927600" y="2306520"/>
            <a:ext cx="144360" cy="28728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071960" y="2306520"/>
            <a:ext cx="71280" cy="1447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143240" y="2451240"/>
            <a:ext cx="43344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6680" y="2451240"/>
            <a:ext cx="0" cy="7920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2703240" y="3243240"/>
            <a:ext cx="187308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560680" y="2727360"/>
            <a:ext cx="216000" cy="237960"/>
          </a:xfrm>
          <a:custGeom>
            <a:avLst/>
            <a:gdLst/>
            <a:ahLst/>
            <a:rect l="l" t="t" r="r" b="b"/>
            <a:pathLst>
              <a:path w="136" h="150">
                <a:moveTo>
                  <a:pt x="0" y="98"/>
                </a:moveTo>
                <a:cubicBezTo>
                  <a:pt x="15" y="49"/>
                  <a:pt x="30" y="0"/>
                  <a:pt x="45" y="7"/>
                </a:cubicBezTo>
                <a:cubicBezTo>
                  <a:pt x="60" y="14"/>
                  <a:pt x="75" y="136"/>
                  <a:pt x="90" y="143"/>
                </a:cubicBezTo>
                <a:cubicBezTo>
                  <a:pt x="105" y="150"/>
                  <a:pt x="120" y="101"/>
                  <a:pt x="136" y="52"/>
                </a:cubicBezTo>
              </a:path>
            </a:pathLst>
          </a:custGeom>
          <a:noFill/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428920" y="2603520"/>
            <a:ext cx="503280" cy="504720"/>
          </a:xfrm>
          <a:prstGeom prst="ellipse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2703600" y="3098520"/>
            <a:ext cx="0" cy="1443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703600" y="2451240"/>
            <a:ext cx="0" cy="1425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547640" y="2708280"/>
          <a:ext cx="871560" cy="306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47640" y="2708280"/>
                    <a:ext cx="871560" cy="3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1" name=""/>
          <p:cNvGrpSpPr/>
          <p:nvPr/>
        </p:nvGrpSpPr>
        <p:grpSpPr>
          <a:xfrm>
            <a:off x="6084720" y="5157360"/>
            <a:ext cx="860760" cy="735480"/>
            <a:chOff x="6084720" y="5157360"/>
            <a:chExt cx="860760" cy="735480"/>
          </a:xfrm>
        </p:grpSpPr>
        <p:graphicFrame>
          <p:nvGraphicFramePr>
            <p:cNvPr id="92" name=""/>
            <p:cNvGraphicFramePr/>
            <p:nvPr/>
          </p:nvGraphicFramePr>
          <p:xfrm>
            <a:off x="6084720" y="5500800"/>
            <a:ext cx="860760" cy="3920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93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084720" y="5500800"/>
                      <a:ext cx="860760" cy="39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4" name=""/>
            <p:cNvSpPr/>
            <p:nvPr/>
          </p:nvSpPr>
          <p:spPr>
            <a:xfrm flipV="1">
              <a:off x="6443640" y="5157360"/>
              <a:ext cx="0" cy="358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Transformada fasorial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69944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Motivación: calcular la tensión del condensador: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</p:txBody>
      </p:sp>
      <p:graphicFrame>
        <p:nvGraphicFramePr>
          <p:cNvPr id="97" name="Rectangle 3"/>
          <p:cNvGraphicFramePr/>
          <p:nvPr/>
        </p:nvGraphicFramePr>
        <p:xfrm>
          <a:off x="2916360" y="3351240"/>
          <a:ext cx="3984480" cy="61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3351240"/>
                    <a:ext cx="3984480" cy="61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324000" y="823428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Motivación: calcular la tensión del condensad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908000" y="2133360"/>
            <a:ext cx="3168720" cy="936720"/>
            <a:chOff x="1908000" y="2133360"/>
            <a:chExt cx="3168720" cy="936720"/>
          </a:xfrm>
        </p:grpSpPr>
        <p:sp>
          <p:nvSpPr>
            <p:cNvPr id="101" name=""/>
            <p:cNvSpPr/>
            <p:nvPr/>
          </p:nvSpPr>
          <p:spPr>
            <a:xfrm>
              <a:off x="3063960" y="2278080"/>
              <a:ext cx="10080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4071960" y="2133360"/>
              <a:ext cx="73080" cy="1443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145040" y="2133720"/>
              <a:ext cx="142920" cy="2869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4287960" y="2133360"/>
              <a:ext cx="144360" cy="2869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432320" y="2133720"/>
              <a:ext cx="71280" cy="1443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03600" y="2278080"/>
              <a:ext cx="4334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4932000" y="2278080"/>
              <a:ext cx="4680" cy="3297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3063600" y="3070080"/>
              <a:ext cx="187308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921040" y="2554200"/>
              <a:ext cx="216000" cy="237600"/>
            </a:xfrm>
            <a:custGeom>
              <a:avLst/>
              <a:gdLst/>
              <a:ahLst/>
              <a:rect l="l" t="t" r="r" b="b"/>
              <a:pathLst>
                <a:path w="136" h="150">
                  <a:moveTo>
                    <a:pt x="0" y="98"/>
                  </a:moveTo>
                  <a:cubicBezTo>
                    <a:pt x="15" y="49"/>
                    <a:pt x="30" y="0"/>
                    <a:pt x="45" y="7"/>
                  </a:cubicBezTo>
                  <a:cubicBezTo>
                    <a:pt x="60" y="14"/>
                    <a:pt x="75" y="136"/>
                    <a:pt x="90" y="143"/>
                  </a:cubicBezTo>
                  <a:cubicBezTo>
                    <a:pt x="105" y="150"/>
                    <a:pt x="120" y="101"/>
                    <a:pt x="136" y="52"/>
                  </a:cubicBezTo>
                </a:path>
              </a:pathLst>
            </a:custGeom>
            <a:noFill/>
            <a:ln w="28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789280" y="2430360"/>
              <a:ext cx="503280" cy="504360"/>
            </a:xfrm>
            <a:prstGeom prst="ellipse">
              <a:avLst/>
            </a:prstGeom>
            <a:noFill/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3063960" y="2925720"/>
              <a:ext cx="0" cy="1440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063960" y="2278080"/>
              <a:ext cx="0" cy="142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3" name=""/>
            <p:cNvGraphicFramePr/>
            <p:nvPr/>
          </p:nvGraphicFramePr>
          <p:xfrm>
            <a:off x="1908000" y="2535120"/>
            <a:ext cx="871560" cy="306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08000" y="2535120"/>
                      <a:ext cx="871560" cy="30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5" name=""/>
            <p:cNvSpPr/>
            <p:nvPr/>
          </p:nvSpPr>
          <p:spPr>
            <a:xfrm>
              <a:off x="4788000" y="2628720"/>
              <a:ext cx="2887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788000" y="2763720"/>
              <a:ext cx="288720" cy="72720"/>
            </a:xfrm>
            <a:custGeom>
              <a:avLst/>
              <a:gdLst/>
              <a:ahLst/>
              <a:rect l="l" t="t" r="r" b="b"/>
              <a:pathLst>
                <a:path w="182" h="46">
                  <a:moveTo>
                    <a:pt x="0" y="46"/>
                  </a:moveTo>
                  <a:cubicBezTo>
                    <a:pt x="30" y="23"/>
                    <a:pt x="61" y="0"/>
                    <a:pt x="91" y="0"/>
                  </a:cubicBezTo>
                  <a:cubicBezTo>
                    <a:pt x="121" y="0"/>
                    <a:pt x="151" y="23"/>
                    <a:pt x="182" y="46"/>
                  </a:cubicBezTo>
                </a:path>
              </a:pathLst>
            </a:custGeom>
            <a:noFill/>
            <a:ln w="28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4932360" y="2776320"/>
              <a:ext cx="0" cy="288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18" name=""/>
          <p:cNvGraphicFramePr/>
          <p:nvPr/>
        </p:nvGraphicFramePr>
        <p:xfrm>
          <a:off x="1403280" y="5300640"/>
          <a:ext cx="6201000" cy="955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300640"/>
                    <a:ext cx="6201000" cy="9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1947960" y="4272120"/>
          <a:ext cx="5653080" cy="772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47960" y="4272120"/>
                    <a:ext cx="5653080" cy="77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2" name=""/>
          <p:cNvGrpSpPr/>
          <p:nvPr/>
        </p:nvGrpSpPr>
        <p:grpSpPr>
          <a:xfrm>
            <a:off x="250920" y="3689280"/>
            <a:ext cx="3168720" cy="731520"/>
            <a:chOff x="250920" y="3689280"/>
            <a:chExt cx="3168720" cy="731520"/>
          </a:xfrm>
        </p:grpSpPr>
        <p:graphicFrame>
          <p:nvGraphicFramePr>
            <p:cNvPr id="123" name="Rectangle 3"/>
            <p:cNvGraphicFramePr/>
            <p:nvPr/>
          </p:nvGraphicFramePr>
          <p:xfrm>
            <a:off x="250920" y="3689280"/>
            <a:ext cx="2222280" cy="4683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24" name="Rectangle 3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50920" y="3689280"/>
                      <a:ext cx="2222280" cy="46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 flipV="1">
              <a:off x="2556000" y="3728520"/>
              <a:ext cx="360360" cy="1731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484360" y="3989880"/>
              <a:ext cx="935280" cy="430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Transformada fasorial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3284280"/>
            <a:ext cx="807552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43f7f"/>
                </a:solidFill>
                <a:latin typeface="Tahoma"/>
              </a:rPr>
              <a:t>En sistemas de potencia, interesa mucho saber el comportamiento en régimen permanente sinusoidal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43f7f"/>
                </a:solidFill>
                <a:latin typeface="Tahoma"/>
              </a:rPr>
              <a:t>En el caso del condensador, si t es “grande”, el término en </a:t>
            </a:r>
            <a:r>
              <a:rPr b="0" lang="es-CL" sz="1800" spc="-1" strike="noStrike">
                <a:solidFill>
                  <a:srgbClr val="006600"/>
                </a:solidFill>
                <a:latin typeface="Tahoma"/>
              </a:rPr>
              <a:t>verde</a:t>
            </a:r>
            <a:r>
              <a:rPr b="0" lang="es-CL" sz="1800" spc="-1" strike="noStrike">
                <a:solidFill>
                  <a:srgbClr val="343f7f"/>
                </a:solidFill>
                <a:latin typeface="Tahoma"/>
              </a:rPr>
              <a:t> (respuesta a entrada cero) desaparece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43f7f"/>
                </a:solidFill>
                <a:latin typeface="Tahoma"/>
              </a:rPr>
              <a:t>El término en </a:t>
            </a:r>
            <a:r>
              <a:rPr b="0" lang="es-CL" sz="1800" spc="-1" strike="noStrike">
                <a:solidFill>
                  <a:srgbClr val="ff0000"/>
                </a:solidFill>
                <a:latin typeface="Tahoma"/>
              </a:rPr>
              <a:t>rojo</a:t>
            </a:r>
            <a:r>
              <a:rPr b="0" lang="es-CL" sz="1800" spc="-1" strike="noStrike">
                <a:solidFill>
                  <a:srgbClr val="343f7f"/>
                </a:solidFill>
                <a:latin typeface="Tahoma"/>
              </a:rPr>
              <a:t>, en el dominio del tiempo, tiene una componente transiente y otra harmónica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43f7f"/>
                </a:solidFill>
                <a:latin typeface="Tahoma"/>
              </a:rPr>
              <a:t>Por lo tanto, sería conveniente contar con una herramienta que permita calcular la respuesta de régimen permanente, despreciando los términos transitorios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</p:txBody>
      </p:sp>
      <p:graphicFrame>
        <p:nvGraphicFramePr>
          <p:cNvPr id="129" name="Rectangle 3"/>
          <p:cNvGraphicFramePr/>
          <p:nvPr/>
        </p:nvGraphicFramePr>
        <p:xfrm>
          <a:off x="900000" y="2060640"/>
          <a:ext cx="6880320" cy="106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060640"/>
                    <a:ext cx="688032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Transformada fasorial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graphicFrame>
        <p:nvGraphicFramePr>
          <p:cNvPr id="132" name="Rectangle 3"/>
          <p:cNvGraphicFramePr/>
          <p:nvPr/>
        </p:nvGraphicFramePr>
        <p:xfrm>
          <a:off x="1868400" y="3406680"/>
          <a:ext cx="4264200" cy="3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406680"/>
                    <a:ext cx="4264200" cy="3812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34" name="Rectangle 3"/>
          <p:cNvGraphicFramePr/>
          <p:nvPr/>
        </p:nvGraphicFramePr>
        <p:xfrm>
          <a:off x="1631880" y="1974960"/>
          <a:ext cx="4834080" cy="1014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31880" y="1974960"/>
                    <a:ext cx="483408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328680" y="4389480"/>
            <a:ext cx="77724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En una ecuación diferencial, si la función “forzante” es de frecuencia angular </a:t>
            </a:r>
            <a:r>
              <a:rPr b="1" lang="el-GR" sz="1600" spc="-1" strike="noStrike">
                <a:solidFill>
                  <a:srgbClr val="343f7f"/>
                </a:solidFill>
                <a:latin typeface=""/>
              </a:rPr>
              <a:t>ω</a:t>
            </a: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, las soluciones de estado estable tambié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La transformada fasorial de una función (o fasor) es única para todo t. También se puede ver que es line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El factor e</a:t>
            </a:r>
            <a:r>
              <a:rPr b="1" lang="es-CL" sz="1600" spc="-1" strike="noStrike" baseline="30000">
                <a:solidFill>
                  <a:srgbClr val="343f7f"/>
                </a:solidFill>
                <a:latin typeface="Tahoma"/>
              </a:rPr>
              <a:t>j</a:t>
            </a:r>
            <a:r>
              <a:rPr b="1" lang="el-GR" sz="1600" spc="-1" strike="noStrike" baseline="30000">
                <a:solidFill>
                  <a:srgbClr val="343f7f"/>
                </a:solidFill>
                <a:latin typeface="Times New Roman"/>
                <a:ea typeface="Times New Roman"/>
              </a:rPr>
              <a:t>ω</a:t>
            </a:r>
            <a:r>
              <a:rPr b="1" lang="es-CL" sz="1600" spc="-1" strike="noStrike" baseline="30000">
                <a:solidFill>
                  <a:srgbClr val="343f7f"/>
                </a:solidFill>
                <a:latin typeface="Times New Roman"/>
                <a:ea typeface="Times New Roman"/>
              </a:rPr>
              <a:t>t</a:t>
            </a: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 está siempre presente, razón por la cual suele omitirse. Lo mismo ocurre con el factor raíz de d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Rectangle 3"/>
          <p:cNvGraphicFramePr/>
          <p:nvPr/>
        </p:nvGraphicFramePr>
        <p:xfrm>
          <a:off x="1619280" y="1557360"/>
          <a:ext cx="2173320" cy="406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8" name="Rectangle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19280" y="1557360"/>
                    <a:ext cx="217332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Transformada fasorial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00244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43f7f"/>
                </a:solidFill>
                <a:latin typeface="Tahoma"/>
              </a:rPr>
              <a:t>Transformada de la derivada: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</p:txBody>
      </p:sp>
      <p:graphicFrame>
        <p:nvGraphicFramePr>
          <p:cNvPr id="141" name="Rectangle 3"/>
          <p:cNvGraphicFramePr/>
          <p:nvPr/>
        </p:nvGraphicFramePr>
        <p:xfrm>
          <a:off x="1908000" y="2205000"/>
          <a:ext cx="5240520" cy="69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2205000"/>
                    <a:ext cx="524052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Rectangle 3"/>
          <p:cNvGraphicFramePr/>
          <p:nvPr/>
        </p:nvGraphicFramePr>
        <p:xfrm>
          <a:off x="2719440" y="5734080"/>
          <a:ext cx="30304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19440" y="5734080"/>
                    <a:ext cx="30304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Rectangle 3"/>
          <p:cNvGraphicFramePr/>
          <p:nvPr/>
        </p:nvGraphicFramePr>
        <p:xfrm>
          <a:off x="4579920" y="2978280"/>
          <a:ext cx="3351240" cy="547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6" name="Rectangle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9920" y="2978280"/>
                    <a:ext cx="335124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458640" y="4221000"/>
            <a:ext cx="77724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43f7f"/>
                </a:solidFill>
                <a:latin typeface="Tahoma"/>
              </a:rPr>
              <a:t>La derivada “giró” al fasor en 90° y lo multiplicó por </a:t>
            </a:r>
            <a:r>
              <a:rPr b="0" lang="el-GR" sz="2000" spc="-1" strike="noStrike">
                <a:solidFill>
                  <a:srgbClr val="343f7f"/>
                </a:solidFill>
                <a:latin typeface=""/>
              </a:rPr>
              <a:t>ω</a:t>
            </a:r>
            <a:r>
              <a:rPr b="0" lang="es-CL" sz="2000" spc="-1" strike="noStrike">
                <a:solidFill>
                  <a:srgbClr val="343f7f"/>
                </a:solidFill>
                <a:latin typeface="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43f7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43f7f"/>
                </a:solidFill>
                <a:latin typeface=""/>
              </a:rPr>
              <a:t>En términos prácticos, el operador derivada se reemplaza por el operador j</a:t>
            </a:r>
            <a:r>
              <a:rPr b="0" lang="el-GR" sz="2000" spc="-1" strike="noStrike">
                <a:solidFill>
                  <a:srgbClr val="343f7f"/>
                </a:solidFill>
                <a:latin typeface=""/>
              </a:rPr>
              <a:t>ω</a:t>
            </a:r>
            <a:r>
              <a:rPr b="0" lang="es-CL" sz="2000" spc="-1" strike="noStrike">
                <a:solidFill>
                  <a:srgbClr val="343f7f"/>
                </a:solidFill>
                <a:latin typeface="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43f7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43f7f"/>
                </a:solidFill>
                <a:latin typeface=""/>
              </a:rPr>
              <a:t>Se propone demostrar 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Rectangle 3"/>
          <p:cNvGraphicFramePr/>
          <p:nvPr/>
        </p:nvGraphicFramePr>
        <p:xfrm>
          <a:off x="4618080" y="3738600"/>
          <a:ext cx="2050920" cy="406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9" name="Rectangle 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18080" y="3738600"/>
                    <a:ext cx="2050920" cy="4064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50" name=""/>
          <p:cNvGrpSpPr/>
          <p:nvPr/>
        </p:nvGrpSpPr>
        <p:grpSpPr>
          <a:xfrm>
            <a:off x="1547640" y="2852280"/>
            <a:ext cx="3095640" cy="1057680"/>
            <a:chOff x="1547640" y="2852280"/>
            <a:chExt cx="3095640" cy="1057680"/>
          </a:xfrm>
        </p:grpSpPr>
        <p:graphicFrame>
          <p:nvGraphicFramePr>
            <p:cNvPr id="151" name="Rectangle 3"/>
            <p:cNvGraphicFramePr/>
            <p:nvPr/>
          </p:nvGraphicFramePr>
          <p:xfrm>
            <a:off x="1547640" y="3500280"/>
            <a:ext cx="1957680" cy="4096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52" name="Rectangle 3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547640" y="3500280"/>
                      <a:ext cx="1957680" cy="40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3" name=""/>
            <p:cNvSpPr/>
            <p:nvPr/>
          </p:nvSpPr>
          <p:spPr>
            <a:xfrm flipV="1">
              <a:off x="3492360" y="3357720"/>
              <a:ext cx="1008360" cy="2872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3419640" y="2852280"/>
              <a:ext cx="1223640" cy="792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9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9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Transformada fasorial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354800" cy="5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Volviendo a nuestro ejemplo: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</p:txBody>
      </p:sp>
      <p:graphicFrame>
        <p:nvGraphicFramePr>
          <p:cNvPr id="157" name="Rectangle 3"/>
          <p:cNvGraphicFramePr/>
          <p:nvPr/>
        </p:nvGraphicFramePr>
        <p:xfrm>
          <a:off x="1882800" y="2360520"/>
          <a:ext cx="3981600" cy="6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82800" y="2360520"/>
                    <a:ext cx="398160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Rectangle 3"/>
          <p:cNvGraphicFramePr/>
          <p:nvPr/>
        </p:nvGraphicFramePr>
        <p:xfrm>
          <a:off x="3071880" y="3224160"/>
          <a:ext cx="3452760" cy="35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71880" y="3224160"/>
                    <a:ext cx="345276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2463840" y="3809880"/>
          <a:ext cx="2354400" cy="406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63840" y="3809880"/>
                    <a:ext cx="235440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1995480" y="5300640"/>
          <a:ext cx="4835520" cy="812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95480" y="5300640"/>
                    <a:ext cx="4835520" cy="812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2502000" y="4264200"/>
          <a:ext cx="3473280" cy="812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02000" y="4264200"/>
                    <a:ext cx="3473280" cy="81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9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9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9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9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9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0T21:10:30Z</dcterms:created>
  <dc:creator>cl132563349</dc:creator>
  <dc:description/>
  <dc:language>en-US</dc:language>
  <cp:lastModifiedBy>cl143600734</cp:lastModifiedBy>
  <dcterms:modified xsi:type="dcterms:W3CDTF">2011-10-16T19:12:05Z</dcterms:modified>
  <cp:revision>50</cp:revision>
  <dc:subject/>
  <dc:title>Diapositiva 1</dc:title>
</cp:coreProperties>
</file>