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9.wmf" ContentType="image/x-wmf"/>
  <Override PartName="/ppt/media/image3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45.wmf" ContentType="image/x-wmf"/>
  <Override PartName="/ppt/media/image2.png" ContentType="image/png"/>
  <Override PartName="/ppt/media/image51.wmf" ContentType="image/x-wmf"/>
  <Override PartName="/ppt/media/image12.wmf" ContentType="image/x-wmf"/>
  <Override PartName="/ppt/media/image49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50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3DC5-3DD8-4659-966C-37AA04AB1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9415-213B-4870-B1AD-64332DB6C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F1E5-F235-4459-B903-9301858A2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6DAC-F30A-4E4B-890D-E585C5880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0E83-B472-4325-A680-104A3FF728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041E-59FF-42BA-AF05-5D1D07EB8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9886-2D22-4E33-AE88-E70BE5FBC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CA92-442C-41A9-9DF6-CB8CD3960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6B8C-CBB4-409E-B826-6706A7D7A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6EB1-B558-4D44-A45E-6FB104527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76ED-DA95-4B4F-B0EF-13828F5C5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139E-FD48-4476-A2CD-99BCDBAD9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2D05-6816-4E53-A40C-E2A59F250D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64360" y="189000"/>
            <a:ext cx="129528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hyperlink" Target="http://www.readthespirit.com/.a/6a00e54ef51d7688340120a65aa8d6970b-pi" TargetMode="External"/><Relationship Id="rId10" Type="http://schemas.openxmlformats.org/officeDocument/2006/relationships/image" Target="../media/image48.jpe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9.wmf"/><Relationship Id="rId1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hyperlink" Target="http://www05.abb.com/global/scot/scot245.nsf/veritydisplay/0cb847bb3d05efacc12570a80022fdd5/$File/SIKAP%20Ed1%20en.pd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12-10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sta materia se estudió en los cursos anteriore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n embargo, el trabajo en este curso se hace con esta metodología, razón por la cual se analizará al menos el uso de “base trifásica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Motivación: Analizar el circuito de la figur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308640" y="19270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277956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61240" y="27874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2860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183360" y="264276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81800" y="26431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1957320"/>
            <a:ext cx="144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9824600">
            <a:off x="8459280" y="2742840"/>
            <a:ext cx="144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86600">
            <a:off x="8002440" y="2743200"/>
            <a:ext cx="144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15280" y="2244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8166240" y="2546280"/>
            <a:ext cx="1425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15280" y="25336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15280" y="17413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15280" y="174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15280" y="1741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5640" y="32529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04360" y="3036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62680" y="31096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8840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114960" y="342252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114960" y="31291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91280" y="15969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95040" y="1255680"/>
            <a:ext cx="27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0160" y="1957320"/>
            <a:ext cx="357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227640" y="1812960"/>
            <a:ext cx="0" cy="792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57760" y="1943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18360" y="4551480"/>
            <a:ext cx="360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485040" y="4910040"/>
            <a:ext cx="144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53360" y="4581360"/>
            <a:ext cx="144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25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24640" y="4365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2464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25000" y="4365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01000" y="422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04400" y="3879720"/>
            <a:ext cx="278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79880" y="4581360"/>
            <a:ext cx="357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Tahoma"/>
              </a:rPr>
              <a:t>f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237360" y="4436640"/>
            <a:ext cx="0" cy="792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67120" y="456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85040" y="5183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235560" y="5445000"/>
          <a:ext cx="25783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5560" y="5445000"/>
                    <a:ext cx="25783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0" name=""/>
          <p:cNvGrpSpPr/>
          <p:nvPr/>
        </p:nvGrpSpPr>
        <p:grpSpPr>
          <a:xfrm>
            <a:off x="700200" y="4773600"/>
            <a:ext cx="4808520" cy="2111400"/>
            <a:chOff x="700200" y="4773600"/>
            <a:chExt cx="4808520" cy="2111400"/>
          </a:xfrm>
        </p:grpSpPr>
        <p:graphicFrame>
          <p:nvGraphicFramePr>
            <p:cNvPr id="211" name="Rectangle 3"/>
            <p:cNvGraphicFramePr/>
            <p:nvPr/>
          </p:nvGraphicFramePr>
          <p:xfrm>
            <a:off x="700200" y="5343480"/>
            <a:ext cx="1279440" cy="89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Rectangle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0200" y="5343480"/>
                      <a:ext cx="1279440" cy="89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Rectangle 3"/>
            <p:cNvGraphicFramePr/>
            <p:nvPr/>
          </p:nvGraphicFramePr>
          <p:xfrm>
            <a:off x="2441520" y="4773600"/>
            <a:ext cx="3067200" cy="2111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4" name="Rectangle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41520" y="4773600"/>
                      <a:ext cx="3067200" cy="21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" name=""/>
            <p:cNvSpPr/>
            <p:nvPr/>
          </p:nvSpPr>
          <p:spPr>
            <a:xfrm>
              <a:off x="1979640" y="5013360"/>
              <a:ext cx="216000" cy="165564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Definiendo dos cantidades bases, se tienen las restante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n el curso, V y S serán las bases principale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cálculo en p.u. se utiliza porque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vita complicaciones con las unidades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ermite la rápida detección de errores (ej.: en los SEP’s, las tensiones son valores cercanos a uno)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trabajo en sistemas con diferentes niveles de tensión se simplifica … no es necesario incorporar “transformadores ideales” a la representac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ara que el método “funcione”, la base trifásica de potencia debe ser común para todo el sistem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álculo en p.u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205000"/>
          <a:ext cx="172548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05000"/>
                    <a:ext cx="1725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3141720"/>
          <a:ext cx="300672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41720"/>
                    <a:ext cx="3006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364000" y="3860640"/>
          <a:ext cx="16257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3860640"/>
                    <a:ext cx="16257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50920" y="4038480"/>
          <a:ext cx="3432240" cy="97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038480"/>
                    <a:ext cx="343224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79280" y="5157720"/>
          <a:ext cx="3411720" cy="138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80" y="5157720"/>
                    <a:ext cx="341172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3995640" y="5734080"/>
          <a:ext cx="4935600" cy="771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5734080"/>
                    <a:ext cx="49356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3924360" y="5013360"/>
            <a:ext cx="5075280" cy="1584360"/>
            <a:chOff x="3924360" y="5013360"/>
            <a:chExt cx="5075280" cy="1584360"/>
          </a:xfrm>
        </p:grpSpPr>
        <p:sp>
          <p:nvSpPr>
            <p:cNvPr id="232" name=""/>
            <p:cNvSpPr/>
            <p:nvPr/>
          </p:nvSpPr>
          <p:spPr>
            <a:xfrm>
              <a:off x="7740720" y="5661000"/>
              <a:ext cx="1258920" cy="936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24360" y="5013360"/>
              <a:ext cx="5040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0000"/>
                  </a:solidFill>
                  <a:latin typeface="Tahoma"/>
                </a:rPr>
                <a:t>Si se eligen los voltajes bases de ambos sectores iguales a la relación de vueltas, ¡todo se simplifica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372000" y="5589360"/>
              <a:ext cx="158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857920" y="2727360"/>
            <a:ext cx="680760" cy="837720"/>
            <a:chOff x="5857920" y="2727360"/>
            <a:chExt cx="680760" cy="837720"/>
          </a:xfrm>
        </p:grpSpPr>
        <p:grpSp>
          <p:nvGrpSpPr>
            <p:cNvPr id="236" name=""/>
            <p:cNvGrpSpPr/>
            <p:nvPr/>
          </p:nvGrpSpPr>
          <p:grpSpPr>
            <a:xfrm>
              <a:off x="5857920" y="2727360"/>
              <a:ext cx="279000" cy="837720"/>
              <a:chOff x="5857920" y="2727360"/>
              <a:chExt cx="279000" cy="837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5864400" y="2727360"/>
                <a:ext cx="272520" cy="455760"/>
                <a:chOff x="5864400" y="2727360"/>
                <a:chExt cx="272520" cy="45576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5867640" y="2727360"/>
                  <a:ext cx="269280" cy="266400"/>
                  <a:chOff x="5867640" y="2727360"/>
                  <a:chExt cx="269280" cy="26640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5867640" y="272736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V="1">
                    <a:off x="5867640" y="28555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5864400" y="2916720"/>
                  <a:ext cx="269280" cy="266400"/>
                  <a:chOff x="5864400" y="2916720"/>
                  <a:chExt cx="269280" cy="2664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5864400" y="29167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V="1">
                    <a:off x="5864400" y="30448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5857920" y="3109320"/>
                <a:ext cx="272520" cy="455760"/>
                <a:chOff x="5857920" y="3109320"/>
                <a:chExt cx="272520" cy="45576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5861160" y="3109320"/>
                  <a:ext cx="269280" cy="266400"/>
                  <a:chOff x="5861160" y="3109320"/>
                  <a:chExt cx="269280" cy="2664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5861160" y="31093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5861160" y="32374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5857920" y="3298680"/>
                  <a:ext cx="269280" cy="266400"/>
                  <a:chOff x="5857920" y="3298680"/>
                  <a:chExt cx="269280" cy="26640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5857920" y="32986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5857920" y="342684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1" name=""/>
            <p:cNvGrpSpPr/>
            <p:nvPr/>
          </p:nvGrpSpPr>
          <p:grpSpPr>
            <a:xfrm>
              <a:off x="6259680" y="2727360"/>
              <a:ext cx="279000" cy="837720"/>
              <a:chOff x="6259680" y="2727360"/>
              <a:chExt cx="279000" cy="83772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259680" y="2727360"/>
                <a:ext cx="272520" cy="455760"/>
                <a:chOff x="6259680" y="2727360"/>
                <a:chExt cx="272520" cy="45576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6259680" y="2727360"/>
                  <a:ext cx="269280" cy="266400"/>
                  <a:chOff x="6259680" y="2727360"/>
                  <a:chExt cx="269280" cy="2664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>
                    <a:off x="6259680" y="272736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flipV="1">
                    <a:off x="6259680" y="28555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262920" y="2916720"/>
                  <a:ext cx="269280" cy="266400"/>
                  <a:chOff x="6262920" y="2916720"/>
                  <a:chExt cx="269280" cy="26640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>
                    <a:off x="6262920" y="29167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flipV="1">
                    <a:off x="6262920" y="30448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6266160" y="3109320"/>
                <a:ext cx="272520" cy="455760"/>
                <a:chOff x="6266160" y="3109320"/>
                <a:chExt cx="272520" cy="45576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6266160" y="3109320"/>
                  <a:ext cx="269280" cy="266400"/>
                  <a:chOff x="6266160" y="3109320"/>
                  <a:chExt cx="269280" cy="2664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flipH="1">
                    <a:off x="6266160" y="310932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 flipV="1">
                    <a:off x="6266160" y="32374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269400" y="3298680"/>
                  <a:ext cx="269280" cy="266400"/>
                  <a:chOff x="6269400" y="3298680"/>
                  <a:chExt cx="269280" cy="2664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flipH="1">
                    <a:off x="6269400" y="329868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flipV="1">
                    <a:off x="6269400" y="3426840"/>
                    <a:ext cx="26928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4" h="728">
                        <a:moveTo>
                          <a:pt x="0" y="200"/>
                        </a:moveTo>
                        <a:cubicBezTo>
                          <a:pt x="72" y="144"/>
                          <a:pt x="144" y="88"/>
                          <a:pt x="240" y="56"/>
                        </a:cubicBezTo>
                        <a:cubicBezTo>
                          <a:pt x="336" y="24"/>
                          <a:pt x="464" y="0"/>
                          <a:pt x="576" y="8"/>
                        </a:cubicBezTo>
                        <a:cubicBezTo>
                          <a:pt x="688" y="16"/>
                          <a:pt x="816" y="56"/>
                          <a:pt x="912" y="104"/>
                        </a:cubicBezTo>
                        <a:cubicBezTo>
                          <a:pt x="1008" y="152"/>
                          <a:pt x="1096" y="216"/>
                          <a:pt x="1152" y="296"/>
                        </a:cubicBezTo>
                        <a:cubicBezTo>
                          <a:pt x="1208" y="376"/>
                          <a:pt x="1232" y="512"/>
                          <a:pt x="1248" y="584"/>
                        </a:cubicBezTo>
                        <a:cubicBezTo>
                          <a:pt x="1264" y="656"/>
                          <a:pt x="1240" y="712"/>
                          <a:pt x="1248" y="728"/>
                        </a:cubicBezTo>
                      </a:path>
                    </a:pathLst>
                  </a:custGeom>
                  <a:noFill/>
                  <a:ln w="57240">
                    <a:solidFill>
                      <a:srgbClr val="33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6" name=""/>
          <p:cNvSpPr/>
          <p:nvPr/>
        </p:nvSpPr>
        <p:spPr>
          <a:xfrm flipH="1">
            <a:off x="4869000" y="2781360"/>
            <a:ext cx="9684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557760" y="2781360"/>
            <a:ext cx="96660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3708000" y="3543480"/>
            <a:ext cx="2163960" cy="1872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523200" y="3562200"/>
            <a:ext cx="196848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573880" y="2254320"/>
          <a:ext cx="466560" cy="38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73880" y="2254320"/>
                    <a:ext cx="4665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"/>
          <p:cNvGrpSpPr/>
          <p:nvPr/>
        </p:nvGrpSpPr>
        <p:grpSpPr>
          <a:xfrm>
            <a:off x="4388040" y="2574000"/>
            <a:ext cx="450360" cy="324000"/>
            <a:chOff x="4388040" y="2574000"/>
            <a:chExt cx="450360" cy="324000"/>
          </a:xfrm>
        </p:grpSpPr>
        <p:sp>
          <p:nvSpPr>
            <p:cNvPr id="273" name=""/>
            <p:cNvSpPr/>
            <p:nvPr/>
          </p:nvSpPr>
          <p:spPr>
            <a:xfrm flipV="1">
              <a:off x="4388040" y="2574000"/>
              <a:ext cx="41040" cy="20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500720" y="2587680"/>
              <a:ext cx="8388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801320" y="2724480"/>
              <a:ext cx="3708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4426560" y="2580120"/>
              <a:ext cx="6480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4575960" y="2588040"/>
              <a:ext cx="6480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641120" y="2585880"/>
              <a:ext cx="8424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4725360" y="259560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517160" y="2574000"/>
            <a:ext cx="451800" cy="324000"/>
            <a:chOff x="7517160" y="2574000"/>
            <a:chExt cx="451800" cy="324000"/>
          </a:xfrm>
        </p:grpSpPr>
        <p:sp>
          <p:nvSpPr>
            <p:cNvPr id="281" name=""/>
            <p:cNvSpPr/>
            <p:nvPr/>
          </p:nvSpPr>
          <p:spPr>
            <a:xfrm flipV="1">
              <a:off x="7517160" y="2574000"/>
              <a:ext cx="41400" cy="20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630200" y="2587680"/>
              <a:ext cx="8424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931520" y="2724480"/>
              <a:ext cx="37440" cy="17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555320" y="258012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705440" y="2588040"/>
              <a:ext cx="6516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770960" y="2585880"/>
              <a:ext cx="84600" cy="28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855200" y="2595600"/>
              <a:ext cx="65520" cy="30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H="1" flipV="1">
            <a:off x="7911720" y="2761920"/>
            <a:ext cx="668520" cy="19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691080" y="2761920"/>
            <a:ext cx="668160" cy="1908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215040" y="2292480"/>
          <a:ext cx="487440" cy="38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15040" y="2292480"/>
                    <a:ext cx="487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V="1">
            <a:off x="6091200" y="2259000"/>
            <a:ext cx="211320" cy="38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433760" y="2863800"/>
                <a:ext cx="327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559640" y="2806560"/>
                <a:ext cx="3715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2268360" y="3716280"/>
            <a:ext cx="4680000" cy="720720"/>
            <a:chOff x="2268360" y="3716280"/>
            <a:chExt cx="4680000" cy="720720"/>
          </a:xfrm>
        </p:grpSpPr>
        <p:sp>
          <p:nvSpPr>
            <p:cNvPr id="296" name=""/>
            <p:cNvSpPr/>
            <p:nvPr/>
          </p:nvSpPr>
          <p:spPr>
            <a:xfrm>
              <a:off x="5148360" y="3789360"/>
              <a:ext cx="1800000" cy="64764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268360" y="4076640"/>
              <a:ext cx="288000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411280" y="3716280"/>
              <a:ext cx="648000" cy="504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85988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La potencia instantánea consumida por una carga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01" name="Rectangle 3"/>
          <p:cNvGraphicFramePr/>
          <p:nvPr/>
        </p:nvGraphicFramePr>
        <p:xfrm>
          <a:off x="806400" y="2565360"/>
          <a:ext cx="4956120" cy="4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2565360"/>
                    <a:ext cx="49561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Rectangle 3"/>
          <p:cNvGraphicFramePr/>
          <p:nvPr/>
        </p:nvGraphicFramePr>
        <p:xfrm>
          <a:off x="1285920" y="2997360"/>
          <a:ext cx="3066840" cy="40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2997360"/>
                    <a:ext cx="30668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262160" y="3429000"/>
          <a:ext cx="788184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2160" y="3429000"/>
                    <a:ext cx="78818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8"/>
          <p:cNvSpPr/>
          <p:nvPr/>
        </p:nvSpPr>
        <p:spPr>
          <a:xfrm>
            <a:off x="468360" y="4272120"/>
            <a:ext cx="7859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xpandiendo el término oscil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47560" y="4923000"/>
          <a:ext cx="7480440" cy="40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7560" y="4923000"/>
                    <a:ext cx="748044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0" name="" descr="O Brother Where Art Thou Baptism Scen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12000" y="5300640"/>
            <a:ext cx="2879640" cy="131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657360" y="5640480"/>
          <a:ext cx="3700440" cy="40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7360" y="5640480"/>
                    <a:ext cx="3700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 flipH="1" flipV="1">
            <a:off x="4211640" y="6021360"/>
            <a:ext cx="1728720" cy="216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91160" y="609300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¡Bautizo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280" y="636444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otencia 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7200" y="638172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otencia Rea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60000" y="6093000"/>
            <a:ext cx="142920" cy="288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6093000"/>
            <a:ext cx="14292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32000" y="5589720"/>
            <a:ext cx="28728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39920" y="5589720"/>
            <a:ext cx="287640" cy="503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288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l integrar en un periodo la potencia instantáne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primer término nunca es cero, pero oscil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segundo término es cero, por lo que no produce trabajo útil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probar lo anterior, analizaremos el sistema físico de la derecha. Calcularemos cuál es el trabajo que desarrolla en un ciclo cada componente de la potencia instantáne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7617240" y="3607560"/>
            <a:ext cx="1152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6621120" y="321156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602040" y="4365720"/>
            <a:ext cx="158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/>
          <p:nvPr/>
        </p:nvCxnSpPr>
        <p:spPr>
          <a:xfrm rot="5400000">
            <a:off x="6037560" y="3785760"/>
            <a:ext cx="1152720" cy="2160"/>
          </a:xfrm>
          <a:prstGeom prst="curvedConnector5">
            <a:avLst>
              <a:gd name="adj1" fmla="val 0"/>
              <a:gd name="adj2" fmla="val 7900000"/>
              <a:gd name="adj3" fmla="val 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8205840" y="37940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011640" y="37940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5400000">
            <a:off x="8126640" y="3691440"/>
            <a:ext cx="588960" cy="289080"/>
          </a:xfrm>
          <a:custGeom>
            <a:avLst/>
            <a:gdLst/>
            <a:ahLst/>
            <a:rect l="l" t="t" r="r" b="b"/>
            <a:pathLst>
              <a:path w="371" h="182">
                <a:moveTo>
                  <a:pt x="23" y="46"/>
                </a:moveTo>
                <a:cubicBezTo>
                  <a:pt x="11" y="79"/>
                  <a:pt x="0" y="113"/>
                  <a:pt x="23" y="136"/>
                </a:cubicBezTo>
                <a:cubicBezTo>
                  <a:pt x="46" y="159"/>
                  <a:pt x="106" y="182"/>
                  <a:pt x="159" y="182"/>
                </a:cubicBezTo>
                <a:cubicBezTo>
                  <a:pt x="212" y="182"/>
                  <a:pt x="311" y="159"/>
                  <a:pt x="341" y="136"/>
                </a:cubicBezTo>
                <a:cubicBezTo>
                  <a:pt x="371" y="113"/>
                  <a:pt x="356" y="69"/>
                  <a:pt x="341" y="46"/>
                </a:cubicBezTo>
                <a:cubicBezTo>
                  <a:pt x="326" y="23"/>
                  <a:pt x="288" y="11"/>
                  <a:pt x="250" y="0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508600" y="3813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3333cc"/>
                </a:solidFill>
                <a:latin typeface="Tahoma"/>
                <a:ea typeface="Tahoma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780080" y="3160800"/>
            <a:ext cx="1311120" cy="10015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113960" y="43099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Rectangle 3"/>
          <p:cNvGraphicFramePr/>
          <p:nvPr/>
        </p:nvGraphicFramePr>
        <p:xfrm>
          <a:off x="4643280" y="2492280"/>
          <a:ext cx="3457800" cy="3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492280"/>
                    <a:ext cx="34578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4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mono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5628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oncepto de potencia complej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37" name="Rectangle 3"/>
          <p:cNvGraphicFramePr/>
          <p:nvPr/>
        </p:nvGraphicFramePr>
        <p:xfrm>
          <a:off x="755640" y="3716280"/>
          <a:ext cx="4732200" cy="3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16280"/>
                    <a:ext cx="47322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Rectangle 3"/>
          <p:cNvGraphicFramePr/>
          <p:nvPr/>
        </p:nvGraphicFramePr>
        <p:xfrm>
          <a:off x="828720" y="2425680"/>
          <a:ext cx="450360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8720" y="2425680"/>
                    <a:ext cx="4503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468360" y="4560840"/>
            <a:ext cx="7488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forma de la expresión anterior se debe en parte al uso de valores efectivos en la definición de fas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6791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tri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06752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potencia instantánea en un sistema trifásico es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44" name="Rectangle 3"/>
          <p:cNvGraphicFramePr/>
          <p:nvPr/>
        </p:nvGraphicFramePr>
        <p:xfrm>
          <a:off x="971640" y="2276640"/>
          <a:ext cx="428616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42861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468360" y="2832120"/>
            <a:ext cx="685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el sistema es equilibra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Rectangle 3"/>
          <p:cNvGraphicFramePr/>
          <p:nvPr/>
        </p:nvGraphicFramePr>
        <p:xfrm>
          <a:off x="698400" y="3429000"/>
          <a:ext cx="7616880" cy="8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0" y="3429000"/>
                    <a:ext cx="76168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698400" y="4365720"/>
          <a:ext cx="8410680" cy="93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8400" y="4365720"/>
                    <a:ext cx="84106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3067200" y="5791320"/>
          <a:ext cx="2293920" cy="44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7200" y="5791320"/>
                    <a:ext cx="2293920" cy="446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528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Potencia activa y reactiva trifás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potencia activa es constante y genera trabajo neto no nulo en un ciclo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A diferencia del caso monofásico, no tiene “componente reactiva”, pero existe componente reactiva en cada una de las fase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or un asunto de uniformidad, se asume que existe una potencia reactiva trifásica y Q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3f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=3Q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1f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¿Qué potencia es esta si no “existe” la potencia reactiva trifásica?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076720" y="4648320"/>
            <a:ext cx="2951280" cy="2020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360" y="946080"/>
            <a:ext cx="4075200" cy="3727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7636680" y="4121280"/>
            <a:ext cx="903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ahoma"/>
              </a:rPr>
              <a:t>Fuente: </a:t>
            </a:r>
            <a:r>
              <a:rPr b="0" lang="es-CL" sz="1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A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4941720"/>
            <a:ext cx="2232000" cy="23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419280" y="5084640"/>
            <a:ext cx="237636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Herramientas matemática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n general, en ingeniería podemos separar el estudio de los fenómenos en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égimen permanente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Transitori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Un buen conocimiento del régimen permanente es necesario, ya que la mayor parte del tiempo los sistemas operan ahí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Herramientas de cálculo simples, que permitan aprovechar el hecho de que d/dt=0 o que se tienen “sistemas harmónicos”, son muy necesaria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root mean squar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643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una función f(t) en el intervalo [to,to+T], se define el valor medio cuadrático (RMS) com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54" name="Rectangle 3"/>
          <p:cNvGraphicFramePr/>
          <p:nvPr/>
        </p:nvGraphicFramePr>
        <p:xfrm>
          <a:off x="2771640" y="2513160"/>
          <a:ext cx="240372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513160"/>
                    <a:ext cx="240372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68360" y="3521160"/>
            <a:ext cx="7931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una función sinusoidal de amplitud A y período T=1/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Rectangle 3"/>
          <p:cNvGraphicFramePr/>
          <p:nvPr/>
        </p:nvGraphicFramePr>
        <p:xfrm>
          <a:off x="2489040" y="4025880"/>
          <a:ext cx="3184560" cy="10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9040" y="4025880"/>
                    <a:ext cx="318456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013440" y="4241880"/>
          <a:ext cx="45252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3440" y="4241880"/>
                    <a:ext cx="452520" cy="712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" name=""/>
          <p:cNvGrpSpPr/>
          <p:nvPr/>
        </p:nvGrpSpPr>
        <p:grpSpPr>
          <a:xfrm>
            <a:off x="5199120" y="4818240"/>
            <a:ext cx="1533600" cy="679320"/>
            <a:chOff x="5199120" y="4818240"/>
            <a:chExt cx="1533600" cy="679320"/>
          </a:xfrm>
        </p:grpSpPr>
        <p:graphicFrame>
          <p:nvGraphicFramePr>
            <p:cNvPr id="62" name=""/>
            <p:cNvGraphicFramePr/>
            <p:nvPr/>
          </p:nvGraphicFramePr>
          <p:xfrm>
            <a:off x="5199120" y="5105520"/>
            <a:ext cx="1533600" cy="392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99120" y="5105520"/>
                      <a:ext cx="15336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 flipV="1">
              <a:off x="5775480" y="4818240"/>
              <a:ext cx="0" cy="287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5537160"/>
            <a:ext cx="7931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n electricidad, a la amplitud se le llama “valor efectivo”. Lueg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708360" y="5986440"/>
          <a:ext cx="116208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5986440"/>
                    <a:ext cx="1162080" cy="7556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l root mean square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4716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se calcula la energía disipada por la resistencia del circuito en un cicl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70" name="Rectangle 3"/>
          <p:cNvGraphicFramePr/>
          <p:nvPr/>
        </p:nvGraphicFramePr>
        <p:xfrm>
          <a:off x="1258920" y="3500280"/>
          <a:ext cx="530856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500280"/>
                    <a:ext cx="530856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Rectangle 3"/>
          <p:cNvGraphicFramePr/>
          <p:nvPr/>
        </p:nvGraphicFramePr>
        <p:xfrm>
          <a:off x="1238400" y="4581360"/>
          <a:ext cx="527184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0" y="4581360"/>
                    <a:ext cx="527184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640560" y="4670280"/>
          <a:ext cx="668160" cy="71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40560" y="4670280"/>
                    <a:ext cx="668160" cy="711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7200" y="6005520"/>
            <a:ext cx="81471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l V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RMS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 de la fuente alterna es el voltaje de una fuente continua que entrega la misma energía a la resistencia durante un cicl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03600" y="2451240"/>
            <a:ext cx="1008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11600" y="2306520"/>
            <a:ext cx="73080" cy="14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84680" y="2306520"/>
            <a:ext cx="14292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7600" y="2306520"/>
            <a:ext cx="14436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1960" y="2306520"/>
            <a:ext cx="71280" cy="144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3240" y="2451240"/>
            <a:ext cx="4334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6680" y="2451240"/>
            <a:ext cx="0" cy="792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703240" y="3243240"/>
            <a:ext cx="187308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60680" y="2727360"/>
            <a:ext cx="216000" cy="237960"/>
          </a:xfrm>
          <a:custGeom>
            <a:avLst/>
            <a:gdLst/>
            <a:ahLst/>
            <a:rect l="l" t="t" r="r" b="b"/>
            <a:pathLst>
              <a:path w="136" h="150">
                <a:moveTo>
                  <a:pt x="0" y="98"/>
                </a:moveTo>
                <a:cubicBezTo>
                  <a:pt x="15" y="49"/>
                  <a:pt x="30" y="0"/>
                  <a:pt x="45" y="7"/>
                </a:cubicBezTo>
                <a:cubicBezTo>
                  <a:pt x="60" y="14"/>
                  <a:pt x="75" y="136"/>
                  <a:pt x="90" y="143"/>
                </a:cubicBezTo>
                <a:cubicBezTo>
                  <a:pt x="105" y="150"/>
                  <a:pt x="120" y="101"/>
                  <a:pt x="136" y="52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28920" y="2603520"/>
            <a:ext cx="503280" cy="50472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703600" y="3098520"/>
            <a:ext cx="0" cy="144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03600" y="2451240"/>
            <a:ext cx="0" cy="142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47640" y="2708280"/>
          <a:ext cx="871560" cy="3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708280"/>
                    <a:ext cx="87156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6084720" y="5157360"/>
            <a:ext cx="860760" cy="735480"/>
            <a:chOff x="6084720" y="5157360"/>
            <a:chExt cx="860760" cy="735480"/>
          </a:xfrm>
        </p:grpSpPr>
        <p:graphicFrame>
          <p:nvGraphicFramePr>
            <p:cNvPr id="92" name=""/>
            <p:cNvGraphicFramePr/>
            <p:nvPr/>
          </p:nvGraphicFramePr>
          <p:xfrm>
            <a:off x="6084720" y="5500800"/>
            <a:ext cx="860760" cy="39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84720" y="5500800"/>
                      <a:ext cx="86076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 flipV="1">
              <a:off x="6443640" y="5157360"/>
              <a:ext cx="0" cy="358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6994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Motivación: calcular la tensión del condensador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97" name="Rectangle 3"/>
          <p:cNvGraphicFramePr/>
          <p:nvPr/>
        </p:nvGraphicFramePr>
        <p:xfrm>
          <a:off x="2916360" y="3351240"/>
          <a:ext cx="398448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351240"/>
                    <a:ext cx="39844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24000" y="8234280"/>
            <a:ext cx="7772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Motivación: calcular la tensión del condens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08000" y="2133360"/>
            <a:ext cx="3168720" cy="936720"/>
            <a:chOff x="1908000" y="2133360"/>
            <a:chExt cx="3168720" cy="936720"/>
          </a:xfrm>
        </p:grpSpPr>
        <p:sp>
          <p:nvSpPr>
            <p:cNvPr id="101" name=""/>
            <p:cNvSpPr/>
            <p:nvPr/>
          </p:nvSpPr>
          <p:spPr>
            <a:xfrm>
              <a:off x="3063960" y="2278080"/>
              <a:ext cx="100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071960" y="2133360"/>
              <a:ext cx="73080" cy="14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45040" y="2133720"/>
              <a:ext cx="142920" cy="286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287960" y="2133360"/>
              <a:ext cx="144360" cy="286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32320" y="2133720"/>
              <a:ext cx="71280" cy="144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03600" y="2278080"/>
              <a:ext cx="433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932000" y="2278080"/>
              <a:ext cx="4680" cy="329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063600" y="3070080"/>
              <a:ext cx="1873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21040" y="2554200"/>
              <a:ext cx="216000" cy="23760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0" y="98"/>
                  </a:moveTo>
                  <a:cubicBezTo>
                    <a:pt x="15" y="49"/>
                    <a:pt x="30" y="0"/>
                    <a:pt x="45" y="7"/>
                  </a:cubicBezTo>
                  <a:cubicBezTo>
                    <a:pt x="60" y="14"/>
                    <a:pt x="75" y="136"/>
                    <a:pt x="90" y="143"/>
                  </a:cubicBezTo>
                  <a:cubicBezTo>
                    <a:pt x="105" y="150"/>
                    <a:pt x="120" y="101"/>
                    <a:pt x="136" y="52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89280" y="2430360"/>
              <a:ext cx="503280" cy="50436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063960" y="2925720"/>
              <a:ext cx="0" cy="144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63960" y="2278080"/>
              <a:ext cx="0" cy="142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1908000" y="2535120"/>
            <a:ext cx="871560" cy="30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8000" y="2535120"/>
                      <a:ext cx="871560" cy="30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4788000" y="2628720"/>
              <a:ext cx="288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88000" y="2763720"/>
              <a:ext cx="288720" cy="7272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46"/>
                  </a:moveTo>
                  <a:cubicBezTo>
                    <a:pt x="30" y="23"/>
                    <a:pt x="61" y="0"/>
                    <a:pt x="91" y="0"/>
                  </a:cubicBezTo>
                  <a:cubicBezTo>
                    <a:pt x="121" y="0"/>
                    <a:pt x="151" y="23"/>
                    <a:pt x="182" y="46"/>
                  </a:cubicBezTo>
                </a:path>
              </a:pathLst>
            </a:custGeom>
            <a:noFill/>
            <a:ln w="28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932360" y="2776320"/>
              <a:ext cx="0" cy="288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1403280" y="5300640"/>
          <a:ext cx="6201000" cy="95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300640"/>
                    <a:ext cx="620100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947960" y="4272120"/>
          <a:ext cx="5653080" cy="77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47960" y="4272120"/>
                    <a:ext cx="565308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250920" y="3689280"/>
            <a:ext cx="3168720" cy="731520"/>
            <a:chOff x="250920" y="3689280"/>
            <a:chExt cx="3168720" cy="731520"/>
          </a:xfrm>
        </p:grpSpPr>
        <p:graphicFrame>
          <p:nvGraphicFramePr>
            <p:cNvPr id="123" name="Rectangle 3"/>
            <p:cNvGraphicFramePr/>
            <p:nvPr/>
          </p:nvGraphicFramePr>
          <p:xfrm>
            <a:off x="250920" y="3689280"/>
            <a:ext cx="2222280" cy="468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4" name="Rectangle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0920" y="3689280"/>
                      <a:ext cx="222228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V="1">
              <a:off x="2556000" y="3728520"/>
              <a:ext cx="36036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84360" y="3989880"/>
              <a:ext cx="935280" cy="430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8075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n sistemas de potencia, interesa mucho saber el comportamiento en régimen permanente sinusoidal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n el caso del condensador, si t es “grande”, el término en </a:t>
            </a:r>
            <a:r>
              <a:rPr b="0" lang="es-CL" sz="1800" spc="-1" strike="noStrike">
                <a:solidFill>
                  <a:srgbClr val="006600"/>
                </a:solidFill>
                <a:latin typeface="Tahoma"/>
              </a:rPr>
              <a:t>verde</a:t>
            </a: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 (respuesta a entrada cero) desaparece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El término en </a:t>
            </a:r>
            <a:r>
              <a:rPr b="0" lang="es-CL" sz="1800" spc="-1" strike="noStrike">
                <a:solidFill>
                  <a:srgbClr val="ff0000"/>
                </a:solidFill>
                <a:latin typeface="Tahoma"/>
              </a:rPr>
              <a:t>rojo</a:t>
            </a: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, en el dominio del tiempo, tiene una componente transiente y otra harmónic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Por lo tanto, sería conveniente contar con una herramienta que permita calcular la respuesta de régimen permanente, despreciando los términos transitorios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29" name="Rectangle 3"/>
          <p:cNvGraphicFramePr/>
          <p:nvPr/>
        </p:nvGraphicFramePr>
        <p:xfrm>
          <a:off x="900000" y="2060640"/>
          <a:ext cx="6880320" cy="10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0640"/>
                    <a:ext cx="68803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32" name="Rectangle 3"/>
          <p:cNvGraphicFramePr/>
          <p:nvPr/>
        </p:nvGraphicFramePr>
        <p:xfrm>
          <a:off x="1868400" y="3406680"/>
          <a:ext cx="4264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406680"/>
                    <a:ext cx="4264200" cy="3812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" name="Rectangle 3"/>
          <p:cNvGraphicFramePr/>
          <p:nvPr/>
        </p:nvGraphicFramePr>
        <p:xfrm>
          <a:off x="1631880" y="1974960"/>
          <a:ext cx="48340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974960"/>
                    <a:ext cx="4834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8680" y="4389480"/>
            <a:ext cx="7772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n una ecuación diferencial, si la función “forzante” es de frecuencia angular </a:t>
            </a:r>
            <a:r>
              <a:rPr b="1" lang="el-GR" sz="16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, las soluciones de estado estable tambié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transformada fasorial de una función (o fasor) es única para todo t. También se puede ver que es line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El factor e</a:t>
            </a:r>
            <a:r>
              <a:rPr b="1" lang="es-CL" sz="1600" spc="-1" strike="noStrike" baseline="30000">
                <a:solidFill>
                  <a:srgbClr val="343f7f"/>
                </a:solidFill>
                <a:latin typeface="Tahoma"/>
              </a:rPr>
              <a:t>j</a:t>
            </a:r>
            <a:r>
              <a:rPr b="1" lang="el-GR" sz="1600" spc="-1" strike="noStrike" baseline="30000">
                <a:solidFill>
                  <a:srgbClr val="343f7f"/>
                </a:solidFill>
                <a:latin typeface="Times New Roman"/>
                <a:ea typeface="Times New Roman"/>
              </a:rPr>
              <a:t>ω</a:t>
            </a:r>
            <a:r>
              <a:rPr b="1" lang="es-CL" sz="1600" spc="-1" strike="noStrike" baseline="30000">
                <a:solidFill>
                  <a:srgbClr val="343f7f"/>
                </a:solidFill>
                <a:latin typeface="Times New Roman"/>
                <a:ea typeface="Times New Roman"/>
              </a:rPr>
              <a:t>t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 está siempre presente, razón por la cual suele omitirse. Lo mismo ocurre con el factor raíz de 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Rectangle 3"/>
          <p:cNvGraphicFramePr/>
          <p:nvPr/>
        </p:nvGraphicFramePr>
        <p:xfrm>
          <a:off x="1619280" y="1557360"/>
          <a:ext cx="217332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1557360"/>
                    <a:ext cx="21733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244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43f7f"/>
                </a:solidFill>
                <a:latin typeface="Tahoma"/>
              </a:rPr>
              <a:t>Transformada de la derivad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41" name="Rectangle 3"/>
          <p:cNvGraphicFramePr/>
          <p:nvPr/>
        </p:nvGraphicFramePr>
        <p:xfrm>
          <a:off x="1908000" y="2205000"/>
          <a:ext cx="52405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05000"/>
                    <a:ext cx="52405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Rectangle 3"/>
          <p:cNvGraphicFramePr/>
          <p:nvPr/>
        </p:nvGraphicFramePr>
        <p:xfrm>
          <a:off x="2719440" y="5734080"/>
          <a:ext cx="30304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9440" y="5734080"/>
                    <a:ext cx="30304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Rectangle 3"/>
          <p:cNvGraphicFramePr/>
          <p:nvPr/>
        </p:nvGraphicFramePr>
        <p:xfrm>
          <a:off x="4579920" y="2978280"/>
          <a:ext cx="335124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9920" y="2978280"/>
                    <a:ext cx="335124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58640" y="4221000"/>
            <a:ext cx="7772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Tahoma"/>
              </a:rPr>
              <a:t>La derivada “giró” al fasor en 90° y lo multiplicó por </a:t>
            </a:r>
            <a:r>
              <a:rPr b="0" lang="el-GR" sz="20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En términos prácticos, el operador derivada se reemplaza por el operador j</a:t>
            </a:r>
            <a:r>
              <a:rPr b="0" lang="el-GR" sz="20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43f7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43f7f"/>
                </a:solidFill>
                <a:latin typeface=""/>
              </a:rPr>
              <a:t>Se propone demostra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Rectangle 3"/>
          <p:cNvGraphicFramePr/>
          <p:nvPr/>
        </p:nvGraphicFramePr>
        <p:xfrm>
          <a:off x="4618080" y="3738600"/>
          <a:ext cx="205092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18080" y="3738600"/>
                    <a:ext cx="2050920" cy="406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1547640" y="2852280"/>
            <a:ext cx="3095640" cy="1057680"/>
            <a:chOff x="1547640" y="2852280"/>
            <a:chExt cx="3095640" cy="1057680"/>
          </a:xfrm>
        </p:grpSpPr>
        <p:graphicFrame>
          <p:nvGraphicFramePr>
            <p:cNvPr id="151" name="Rectangle 3"/>
            <p:cNvGraphicFramePr/>
            <p:nvPr/>
          </p:nvGraphicFramePr>
          <p:xfrm>
            <a:off x="1547640" y="3500280"/>
            <a:ext cx="1957680" cy="40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2" name="Rectangle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3500280"/>
                      <a:ext cx="195768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 flipV="1">
              <a:off x="3492360" y="3357720"/>
              <a:ext cx="1008360" cy="287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419640" y="2852280"/>
              <a:ext cx="1223640" cy="792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Transformada fasorial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35480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Volviendo a nuestro ejempl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57" name="Rectangle 3"/>
          <p:cNvGraphicFramePr/>
          <p:nvPr/>
        </p:nvGraphicFramePr>
        <p:xfrm>
          <a:off x="1882800" y="2360520"/>
          <a:ext cx="39816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2360520"/>
                    <a:ext cx="39816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Rectangle 3"/>
          <p:cNvGraphicFramePr/>
          <p:nvPr/>
        </p:nvGraphicFramePr>
        <p:xfrm>
          <a:off x="3071880" y="3224160"/>
          <a:ext cx="34527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1880" y="3224160"/>
                    <a:ext cx="3452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463840" y="3809880"/>
          <a:ext cx="23544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63840" y="3809880"/>
                    <a:ext cx="2354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1995480" y="5300640"/>
          <a:ext cx="4835520" cy="8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95480" y="5300640"/>
                    <a:ext cx="4835520" cy="812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02000" y="4264200"/>
          <a:ext cx="3473280" cy="81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2000" y="4264200"/>
                    <a:ext cx="347328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0-16T19:12:05Z</dcterms:modified>
  <cp:revision>50</cp:revision>
  <dc:subject/>
  <dc:title>Diapositiva 1</dc:title>
</cp:coreProperties>
</file>