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9.wmf" ContentType="image/x-wmf"/>
  <Override PartName="/ppt/media/image3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45.wmf" ContentType="image/x-wmf"/>
  <Override PartName="/ppt/media/image2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5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C35D-3A4C-4850-A30F-81EE92857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4C3A-DAFF-4B69-BBEA-DD63DBD90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515A-8BEB-4565-B2E3-561FC40A6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7587-B9C7-43EB-BB7D-75D3D515A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E8EE-72F9-40E8-A1A0-91E78C148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EFA7-4FEF-4BEA-A320-D79BB548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C85F-7E8B-4CB6-A52C-3FB7762D9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52F9-11B6-46F9-975B-FDD5FC1E8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4547-59E9-47E0-8E7C-5195583DB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7A93-AFFE-4A10-B796-DED945BEE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331D-DDFA-4EE6-9F73-90C6326C4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464C-E512-450D-B53E-C4E287E56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D20C-7CCE-4509-9320-5485A013A9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29528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hyperlink" Target="http://www.readthespirit.com/.a/6a00e54ef51d7688340120a65aa8d6970b-pi" TargetMode="External"/><Relationship Id="rId10" Type="http://schemas.openxmlformats.org/officeDocument/2006/relationships/image" Target="../media/image48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9.wmf"/><Relationship Id="rId1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hyperlink" Target="http://www05.abb.com/global/scot/scot245.nsf/veritydisplay/0cb847bb3d05efacc12570a80022fdd5/$File/SIKAP%20Ed1%20en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2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sta materia se estudió en los cursos anterior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n embargo, el trabajo en este curso se hace con esta metodología, razón por la cual se analizará al menos el uso de “base trifásica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Analizar el circuito de la figur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08640" y="19270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77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61240" y="2787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83360" y="26427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81800" y="26431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1957320"/>
            <a:ext cx="14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824600">
            <a:off x="8459280" y="274284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86600">
            <a:off x="8002440" y="274320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15280" y="2244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166240" y="2546280"/>
            <a:ext cx="142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5280" y="25336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5280" y="17413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5640" y="32529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3036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62680" y="31096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884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14960" y="34225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14960" y="31291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1280" y="15969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5040" y="125568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160" y="195732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27640" y="181296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57760" y="1943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8360" y="4551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85040" y="491004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3360" y="4581360"/>
            <a:ext cx="144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25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2464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4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25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1000" y="422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04400" y="387972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9880" y="458136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37360" y="4436640"/>
            <a:ext cx="0" cy="792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7120" y="456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5040" y="5183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235560" y="5445000"/>
          <a:ext cx="257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5445000"/>
                    <a:ext cx="257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700200" y="4773600"/>
            <a:ext cx="4808520" cy="2111400"/>
            <a:chOff x="700200" y="4773600"/>
            <a:chExt cx="4808520" cy="2111400"/>
          </a:xfrm>
        </p:grpSpPr>
        <p:graphicFrame>
          <p:nvGraphicFramePr>
            <p:cNvPr id="211" name="Rectangle 3"/>
            <p:cNvGraphicFramePr/>
            <p:nvPr/>
          </p:nvGraphicFramePr>
          <p:xfrm>
            <a:off x="700200" y="5343480"/>
            <a:ext cx="1279440" cy="89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200" y="5343480"/>
                      <a:ext cx="127944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Rectangle 3"/>
            <p:cNvGraphicFramePr/>
            <p:nvPr/>
          </p:nvGraphicFramePr>
          <p:xfrm>
            <a:off x="2441520" y="4773600"/>
            <a:ext cx="3067200" cy="2111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Rectangle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1520" y="4773600"/>
                      <a:ext cx="306720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1979640" y="5013360"/>
              <a:ext cx="216000" cy="1655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efiniendo dos cantidades bases, se tienen las restant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el curso, V y S serán las bases principal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cálculo en p.u. se utiliza porque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vita complicaciones con las unidade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ermite la rápida detección de errores (ej.: en los SEP’s, las tensiones son valores cercanos a uno)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trabajo en sistemas con diferentes niveles de tensión se simplifica … no es necesario incorporar “transformadores ideales” a la represent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ara que el método “funcione”, la base trifásica de potencia debe ser común para todo 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205000"/>
          <a:ext cx="17254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1725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3141720"/>
          <a:ext cx="30067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3006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64000" y="3860640"/>
          <a:ext cx="1625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860640"/>
                    <a:ext cx="1625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0920" y="4038480"/>
          <a:ext cx="343224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38480"/>
                    <a:ext cx="3432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79280" y="5157720"/>
          <a:ext cx="3411720" cy="13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5157720"/>
                    <a:ext cx="341172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95640" y="5734080"/>
          <a:ext cx="493560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734080"/>
                    <a:ext cx="4935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24360" y="5013360"/>
            <a:ext cx="5075280" cy="1584360"/>
            <a:chOff x="3924360" y="5013360"/>
            <a:chExt cx="5075280" cy="1584360"/>
          </a:xfrm>
        </p:grpSpPr>
        <p:sp>
          <p:nvSpPr>
            <p:cNvPr id="232" name=""/>
            <p:cNvSpPr/>
            <p:nvPr/>
          </p:nvSpPr>
          <p:spPr>
            <a:xfrm>
              <a:off x="7740720" y="5661000"/>
              <a:ext cx="1258920" cy="93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5013360"/>
              <a:ext cx="504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Tahoma"/>
                </a:rPr>
                <a:t>Si se eligen los voltajes bases de ambos sectores iguales a la relación de vueltas, ¡todo se simplific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372000" y="5589360"/>
              <a:ext cx="158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857920" y="2727360"/>
            <a:ext cx="680760" cy="837720"/>
            <a:chOff x="5857920" y="2727360"/>
            <a:chExt cx="680760" cy="837720"/>
          </a:xfrm>
        </p:grpSpPr>
        <p:grpSp>
          <p:nvGrpSpPr>
            <p:cNvPr id="236" name=""/>
            <p:cNvGrpSpPr/>
            <p:nvPr/>
          </p:nvGrpSpPr>
          <p:grpSpPr>
            <a:xfrm>
              <a:off x="5857920" y="2727360"/>
              <a:ext cx="279000" cy="837720"/>
              <a:chOff x="5857920" y="2727360"/>
              <a:chExt cx="279000" cy="837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864400" y="2727360"/>
                <a:ext cx="272520" cy="455760"/>
                <a:chOff x="5864400" y="2727360"/>
                <a:chExt cx="272520" cy="4557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5867640" y="2727360"/>
                  <a:ext cx="269280" cy="266400"/>
                  <a:chOff x="5867640" y="2727360"/>
                  <a:chExt cx="269280" cy="266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86764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86764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5864400" y="2916720"/>
                  <a:ext cx="269280" cy="266400"/>
                  <a:chOff x="5864400" y="2916720"/>
                  <a:chExt cx="269280" cy="266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586440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586440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857920" y="3109320"/>
                <a:ext cx="272520" cy="455760"/>
                <a:chOff x="5857920" y="3109320"/>
                <a:chExt cx="272520" cy="4557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5861160" y="3109320"/>
                  <a:ext cx="269280" cy="266400"/>
                  <a:chOff x="5861160" y="3109320"/>
                  <a:chExt cx="269280" cy="266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861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861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857920" y="3298680"/>
                  <a:ext cx="269280" cy="266400"/>
                  <a:chOff x="5857920" y="3298680"/>
                  <a:chExt cx="269280" cy="266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85792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85792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1" name=""/>
            <p:cNvGrpSpPr/>
            <p:nvPr/>
          </p:nvGrpSpPr>
          <p:grpSpPr>
            <a:xfrm>
              <a:off x="6259680" y="2727360"/>
              <a:ext cx="279000" cy="837720"/>
              <a:chOff x="6259680" y="2727360"/>
              <a:chExt cx="279000" cy="8377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259680" y="2727360"/>
                <a:ext cx="272520" cy="455760"/>
                <a:chOff x="6259680" y="2727360"/>
                <a:chExt cx="272520" cy="4557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259680" y="2727360"/>
                  <a:ext cx="269280" cy="266400"/>
                  <a:chOff x="6259680" y="2727360"/>
                  <a:chExt cx="269280" cy="2664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>
                    <a:off x="625968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625968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62920" y="2916720"/>
                  <a:ext cx="269280" cy="266400"/>
                  <a:chOff x="6262920" y="2916720"/>
                  <a:chExt cx="269280" cy="266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>
                    <a:off x="626292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>
                    <a:off x="626292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6266160" y="3109320"/>
                <a:ext cx="272520" cy="455760"/>
                <a:chOff x="6266160" y="3109320"/>
                <a:chExt cx="272520" cy="4557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6266160" y="3109320"/>
                  <a:ext cx="269280" cy="266400"/>
                  <a:chOff x="6266160" y="3109320"/>
                  <a:chExt cx="269280" cy="266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6266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>
                    <a:off x="6266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69400" y="3298680"/>
                  <a:ext cx="269280" cy="266400"/>
                  <a:chOff x="6269400" y="3298680"/>
                  <a:chExt cx="269280" cy="266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626940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26940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" name=""/>
          <p:cNvSpPr/>
          <p:nvPr/>
        </p:nvSpPr>
        <p:spPr>
          <a:xfrm flipH="1">
            <a:off x="4869000" y="2781360"/>
            <a:ext cx="968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57760" y="2781360"/>
            <a:ext cx="966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708000" y="3543480"/>
            <a:ext cx="2163960" cy="18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23200" y="3562200"/>
            <a:ext cx="19684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573880" y="2254320"/>
          <a:ext cx="46656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3880" y="2254320"/>
                    <a:ext cx="466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88040" y="2574000"/>
            <a:ext cx="450360" cy="324000"/>
            <a:chOff x="4388040" y="2574000"/>
            <a:chExt cx="450360" cy="324000"/>
          </a:xfrm>
        </p:grpSpPr>
        <p:sp>
          <p:nvSpPr>
            <p:cNvPr id="273" name=""/>
            <p:cNvSpPr/>
            <p:nvPr/>
          </p:nvSpPr>
          <p:spPr>
            <a:xfrm flipV="1">
              <a:off x="4388040" y="2574000"/>
              <a:ext cx="4104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2587680"/>
              <a:ext cx="8388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801320" y="2724480"/>
              <a:ext cx="370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426560" y="258012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4575960" y="258804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641120" y="25858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25360" y="259560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517160" y="2574000"/>
            <a:ext cx="451800" cy="324000"/>
            <a:chOff x="7517160" y="2574000"/>
            <a:chExt cx="451800" cy="324000"/>
          </a:xfrm>
        </p:grpSpPr>
        <p:sp>
          <p:nvSpPr>
            <p:cNvPr id="281" name=""/>
            <p:cNvSpPr/>
            <p:nvPr/>
          </p:nvSpPr>
          <p:spPr>
            <a:xfrm flipV="1">
              <a:off x="7517160" y="2574000"/>
              <a:ext cx="4140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630200" y="25876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931520" y="2724480"/>
              <a:ext cx="3744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555320" y="258012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705440" y="258804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770960" y="2585880"/>
              <a:ext cx="8460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55200" y="2595600"/>
              <a:ext cx="6552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 flipV="1">
            <a:off x="7911720" y="2761920"/>
            <a:ext cx="66852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691080" y="2761920"/>
            <a:ext cx="66816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215040" y="2292480"/>
          <a:ext cx="487440" cy="3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5040" y="2292480"/>
                    <a:ext cx="487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6091200" y="2259000"/>
            <a:ext cx="21132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433760" y="2863800"/>
                <a:ext cx="327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59640" y="2806560"/>
                <a:ext cx="371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2268360" y="3716280"/>
            <a:ext cx="4680000" cy="720720"/>
            <a:chOff x="2268360" y="3716280"/>
            <a:chExt cx="4680000" cy="720720"/>
          </a:xfrm>
        </p:grpSpPr>
        <p:sp>
          <p:nvSpPr>
            <p:cNvPr id="296" name=""/>
            <p:cNvSpPr/>
            <p:nvPr/>
          </p:nvSpPr>
          <p:spPr>
            <a:xfrm>
              <a:off x="5148360" y="3789360"/>
              <a:ext cx="1800000" cy="64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268360" y="4076640"/>
              <a:ext cx="288000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411280" y="3716280"/>
              <a:ext cx="648000" cy="504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8598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La potencia instantánea consumida por una carga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01" name="Rectangle 3"/>
          <p:cNvGraphicFramePr/>
          <p:nvPr/>
        </p:nvGraphicFramePr>
        <p:xfrm>
          <a:off x="806400" y="2565360"/>
          <a:ext cx="495612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2565360"/>
                    <a:ext cx="4956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Rectangle 3"/>
          <p:cNvGraphicFramePr/>
          <p:nvPr/>
        </p:nvGraphicFramePr>
        <p:xfrm>
          <a:off x="1285920" y="2997360"/>
          <a:ext cx="306684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997360"/>
                    <a:ext cx="3066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262160" y="3429000"/>
          <a:ext cx="7881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2160" y="3429000"/>
                    <a:ext cx="7881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8"/>
          <p:cNvSpPr/>
          <p:nvPr/>
        </p:nvSpPr>
        <p:spPr>
          <a:xfrm>
            <a:off x="468360" y="4272120"/>
            <a:ext cx="785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xpandiendo el término oscil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47560" y="4923000"/>
          <a:ext cx="7480440" cy="40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560" y="4923000"/>
                    <a:ext cx="74804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O Brother Where Art Thou Baptism Scen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300640"/>
            <a:ext cx="287964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657360" y="5640480"/>
          <a:ext cx="37004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360" y="5640480"/>
                    <a:ext cx="3700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 flipV="1">
            <a:off x="4211640" y="6021360"/>
            <a:ext cx="1728720" cy="216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1160" y="6093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¡Bautiz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280" y="63644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7200" y="63817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Re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60000" y="6093000"/>
            <a:ext cx="142920" cy="288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093000"/>
            <a:ext cx="14292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5589720"/>
            <a:ext cx="28728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9920" y="5589720"/>
            <a:ext cx="28764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28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l integrar en un periodo la potencia instantáne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primer término nunca es cero, pero oscil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segundo término es cero, por lo que no produce trabajo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probar lo anterior, analizaremos el sistema físico de la derecha. Calcularemos cuál es el trabajo que desarrolla en un ciclo cada componente de la potencia instantáne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617240" y="3607560"/>
            <a:ext cx="1152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621120" y="32115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602040" y="43657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 rot="5400000">
            <a:off x="6037560" y="3785760"/>
            <a:ext cx="1152720" cy="2160"/>
          </a:xfrm>
          <a:prstGeom prst="curvedConnector5">
            <a:avLst>
              <a:gd name="adj1" fmla="val 0"/>
              <a:gd name="adj2" fmla="val 7900000"/>
              <a:gd name="adj3" fmla="val 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8205840" y="379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11640" y="3794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8126640" y="3691440"/>
            <a:ext cx="588960" cy="289080"/>
          </a:xfrm>
          <a:custGeom>
            <a:avLst/>
            <a:gdLst/>
            <a:ahLst/>
            <a:rect l="l" t="t" r="r" b="b"/>
            <a:pathLst>
              <a:path w="371" h="182">
                <a:moveTo>
                  <a:pt x="23" y="46"/>
                </a:moveTo>
                <a:cubicBezTo>
                  <a:pt x="11" y="79"/>
                  <a:pt x="0" y="113"/>
                  <a:pt x="23" y="136"/>
                </a:cubicBezTo>
                <a:cubicBezTo>
                  <a:pt x="46" y="159"/>
                  <a:pt x="106" y="182"/>
                  <a:pt x="159" y="182"/>
                </a:cubicBezTo>
                <a:cubicBezTo>
                  <a:pt x="212" y="182"/>
                  <a:pt x="311" y="159"/>
                  <a:pt x="341" y="136"/>
                </a:cubicBezTo>
                <a:cubicBezTo>
                  <a:pt x="371" y="113"/>
                  <a:pt x="356" y="69"/>
                  <a:pt x="341" y="46"/>
                </a:cubicBezTo>
                <a:cubicBezTo>
                  <a:pt x="326" y="23"/>
                  <a:pt x="288" y="11"/>
                  <a:pt x="25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08600" y="3813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333cc"/>
                </a:solidFill>
                <a:latin typeface="Tahoma"/>
                <a:ea typeface="Tahoma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80080" y="3160800"/>
            <a:ext cx="1311120" cy="1001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13960" y="4309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Rectangle 3"/>
          <p:cNvGraphicFramePr/>
          <p:nvPr/>
        </p:nvGraphicFramePr>
        <p:xfrm>
          <a:off x="4643280" y="2492280"/>
          <a:ext cx="3457800" cy="3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3457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5628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cepto de potencia complej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37" name="Rectangle 3"/>
          <p:cNvGraphicFramePr/>
          <p:nvPr/>
        </p:nvGraphicFramePr>
        <p:xfrm>
          <a:off x="755640" y="3716280"/>
          <a:ext cx="473220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47322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Rectangle 3"/>
          <p:cNvGraphicFramePr/>
          <p:nvPr/>
        </p:nvGraphicFramePr>
        <p:xfrm>
          <a:off x="828720" y="2425680"/>
          <a:ext cx="45036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720" y="2425680"/>
                    <a:ext cx="4503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68360" y="4560840"/>
            <a:ext cx="748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la expresión anterior se debe en parte al uso de valores efectivos en la definición de fas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791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0675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instantánea en un sistema trifásico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44" name="Rectangle 3"/>
          <p:cNvGraphicFramePr/>
          <p:nvPr/>
        </p:nvGraphicFramePr>
        <p:xfrm>
          <a:off x="971640" y="2276640"/>
          <a:ext cx="42861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42861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8360" y="2832120"/>
            <a:ext cx="685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sistema es equilibr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Rectangle 3"/>
          <p:cNvGraphicFramePr/>
          <p:nvPr/>
        </p:nvGraphicFramePr>
        <p:xfrm>
          <a:off x="698400" y="3429000"/>
          <a:ext cx="761688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429000"/>
                    <a:ext cx="76168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98400" y="4365720"/>
          <a:ext cx="841068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400" y="4365720"/>
                    <a:ext cx="84106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067200" y="5791320"/>
          <a:ext cx="22939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7200" y="5791320"/>
                    <a:ext cx="22939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8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activa es constante y genera trabajo neto no nulo en un cicl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 diferencia del caso monofásico, no tiene “componente reactiva”, pero existe componente reactiva en cada una de las fas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or un asunto de uniformidad, se asume que existe una potencia reactiva trifásica y 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3f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=3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f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potencia es esta si no “existe” la potencia reactiva trifásica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76720" y="4648320"/>
            <a:ext cx="2951280" cy="2020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360" y="946080"/>
            <a:ext cx="4075200" cy="3727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36680" y="4121280"/>
            <a:ext cx="903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4941720"/>
            <a:ext cx="2232000" cy="23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19280" y="5084640"/>
            <a:ext cx="237636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matemátic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general, en ingeniería podemos separar el estudio de los fenómenos e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égimen permanent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Un buen conocimiento del régimen permanente es necesario, ya que la mayor parte del tiempo los sistemas operan ahí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de cálculo simples, que permitan aprovechar el hecho de que d/dt=0 o que se tienen “sistemas harmónicos”, son muy necesari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f(t) en el intervalo [to,to+T], se define el valor medio cuadrático (RMS) com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2771640" y="2513160"/>
          <a:ext cx="2403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513160"/>
                    <a:ext cx="2403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68360" y="3521160"/>
            <a:ext cx="793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sinusoidal de amplitud A y período T=1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2489040" y="4025880"/>
          <a:ext cx="31845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9040" y="4025880"/>
                    <a:ext cx="31845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3440" y="4241880"/>
          <a:ext cx="4525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4241880"/>
                    <a:ext cx="452520" cy="712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199120" y="4818240"/>
            <a:ext cx="1533600" cy="679320"/>
            <a:chOff x="5199120" y="4818240"/>
            <a:chExt cx="1533600" cy="679320"/>
          </a:xfrm>
        </p:grpSpPr>
        <p:graphicFrame>
          <p:nvGraphicFramePr>
            <p:cNvPr id="62" name=""/>
            <p:cNvGraphicFramePr/>
            <p:nvPr/>
          </p:nvGraphicFramePr>
          <p:xfrm>
            <a:off x="5199120" y="5105520"/>
            <a:ext cx="1533600" cy="39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99120" y="5105520"/>
                      <a:ext cx="15336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 flipV="1">
              <a:off x="5775480" y="4818240"/>
              <a:ext cx="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5537160"/>
            <a:ext cx="793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lectricidad, a la amplitud se le llama “valor efectivo”. Lu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708360" y="5986440"/>
          <a:ext cx="116208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5986440"/>
                    <a:ext cx="1162080" cy="755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471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alcula la energía disipada por la resistencia del circuito en un cic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258920" y="3500280"/>
          <a:ext cx="53085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00280"/>
                    <a:ext cx="53085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Rectangle 3"/>
          <p:cNvGraphicFramePr/>
          <p:nvPr/>
        </p:nvGraphicFramePr>
        <p:xfrm>
          <a:off x="1238400" y="4581360"/>
          <a:ext cx="527184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0" y="4581360"/>
                    <a:ext cx="52718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40560" y="4670280"/>
          <a:ext cx="6681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0560" y="4670280"/>
                    <a:ext cx="668160" cy="71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6005520"/>
            <a:ext cx="8147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V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RMS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de la fuente alterna es el voltaje de una fuente continua que entrega la misma energía a la resistencia durante un cic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3600" y="2451240"/>
            <a:ext cx="100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11600" y="2306520"/>
            <a:ext cx="730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4680" y="2306520"/>
            <a:ext cx="14292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7600" y="2306520"/>
            <a:ext cx="14436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306520"/>
            <a:ext cx="712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3240" y="2451240"/>
            <a:ext cx="43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6680" y="2451240"/>
            <a:ext cx="0" cy="792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03240" y="3243240"/>
            <a:ext cx="1873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727360"/>
            <a:ext cx="216000" cy="237960"/>
          </a:xfrm>
          <a:custGeom>
            <a:avLst/>
            <a:gdLst/>
            <a:ahLst/>
            <a:rect l="l" t="t" r="r" b="b"/>
            <a:pathLst>
              <a:path w="136" h="150">
                <a:moveTo>
                  <a:pt x="0" y="98"/>
                </a:moveTo>
                <a:cubicBezTo>
                  <a:pt x="15" y="49"/>
                  <a:pt x="30" y="0"/>
                  <a:pt x="45" y="7"/>
                </a:cubicBezTo>
                <a:cubicBezTo>
                  <a:pt x="60" y="14"/>
                  <a:pt x="75" y="136"/>
                  <a:pt x="90" y="143"/>
                </a:cubicBezTo>
                <a:cubicBezTo>
                  <a:pt x="105" y="150"/>
                  <a:pt x="120" y="101"/>
                  <a:pt x="136" y="52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603520"/>
            <a:ext cx="503280" cy="50472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03600" y="3098520"/>
            <a:ext cx="0" cy="144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3600" y="2451240"/>
            <a:ext cx="0" cy="142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2708280"/>
          <a:ext cx="87156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708280"/>
                    <a:ext cx="8715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084720" y="5157360"/>
            <a:ext cx="860760" cy="735480"/>
            <a:chOff x="6084720" y="5157360"/>
            <a:chExt cx="860760" cy="735480"/>
          </a:xfrm>
        </p:grpSpPr>
        <p:graphicFrame>
          <p:nvGraphicFramePr>
            <p:cNvPr id="92" name=""/>
            <p:cNvGraphicFramePr/>
            <p:nvPr/>
          </p:nvGraphicFramePr>
          <p:xfrm>
            <a:off x="6084720" y="5500800"/>
            <a:ext cx="86076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84720" y="5500800"/>
                      <a:ext cx="860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 flipV="1">
              <a:off x="6443640" y="5157360"/>
              <a:ext cx="0" cy="35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6994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2916360" y="3351240"/>
          <a:ext cx="398448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351240"/>
                    <a:ext cx="39844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24000" y="823428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8000" y="2133360"/>
            <a:ext cx="3168720" cy="936720"/>
            <a:chOff x="1908000" y="2133360"/>
            <a:chExt cx="3168720" cy="936720"/>
          </a:xfrm>
        </p:grpSpPr>
        <p:sp>
          <p:nvSpPr>
            <p:cNvPr id="101" name=""/>
            <p:cNvSpPr/>
            <p:nvPr/>
          </p:nvSpPr>
          <p:spPr>
            <a:xfrm>
              <a:off x="3063960" y="2278080"/>
              <a:ext cx="100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071960" y="2133360"/>
              <a:ext cx="730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45040" y="2133720"/>
              <a:ext cx="14292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87960" y="2133360"/>
              <a:ext cx="14436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32320" y="2133720"/>
              <a:ext cx="712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2278080"/>
              <a:ext cx="433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932000" y="2278080"/>
              <a:ext cx="468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63600" y="3070080"/>
              <a:ext cx="1873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1040" y="2554200"/>
              <a:ext cx="216000" cy="23760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98"/>
                  </a:moveTo>
                  <a:cubicBezTo>
                    <a:pt x="15" y="49"/>
                    <a:pt x="30" y="0"/>
                    <a:pt x="45" y="7"/>
                  </a:cubicBezTo>
                  <a:cubicBezTo>
                    <a:pt x="60" y="14"/>
                    <a:pt x="75" y="136"/>
                    <a:pt x="90" y="143"/>
                  </a:cubicBezTo>
                  <a:cubicBezTo>
                    <a:pt x="105" y="150"/>
                    <a:pt x="120" y="101"/>
                    <a:pt x="136" y="52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9280" y="2430360"/>
              <a:ext cx="503280" cy="50436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063960" y="2925720"/>
              <a:ext cx="0" cy="144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63960" y="2278080"/>
              <a:ext cx="0" cy="142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908000" y="2535120"/>
            <a:ext cx="871560" cy="30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535120"/>
                      <a:ext cx="871560" cy="3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788000" y="2628720"/>
              <a:ext cx="288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763720"/>
              <a:ext cx="288720" cy="7272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46"/>
                  </a:moveTo>
                  <a:cubicBezTo>
                    <a:pt x="30" y="23"/>
                    <a:pt x="61" y="0"/>
                    <a:pt x="91" y="0"/>
                  </a:cubicBezTo>
                  <a:cubicBezTo>
                    <a:pt x="121" y="0"/>
                    <a:pt x="151" y="23"/>
                    <a:pt x="182" y="4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32360" y="2776320"/>
              <a:ext cx="0" cy="288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1403280" y="5300640"/>
          <a:ext cx="620100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300640"/>
                    <a:ext cx="620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47960" y="4272120"/>
          <a:ext cx="565308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7960" y="4272120"/>
                    <a:ext cx="56530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50920" y="3689280"/>
            <a:ext cx="3168720" cy="731520"/>
            <a:chOff x="250920" y="3689280"/>
            <a:chExt cx="3168720" cy="731520"/>
          </a:xfrm>
        </p:grpSpPr>
        <p:graphicFrame>
          <p:nvGraphicFramePr>
            <p:cNvPr id="123" name="Rectangle 3"/>
            <p:cNvGraphicFramePr/>
            <p:nvPr/>
          </p:nvGraphicFramePr>
          <p:xfrm>
            <a:off x="250920" y="3689280"/>
            <a:ext cx="222228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920" y="3689280"/>
                      <a:ext cx="22222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2556000" y="3728520"/>
              <a:ext cx="36036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3989880"/>
              <a:ext cx="935280" cy="430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075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sistemas de potencia, interesa mucho saber el comportamiento en régimen permanente sinusoidal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el caso del condensador, si t es “grande”, el término en </a:t>
            </a:r>
            <a:r>
              <a:rPr b="0" lang="es-CL" sz="1800" spc="-1" strike="noStrike">
                <a:solidFill>
                  <a:srgbClr val="006600"/>
                </a:solidFill>
                <a:latin typeface="Tahoma"/>
              </a:rPr>
              <a:t>verde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 (respuesta a entrada cero) desaparec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l término en </a:t>
            </a:r>
            <a:r>
              <a:rPr b="0" lang="es-CL" sz="1800" spc="-1" strike="noStrike">
                <a:solidFill>
                  <a:srgbClr val="ff0000"/>
                </a:solidFill>
                <a:latin typeface="Tahoma"/>
              </a:rPr>
              <a:t>rojo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, en el dominio del tiempo, tiene una componente transiente y otra harmónic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Por lo tanto, sería conveniente contar con una herramienta que permita calcular la respuesta de régimen permanente, despreciando los términos 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29" name="Rectangle 3"/>
          <p:cNvGraphicFramePr/>
          <p:nvPr/>
        </p:nvGraphicFramePr>
        <p:xfrm>
          <a:off x="900000" y="2060640"/>
          <a:ext cx="68803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68803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1868400" y="3406680"/>
          <a:ext cx="426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406680"/>
                    <a:ext cx="4264200" cy="381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631880" y="1974960"/>
          <a:ext cx="48340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974960"/>
                    <a:ext cx="4834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8680" y="438948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una ecuación diferencial, si la función “forzante” es de frecuencia angular </a:t>
            </a: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, las soluciones de estado estable tambié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ransformada fasorial de una función (o fasor) es única para todo t. También se puede ver que es lin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factor e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ahoma"/>
              </a:rPr>
              <a:t>j</a:t>
            </a:r>
            <a:r>
              <a:rPr b="1" lang="el-GR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ω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está siempre presente, razón por la cual suele omitirse. Lo mismo ocurre con el factor raíz de 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1619280" y="1557360"/>
          <a:ext cx="21733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557360"/>
                    <a:ext cx="217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2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Transformada de la derivad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1908000" y="2205000"/>
          <a:ext cx="52405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524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719440" y="5734080"/>
          <a:ext cx="30304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5734080"/>
                    <a:ext cx="30304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Rectangle 3"/>
          <p:cNvGraphicFramePr/>
          <p:nvPr/>
        </p:nvGraphicFramePr>
        <p:xfrm>
          <a:off x="4579920" y="2978280"/>
          <a:ext cx="33512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9920" y="2978280"/>
                    <a:ext cx="33512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8640" y="4221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Tahoma"/>
              </a:rPr>
              <a:t>La derivada “giró” al fasor en 90° y lo multiplicó por 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En términos prácticos, el operador derivada se reemplaza por el operador j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Se propone demostra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18080" y="3738600"/>
          <a:ext cx="205092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080" y="3738600"/>
                    <a:ext cx="2050920" cy="4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547640" y="2852280"/>
            <a:ext cx="3095640" cy="1057680"/>
            <a:chOff x="1547640" y="2852280"/>
            <a:chExt cx="3095640" cy="1057680"/>
          </a:xfrm>
        </p:grpSpPr>
        <p:graphicFrame>
          <p:nvGraphicFramePr>
            <p:cNvPr id="151" name="Rectangle 3"/>
            <p:cNvGraphicFramePr/>
            <p:nvPr/>
          </p:nvGraphicFramePr>
          <p:xfrm>
            <a:off x="1547640" y="3500280"/>
            <a:ext cx="1957680" cy="40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2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3500280"/>
                      <a:ext cx="19576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V="1">
              <a:off x="3492360" y="3357720"/>
              <a:ext cx="100836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419640" y="2852280"/>
              <a:ext cx="1223640" cy="792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54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Volviendo a nuestro ejemp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57" name="Rectangle 3"/>
          <p:cNvGraphicFramePr/>
          <p:nvPr/>
        </p:nvGraphicFramePr>
        <p:xfrm>
          <a:off x="1882800" y="2360520"/>
          <a:ext cx="3981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2360520"/>
                    <a:ext cx="3981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Rectangle 3"/>
          <p:cNvGraphicFramePr/>
          <p:nvPr/>
        </p:nvGraphicFramePr>
        <p:xfrm>
          <a:off x="3071880" y="3224160"/>
          <a:ext cx="3452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3224160"/>
                    <a:ext cx="3452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463840" y="3809880"/>
          <a:ext cx="235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3809880"/>
                    <a:ext cx="235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995480" y="5300640"/>
          <a:ext cx="4835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300640"/>
                    <a:ext cx="4835520" cy="812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2000" y="4264200"/>
          <a:ext cx="3473280" cy="81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2000" y="4264200"/>
                    <a:ext cx="34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16T19:12:05Z</dcterms:modified>
  <cp:revision>50</cp:revision>
  <dc:subject/>
  <dc:title>Diapositiva 1</dc:title>
</cp:coreProperties>
</file>