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43FC-ED1E-44B4-8F9E-0C7C3FF276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57A7-F37D-431A-96F5-582A887B92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1C21008B-402E-435C-84EE-D6D75059C485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9EBD-6619-46F8-9A1D-DFD74C3AAC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9068-A2BD-4BFC-8113-E2DA9C5892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6F24-251B-42C7-80A9-C6D28F5A18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1F29-E70D-4B52-A771-4FC66F5654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6489-5ED1-47F6-8971-9D575FCB72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9306-BCBC-408B-93CA-A0628A93FF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F4AF-4572-4DDD-860F-9A5F09DC25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9743-D691-4A7D-8A4A-147BA3CC90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154E-2DE7-4FCC-920A-3EC79135DD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A49-3F0E-499F-AC85-D1BA2DA8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B30-3D43-4142-8871-08289BF5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BFE82-616F-44FC-9DB8-8595E797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ED359-9974-46CF-8B99-E190DA9C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2729F-1FFB-4DC7-94FC-D090A02F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C6A0C-BC5E-4E6D-88C8-89E56056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0DDF3-8D18-474F-9A56-3F747CE1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33FB4-3338-40B8-86F0-B5C40C5D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715DF-D6A8-4B08-9225-233AD9A2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29268-9B15-4FB1-95A5-40D384D8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AE477-7FD2-460F-8B41-9DB43C14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D5669-F115-43EC-9E56-A096AE24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B68-C71B-4E3B-B9F0-E86A671D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CBA7B-A837-47B2-A09E-D3C892C3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B8A92-9FDF-456D-8684-E7C58670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7AEDC-C801-4848-A737-95C17F99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05EDC-297E-4400-B6FA-FF361FA5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68D04-14EB-4DC2-BD0C-613F199C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5C470-E0B2-4617-86BD-8B41287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BE1FB-4930-4548-A568-F871B62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40B20-43E8-4FB8-88C4-A73755D7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B7DED-36EC-4F10-B9F0-44290FFB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709B0-F7B9-4424-B6B1-C8460028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601-89B8-41AB-95A1-D083C188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98029-C054-4E80-8417-BDC0D8C7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452EF-5D17-40AC-9066-DAC4B098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C0687-3FB5-42BA-AFC2-AF22B8EE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9BB46-D023-40FA-B114-2F605009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74E90-56EB-4A1F-AA20-FC243E25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1E2F1-367C-4531-B231-C4B87E84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E2040-8A08-4712-92B2-F9CE1880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9EA7E-AF1C-4029-9598-A5785251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7C122-3482-4EC5-996C-29143DB5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DDB35-A4C7-4DD8-8EFA-1C6359F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D0BB-2D34-48DE-AAE0-9396DDB2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360A2-2E2C-4F62-B4D2-598244E0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71CF3-FC09-415C-B111-3A8D1048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40D62-217C-449A-9B69-49EA9D3C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0485D-314D-4486-B043-C631CB58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7D1C5-6081-4D84-BFEA-7F6C33ED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59300-93B8-4171-8547-1CEE5F86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3B7FB-7931-4610-BE7D-0F3155E6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699CC-F068-43B4-8A45-0419CF65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390C6-3C89-44D5-9618-9AE1B992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FE124-4257-4433-B683-4BC041E0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F062-D2C6-44FA-ACB3-2170DB86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26955-6245-4516-B82D-9A4B714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874B0-B6B5-4AEF-B53B-6C5B2474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7030F-3392-4ABE-A67F-CF02FDFC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8C888-6A96-47A7-8FBB-CA946D2F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CEE99-8171-48BE-B1CE-0A534658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A7829-77C7-495A-96DB-1A8271DF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2E2D7-FD0A-4D12-8566-A5E71B65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A019A-5806-4784-8E78-57E8ECF2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0FE98-73F6-411B-8EF7-30143EF8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0845E-1376-4047-B599-7CFE8F6D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D3E2-FCF4-4B51-9BD2-8296A1AA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85DE3-5D2F-4618-B9E6-D3D54085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A40A3-D8F5-4252-B5BC-8E2B39BF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7DA81-2B6C-4088-A4DB-B7704B37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5B7F9-5248-4A45-8A80-74276012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D46AC-E295-4D7B-901D-9A896C76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7A4BB-8D3E-47C7-9B19-2FA60A3D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B2736-BC7D-450F-9FF2-D03673CC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EA4C-9E11-4AB9-B5E1-61793A54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D5E0-B02E-47A9-BC86-403AF035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F295-2634-44EA-80C9-8E1BB3F8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65F4-0841-40BF-9B59-11F01CC5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5DB-5F6B-4718-A966-95576508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8D78-0544-4153-84E8-729F224F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1BD5-DA51-4658-B5BC-9A82C82D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AE98-D788-4F24-A97F-FF0C8D25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0E25-9114-4505-AABC-7159B5EA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5CD1-41B3-4DBE-9133-819FE94B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47E6-6559-44FA-B1D6-8E4839E6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9CFB-DB05-4CD3-9A6D-F21788D8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FBAC-A669-4545-9D80-9132A8F3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5EB9-F637-439F-9C84-EBA67FAF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C144-D9A6-4E94-AD6F-BC1EF587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776-9E1F-4C51-AB5E-CB32DD97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F9E9-241B-4A5B-BD68-A99AA209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D2CA7-3610-466F-9741-DBDE4DC1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E3BC-F1D0-44D4-8027-C1883E43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F912-AA4C-4D07-AF6D-B7CAE599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648E-23A2-4978-A87C-8DF298D2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EA18-016B-47FF-9FA8-8847F761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F391-74D1-46E5-9E20-81CB96A8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4F5B-957C-4059-8E40-C1DE64B5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D9030-7274-45A7-9E80-4464457D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6FB7-91B3-4C0C-9C6C-5C41D78E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B34-1AC7-45E4-AA0C-C2F3DD61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8D62E-CB6A-4B35-BE29-0C0452BE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ED63-A375-4F78-9624-35EF566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6F7B-C75C-4D0B-B9BD-FF709C0B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AD33-62B0-442B-84F3-55DD5528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50C3B-7BA1-4AE7-9D2A-8EDD4A0B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BA99-BF79-4040-BE83-4F07FB9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0D5D2-50F9-40E0-B58C-F60BD822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1619-C647-4C4B-83DF-035A57C5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0F85-DF62-4AAA-85F0-576D7D40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7C599-3020-44C5-ADF8-0DE610A9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373-48D5-4CEE-A943-3A9D13B8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723F6-FA9C-463A-ABAA-DE83AB74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A03EF-BE37-477A-B367-BE6DA71E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8507-6D25-46BB-9CB9-66BD11AD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7D085-5849-43BA-9241-30F7F173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0771-C49E-46B4-8B32-91ED1F93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00ADB-F408-4204-BE95-F9699885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93289-E3E4-4750-98D3-F79B885F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31A9E-BE6A-48AF-B300-4919455D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ED31D-CE65-4430-BA0C-0DA84F9C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DEA4-3DC7-4256-B79E-3D403B82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30E-BDF4-4CEB-85B2-A00B294D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C7A4D-4137-4771-A21A-D18CC47A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FFD58-DC8F-4217-91F0-61A7F63C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D1523-9BAB-4EE3-ACE2-D6856D34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00E6C-DA80-4894-884C-54EC141B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A4CBE-8E11-46AF-AF43-09AB0571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1F8AA-6B73-4CA1-9FE5-B59C3EDA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3AABE-28D8-4505-A0D7-3471A158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E2508-19AF-45FC-A2ED-9B20272C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0B55-73C1-4873-953A-FDD24494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74BDC-C70D-4A6C-A3A1-A15C328C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A9E-431A-4BE6-A50F-09A2865F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83FF3-DAF2-43AD-B366-8E590C9D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4F944-4518-4A36-B876-075F2138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FB89F-4900-4955-8016-98D1B5B0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48D19-EB02-480A-A49B-B3701252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283BF-4131-483B-AAD6-602189D5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08728-F69D-4AAD-A65A-35E8BEB2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16A9-13BB-4FE4-89A4-1E20B7B7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7DB57-B4D9-48E0-8C9C-B163609C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AFD23-8014-4BB4-A854-BCAB9B41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0E0DD-7B40-40F2-B25D-80BF57DB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743-26AF-4C71-92CD-069E6112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7C998-3FC9-41F3-AD61-725C6F30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2A255-0181-48EF-AE6B-4D144904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B7712-E07D-4814-9216-15AA113D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D890F-8E1D-464A-A327-4EBE5C28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8BA82-C25B-49DB-930A-2CF1ABAA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65D78-81AA-455D-96FB-FE1F3953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2EB22-6AEC-4FAB-A55F-AA98FEAC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B8C04-7831-4100-A3EE-AEE66A08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3BCBF-9D8A-4946-B8EC-6B458522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2A614-9BD5-4161-88CB-A1A2FEAC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9DB-6A1C-4DBF-87E0-36FB2D10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ADEA5-1C1A-41ED-8D02-D05D7D1E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43FF1-87E2-44F8-B970-97A04689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BE6DE-983E-40B3-A5FD-A8535B54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CDBA7-3A37-4B28-AEBE-BE1CE57D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9A41E-FD5D-43FD-AF53-26F5A36A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6DFE1-092D-41E0-9E56-0DDBADCC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A8CED-CA9F-47EB-906D-635269A0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FADB1-C83B-4E0F-BC6C-3E8E96F4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0BA58-E138-4530-8830-8612DFD5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2A67D-0388-4F66-AEA6-19DB7215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3695-98C1-4A93-98E6-111359C278B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EEAB-C3C3-4687-8EA6-0DE04A01B0C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00D9-ABB9-4DEA-87D0-8A093CA89BD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7DB1-1266-418A-9C39-03D501CE90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2EBD-54E5-4856-ACA8-FE2E9B7B5A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2BB6-E7A9-4182-ABCF-303C956AEBE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B076-D1A3-414E-BD0F-74986D910E9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DF25-4198-4E9F-A357-806A866091C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BA88-7684-4BBE-B73E-FD3035AFC9A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1806-CA73-44F4-9B20-F3B44368D01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7AA0-60B8-4AAF-B889-7B1E19BCF8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21E8-2573-480E-9F89-0A8CFEB6FD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D8C0-EA00-4F87-8305-8944910F97A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284720" y="5300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28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ar escalas adecuadas (logarítmica, semi-logarítmic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ás ejemplos ver capítulo 9 lib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76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CuadroTexto"/>
          <p:cNvSpPr/>
          <p:nvPr/>
        </p:nvSpPr>
        <p:spPr>
          <a:xfrm>
            <a:off x="3018240" y="142884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ficando (ejes linea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2"/>
          <a:stretch/>
        </p:blipFill>
        <p:spPr>
          <a:xfrm>
            <a:off x="2857680" y="1785960"/>
            <a:ext cx="5795640" cy="40719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3956400" y="600084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iera que hay datos “anómalos” al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2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5 CuadroTexto"/>
          <p:cNvSpPr/>
          <p:nvPr/>
        </p:nvSpPr>
        <p:spPr>
          <a:xfrm>
            <a:off x="3027240" y="142884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amos algunos datos y graficamos otra ve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7 CuadroTexto"/>
          <p:cNvSpPr/>
          <p:nvPr/>
        </p:nvSpPr>
        <p:spPr>
          <a:xfrm>
            <a:off x="3938400" y="600084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”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2571840" y="1785960"/>
            <a:ext cx="5929200" cy="4165560"/>
          </a:xfrm>
          <a:prstGeom prst="rect">
            <a:avLst/>
          </a:prstGeom>
          <a:ln w="0">
            <a:noFill/>
          </a:ln>
        </p:spPr>
      </p:pic>
      <p:sp>
        <p:nvSpPr>
          <p:cNvPr id="586" name="9 Rectángulo redondeado"/>
          <p:cNvSpPr/>
          <p:nvPr/>
        </p:nvSpPr>
        <p:spPr>
          <a:xfrm>
            <a:off x="428760" y="1785960"/>
            <a:ext cx="2143080" cy="2571840"/>
          </a:xfrm>
          <a:custGeom>
            <a:avLst/>
            <a:gdLst>
              <a:gd name="textAreaLeft" fmla="*/ 141480 w 2143080"/>
              <a:gd name="textAreaRight" fmla="*/ 2001600 w 2143080"/>
              <a:gd name="textAreaTop" fmla="*/ 141480 h 2571840"/>
              <a:gd name="textAreaBottom" fmla="*/ 2430360 h 2571840"/>
            </a:gdLst>
            <a:ahLst/>
            <a:rect l="textAreaLeft" t="textAreaTop" r="textAreaRight" b="textAreaBottom"/>
            <a:pathLst>
              <a:path w="21600" h="25921">
                <a:moveTo>
                  <a:pt x="4880" y="0"/>
                </a:moveTo>
                <a:arcTo wR="4880" hR="4880" stAng="16200000" swAng="-5400000"/>
                <a:lnTo>
                  <a:pt x="0" y="21041"/>
                </a:lnTo>
                <a:arcTo wR="4880" hR="4880" stAng="10800000" swAng="-5400000"/>
                <a:lnTo>
                  <a:pt x="16720" y="25921"/>
                </a:lnTo>
                <a:arcTo wR="4880" hR="4880" stAng="5400000" swAng="-5400000"/>
                <a:lnTo>
                  <a:pt x="21600" y="4880"/>
                </a:lnTo>
                <a:arcTo wR="4880" hR="4880" stAng="0" swAng="-5400000"/>
                <a:close/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9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CuadroTexto"/>
          <p:cNvSpPr/>
          <p:nvPr/>
        </p:nvSpPr>
        <p:spPr>
          <a:xfrm>
            <a:off x="3020760" y="142884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mos curva de t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7 CuadroTexto"/>
          <p:cNvSpPr/>
          <p:nvPr/>
        </p:nvSpPr>
        <p:spPr>
          <a:xfrm>
            <a:off x="3950280" y="60008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sta” tiene buena 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2"/>
          <a:stretch/>
        </p:blipFill>
        <p:spPr>
          <a:xfrm>
            <a:off x="2579760" y="1768320"/>
            <a:ext cx="5921280" cy="416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95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5 CuadroTexto"/>
          <p:cNvSpPr/>
          <p:nvPr/>
        </p:nvSpPr>
        <p:spPr>
          <a:xfrm>
            <a:off x="3098160" y="142884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si graficamos en escala semi-logarítmica (en eje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 CuadroTexto"/>
          <p:cNvSpPr/>
          <p:nvPr/>
        </p:nvSpPr>
        <p:spPr>
          <a:xfrm>
            <a:off x="3937680" y="60008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2754360" y="1857240"/>
            <a:ext cx="596088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601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5 CuadroTexto"/>
          <p:cNvSpPr/>
          <p:nvPr/>
        </p:nvSpPr>
        <p:spPr>
          <a:xfrm>
            <a:off x="3036240" y="1428840"/>
            <a:ext cx="58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ndo línea de tendencia exponencial, obten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con la que se originaron los 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3071880" y="2071800"/>
            <a:ext cx="5000400" cy="3512880"/>
          </a:xfrm>
          <a:prstGeom prst="rect">
            <a:avLst/>
          </a:prstGeom>
          <a:ln w="0">
            <a:noFill/>
          </a:ln>
        </p:spPr>
      </p:pic>
      <p:sp>
        <p:nvSpPr>
          <p:cNvPr id="604" name="8 CuadroTexto"/>
          <p:cNvSpPr/>
          <p:nvPr/>
        </p:nvSpPr>
        <p:spPr>
          <a:xfrm>
            <a:off x="1785960" y="5643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en general para datos con la forma y=a·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9 CuadroTexto"/>
          <p:cNvSpPr/>
          <p:nvPr/>
        </p:nvSpPr>
        <p:spPr>
          <a:xfrm>
            <a:off x="1857240" y="6211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la log-log es aplicar esto a ambos ejes y funciona con datos de la forma y=a·x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log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9 CuadroTexto"/>
          <p:cNvSpPr/>
          <p:nvPr/>
        </p:nvSpPr>
        <p:spPr>
          <a:xfrm>
            <a:off x="857160" y="164304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cala log-log es análogo a lo anterior pero aplicando escala logarítmica a ambos ejes y funciona con datos de la forma y=a·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568296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Cap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238572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e muy importante en un proyecto→ no descui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vertir” tiempo en comunicar correc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r l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al lector pensar en sustancia más que en metodología o en diseño grá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orsionar  el mensaje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imular al ojo para que compare distintas partes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velar niveles de información, desde una mirada general a una f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ner un propósito claro (por ejemplo descripción, comparación, explo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grarlo con otras descripciones de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tribucione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chone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857240" y="2428920"/>
            <a:ext cx="64994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37760" cy="4143600"/>
          </a:xfrm>
          <a:prstGeom prst="rect">
            <a:avLst/>
          </a:prstGeom>
          <a:ln w="0">
            <a:noFill/>
          </a:ln>
        </p:spPr>
      </p:pic>
      <p:sp>
        <p:nvSpPr>
          <p:cNvPr id="556" name="1 Título"/>
          <p:cNvSpPr/>
          <p:nvPr/>
        </p:nvSpPr>
        <p:spPr>
          <a:xfrm>
            <a:off x="428760" y="14292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stribuciones  Comparadas de 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43040" y="5572080"/>
            <a:ext cx="7143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Comparación distribución en la educación media y en Ingeniería de la U.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ción de Valores para Distintas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0" y="2786040"/>
            <a:ext cx="4519440" cy="2714760"/>
          </a:xfrm>
          <a:prstGeom prst="rect">
            <a:avLst/>
          </a:prstGeom>
          <a:ln w="0">
            <a:noFill/>
          </a:ln>
        </p:spPr>
      </p:pic>
      <p:sp>
        <p:nvSpPr>
          <p:cNvPr id="560" name="6 CuadroTexto"/>
          <p:cNvSpPr/>
          <p:nvPr/>
        </p:nvSpPr>
        <p:spPr>
          <a:xfrm>
            <a:off x="5940360" y="20001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jo con escala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2"/>
          <a:stretch/>
        </p:blipFill>
        <p:spPr>
          <a:xfrm>
            <a:off x="4549680" y="2786040"/>
            <a:ext cx="4594320" cy="27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2714760" y="1785960"/>
            <a:ext cx="6373800" cy="38368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ries de Tiempo (Tendenci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2270160" cy="4078080"/>
          </a:xfrm>
          <a:prstGeom prst="rect">
            <a:avLst/>
          </a:prstGeom>
          <a:ln w="0">
            <a:noFill/>
          </a:ln>
        </p:spPr>
      </p:pic>
      <p:sp>
        <p:nvSpPr>
          <p:cNvPr id="565" name="8 CuadroTexto"/>
          <p:cNvSpPr/>
          <p:nvPr/>
        </p:nvSpPr>
        <p:spPr>
          <a:xfrm>
            <a:off x="3435120" y="57024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9 Flecha doblada hacia arriba"/>
          <p:cNvSpPr/>
          <p:nvPr/>
        </p:nvSpPr>
        <p:spPr>
          <a:xfrm>
            <a:off x="4857840" y="3071880"/>
            <a:ext cx="428400" cy="2857320"/>
          </a:xfrm>
          <a:custGeom>
            <a:avLst/>
            <a:gdLst>
              <a:gd name="textAreaLeft" fmla="*/ 0 w 428400"/>
              <a:gd name="textAreaRight" fmla="*/ 349560 w 42840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0 CuadroTexto"/>
          <p:cNvSpPr/>
          <p:nvPr/>
        </p:nvSpPr>
        <p:spPr>
          <a:xfrm>
            <a:off x="5292360" y="6202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11 Flecha doblada hacia arriba"/>
          <p:cNvSpPr/>
          <p:nvPr/>
        </p:nvSpPr>
        <p:spPr>
          <a:xfrm>
            <a:off x="6715080" y="3571920"/>
            <a:ext cx="428760" cy="2857320"/>
          </a:xfrm>
          <a:custGeom>
            <a:avLst/>
            <a:gdLst>
              <a:gd name="textAreaLeft" fmla="*/ 0 w 428760"/>
              <a:gd name="textAreaRight" fmla="*/ 349920 w 42876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r Datos Experimentales y Te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6088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 SBJ</cp:lastModifiedBy>
  <dcterms:modified xsi:type="dcterms:W3CDTF">2011-11-14T12:06:49Z</dcterms:modified>
  <cp:revision>29</cp:revision>
  <dc:subject/>
  <dc:title>Diapositiva 1</dc:title>
</cp:coreProperties>
</file>