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ED74-9260-4B67-8048-A4BFCAE513A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9947-CAAB-4516-B7B2-A742D7FE098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3 Marcador de número de diapositiva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fld id="{D388AF5C-C4E6-456C-9071-90FFCC6E6ACE}" type="slidenum">
              <a:rPr b="0" lang="es-CL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4 Marcador de fecha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13/05/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5 Marcador de pie de página"/>
          <p:cNvSpPr/>
          <p:nvPr/>
        </p:nvSpPr>
        <p:spPr>
          <a:xfrm>
            <a:off x="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b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EI1101 Introducción a la Ingeniería 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6 Marcador de encabezado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4640" bIns="44640" anchor="t">
            <a:no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Arial"/>
              </a:rPr>
              <a:t>Semestre 2009-1 clase 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E6AC-0AF0-458F-9577-F6F02428F9B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E3DA-FDE2-4D51-A42A-66DE022174B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8C59-AFCC-49FE-99D4-FD3689A15E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62F0-B6BD-447B-A269-DC9691F32C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3983-0464-4027-8FD2-1B6CBDBF61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2E56-8494-4301-AD5A-08D4E43834D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A5DA-6F92-40BC-8877-B855B3886E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0DB47-A5CE-4E0A-8E78-F55969C2E11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24FC-F2D5-4C2C-9A8F-E94F7A2841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4D1-BF4D-49D4-941C-523238F28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722-0525-41AA-B846-2FBF4513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323F8-6E5C-40F3-82F3-BCDFFD7D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CF190-2EDB-45DD-AF60-DAEBA5A3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F084C-A95E-4EBA-BF89-C23B9459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07277-9187-4951-B687-EFDC1C4B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521DF-26DC-43DA-B177-1470E50F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5A1823-226E-47FC-9F2C-9F56D550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8E68A-803A-4B3C-AD9A-AB12B859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6DD7CD-CE03-4FA2-9B3A-76F75A30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C27EB-8734-4EC9-AB1B-8F331A23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AE84E2-3C98-4369-A2A5-2876AAE3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19B2-273A-4D7E-B8F3-60D4D748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925D1-CB4D-4A11-B4F9-83E12518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2817E-B058-41A8-8C2D-81021EC6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3B20E-0C81-4B3E-91F8-943316C4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24827-DA75-4850-846C-980A14A6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26EDE-8FFE-421F-9A40-98670637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20CF4-7066-4BCD-B937-9CDD0025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1523D-D17E-4D74-8983-03BE665DE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F1068-BDAF-4D13-8E81-960D9CA1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6EB49-AB8E-4490-85FF-B53B7F31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2F4831-1BF1-4A94-8D88-E1980409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867-25BD-448F-8138-680534CF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33FA2F-0620-46F1-AFE7-1EFBD184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0ED4F-6A9A-4013-93B0-09052B87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85F22-6DF8-44E3-9616-5632F3C6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1C1C5-EE42-4031-A82D-B1EA4AE0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F88AF1-FC64-4131-BF0F-B50B8608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FE64C-C657-4B9A-8D7B-11C14F75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84C8E-11F3-4D8D-94DB-BD505D3E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B3539-26E4-4045-AAE4-966F8BA2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E5AE4-BA56-4BE0-8350-5C746DCD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71CFA-FA6E-4D1D-BDC6-2CF6147F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31CA-DBBF-4ACF-AA78-F163A20B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D0A62-BF58-4BCF-A192-9C05ED28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2646E-57A7-4662-9416-22014703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0E60C-0C3F-4D07-9350-70DCC711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7E75ED-5377-4E01-B8CF-37442DB5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0B9DA-7B57-4927-B30D-42C660C0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9F5EE-6683-4ACC-A231-B235E1BB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3994B-5321-4CA9-A3BD-0E3805D6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135683-6C47-46C2-8C92-94A06999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498DD-E27D-4D72-84D6-6A0604F6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88564-B8A8-40CE-9C5B-ED8818AB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7F04-E47F-49BB-AC13-A5F47A42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DEBD6-4CF9-406F-B47F-3C52CA2D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B2652-1870-4A70-9B01-8AC5E8F5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8264C-BB8C-49A6-AE19-296BABE7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E85D5-0264-4383-9782-9D08434F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0DFEA-B03D-4C77-BE3C-292F20BA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60A96F-51E5-432B-A059-06AE8BD5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E13B4-730B-40A1-8B08-E399F89F1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EF8D4-D907-4460-85C6-B12C9B47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4BCCD-2D3C-41E6-80AE-EC6F5C53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CC0D6-FC4C-4067-B17D-7369D7E9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E8C6-4A6F-4CB8-A457-B91747A3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23B07-23B0-49EC-A8FB-660658F8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DDD05A-26B8-4008-9B54-DDE1B843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3C536B-A58C-456C-A43D-E98382D8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C6DB5-FEB4-4EE7-8B65-81F8259B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32192-20AC-4E86-AFFD-82C48A38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B3C54-6CD2-49AB-98DF-7E6F6D16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4B382-BC6A-49BC-83EB-835E788A0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D174-7045-411B-8CA5-53BFF8BC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B79F-9646-442B-A543-58CFD358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45F3-DC57-4B8D-B0E0-0058C555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5658-6802-4DCA-BA97-917AC319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B991-A50C-4C63-B47D-0B6451DB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EEE0-16EC-4591-95CF-F2F39AF7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B674-12EC-4266-925D-69BBDDF7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589F-6DE7-467C-87C3-14580358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8049-2C2D-4B19-8215-E6DB7DFA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C603-356A-458D-9920-797ABAFB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DA6E0-62F1-420C-ADD3-35EEC194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D1E16-1F8A-4D02-94ED-438F0042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137BF-5F8E-4499-A615-6BE9562D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787A-A422-4ABE-A3E6-A9CAEEFE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BB7B6-F0EA-4D41-A843-5E72C190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4D5-CE58-43CC-B50F-1D897468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260D-B239-43E2-B4B1-F2F0DBDA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A7646-F410-422C-87D1-D9E9DDB6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B2FC5-FF42-422E-BEF7-8A2D4DB1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3D168-E60B-4D1D-B125-24760AD1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3F9E-5CFC-4A8C-BFD2-6B028EC9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E0AA-5BA6-4C08-BD67-102703B0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ACCA7-206D-46D7-82DD-E7B24C02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57D0D-7623-4E9D-B6C4-1E67733E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0CFB2-2187-4C1E-AAAE-95BE86F1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32424-F903-4874-BFB4-7072C2D0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182-EB85-401F-8A83-ACC5CB66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5048-5D20-487D-A717-DA0603D7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C169F-F4C1-422C-9AE0-11EF7197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44452-E463-40C8-AB34-70EA25F8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9AAA2-90ED-4F77-AAD2-D52BD3D1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A85CD-A490-412C-83DC-B29B0C8F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6094F-FB26-4ADD-B9BE-1F8569BE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D981C-84B6-4030-B00C-C6A3F363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A0A43-5B20-4CD5-B642-251E03DC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AE978-4DA5-4E30-95B0-FC2BAF4C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4B8E3-5FF4-43C5-91A6-B54B98F3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3A0-6797-4480-A655-3CB7E71B9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5EA8E-26D4-4DBD-89FC-D262884F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070D5-EDC5-4726-8AF7-EE7F7A40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F9792-2E6C-489C-A975-91D95C26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0BABD-F04F-474A-A566-BAFE25F1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58563-D1FC-4E39-BE58-6CA2D5E0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8D380-A3A6-47F4-93C0-52F4304E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32C49-F173-4AFC-B10C-1EBAE109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D487C-415C-42F3-A910-D949DC65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64019-7674-4F09-94E6-41869AD4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CCF94-7EDF-443D-94E1-0755B0AE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41B1-F184-4E82-93DA-EA301100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6A02B-7F90-4D9F-A635-0792E230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C967E-B5A2-490D-A1EE-1E986818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61230-76F1-43EA-AC5D-90F19444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33652-A5CF-4C25-9ABA-E99D8EE3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C0E7B-256C-499A-9CBB-6DD62F6C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867F1-58B9-40F7-BED0-7F3521C0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D97F1-9128-44DC-96F8-8EF7E1E2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B0CD3-8DC3-4130-8D25-C9BA360D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327E3-ACD9-467C-8D49-C4D2C3BF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EDBBB-95EE-4B11-B16F-F69D469BF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C0E-CDFA-4CDD-906C-2DBD942E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EFA90-D194-4052-9BE1-2DCF4E3F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38219-6F63-4CA6-B5DD-3BCE9ED2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37DA3-BFD3-4517-88E8-68D629B7D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EA051-DCC0-4608-8F53-D93A02DE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472B5-2944-451A-8199-A58F1497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5D25E-A07E-4661-8316-8A552102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5D3E3-8F89-4DC0-A9AD-BAB386BA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CDBF0-5A1E-4E70-90BA-E4CE534F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E6BC3-1D68-4789-A34D-88DDB8D43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58401-7402-47B9-AFEA-229D8242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B51-7137-430F-8967-C9CEB2E2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BD544-ACF7-4F8D-9DCA-427CBD66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7D352-AA8A-4F27-9116-2726C4AC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756AD-F343-4EED-ADCB-365E6D75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9D2B7-ABF5-4619-A455-FC52E49B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55C02-3F4F-49D8-8E4D-1B7DC39E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77DCC-E96E-4F08-9D16-E9F7B0D1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3F020-7835-4841-BC20-6F6E2EA0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19886-EDDB-43C8-B3CB-1A608A25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6D04A-F626-4292-AA2E-59B44E46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CFA56-A09F-4EDE-9E83-0B439D74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40D-DDFC-4AD9-B060-7954F4B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BCE12-302B-4376-80DD-102848D7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597E8-4722-42EB-A332-3C26C61F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268A4-A22D-48F2-973B-6F6B0598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5DB96-1A9B-4150-AEB9-A3891A75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661E5-4E8F-404A-BC64-2FAA7E82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0612D-1834-45D7-9FAE-362898850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7FDF5-517E-4E72-90B9-CB917B97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F2A16-66AF-41F3-BFA8-A4C6766B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C3215-6430-47BE-A413-33689538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11F1B-D775-4A66-956B-120F5AF4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03C0-3981-4A66-9AD3-492F1797E88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F78B-5E53-4129-BF1F-6423B582C81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CA42-DEC5-458C-B9BA-BF8D4931342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0C1B-E645-4980-B534-B78EB66BD8F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10C7-4770-4780-8515-4D9442380CF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6D58-E8FB-4BCF-B9F4-0EE99D78D29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0784-4F5D-4386-9080-40DED2FAE35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8AB0-2CE6-4889-B194-A029B5A7D6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DCFA-37E9-4057-9C8B-4B0C659DB50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CFD2-660A-4693-AC18-CB98D38C56E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E8B7-EF16-422D-ADDB-6B77AAE3954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2333-D0E1-4318-95CD-0DC67EE20B6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8EE67-7B7C-4A63-B741-33ED452438A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4284720" y="5300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287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ar escalas adecuadas (logarítmica, semi-logarítmic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ás ejemplos ver capítulo 9 lib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76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CuadroTexto"/>
          <p:cNvSpPr/>
          <p:nvPr/>
        </p:nvSpPr>
        <p:spPr>
          <a:xfrm>
            <a:off x="3018240" y="142884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ficando (ejes lineale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2"/>
          <a:stretch/>
        </p:blipFill>
        <p:spPr>
          <a:xfrm>
            <a:off x="2857680" y="1785960"/>
            <a:ext cx="5795640" cy="4071960"/>
          </a:xfrm>
          <a:prstGeom prst="rect">
            <a:avLst/>
          </a:prstGeom>
          <a:ln w="0">
            <a:noFill/>
          </a:ln>
        </p:spPr>
      </p:pic>
      <p:sp>
        <p:nvSpPr>
          <p:cNvPr id="579" name="7 CuadroTexto"/>
          <p:cNvSpPr/>
          <p:nvPr/>
        </p:nvSpPr>
        <p:spPr>
          <a:xfrm>
            <a:off x="3956400" y="6000840"/>
            <a:ext cx="457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iera que hay datos “anómalos” al f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2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5 CuadroTexto"/>
          <p:cNvSpPr/>
          <p:nvPr/>
        </p:nvSpPr>
        <p:spPr>
          <a:xfrm>
            <a:off x="3027240" y="1428840"/>
            <a:ext cx="49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amos algunos datos y graficamos otra ve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7 CuadroTexto"/>
          <p:cNvSpPr/>
          <p:nvPr/>
        </p:nvSpPr>
        <p:spPr>
          <a:xfrm>
            <a:off x="3938400" y="6000840"/>
            <a:ext cx="16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”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"/>
          <p:cNvPicPr/>
          <p:nvPr/>
        </p:nvPicPr>
        <p:blipFill>
          <a:blip r:embed="rId2"/>
          <a:stretch/>
        </p:blipFill>
        <p:spPr>
          <a:xfrm>
            <a:off x="2571840" y="1785960"/>
            <a:ext cx="5929200" cy="4165560"/>
          </a:xfrm>
          <a:prstGeom prst="rect">
            <a:avLst/>
          </a:prstGeom>
          <a:ln w="0">
            <a:noFill/>
          </a:ln>
        </p:spPr>
      </p:pic>
      <p:sp>
        <p:nvSpPr>
          <p:cNvPr id="586" name="9 Rectángulo redondeado"/>
          <p:cNvSpPr/>
          <p:nvPr/>
        </p:nvSpPr>
        <p:spPr>
          <a:xfrm>
            <a:off x="428760" y="1785960"/>
            <a:ext cx="2143080" cy="2571840"/>
          </a:xfrm>
          <a:custGeom>
            <a:avLst/>
            <a:gdLst>
              <a:gd name="textAreaLeft" fmla="*/ 141480 w 2143080"/>
              <a:gd name="textAreaRight" fmla="*/ 2001600 w 2143080"/>
              <a:gd name="textAreaTop" fmla="*/ 141480 h 2571840"/>
              <a:gd name="textAreaBottom" fmla="*/ 2430360 h 2571840"/>
            </a:gdLst>
            <a:ahLst/>
            <a:rect l="textAreaLeft" t="textAreaTop" r="textAreaRight" b="textAreaBottom"/>
            <a:pathLst>
              <a:path w="21600" h="25921">
                <a:moveTo>
                  <a:pt x="4880" y="0"/>
                </a:moveTo>
                <a:arcTo wR="4880" hR="4880" stAng="16200000" swAng="-5400000"/>
                <a:lnTo>
                  <a:pt x="0" y="21041"/>
                </a:lnTo>
                <a:arcTo wR="4880" hR="4880" stAng="10800000" swAng="-5400000"/>
                <a:lnTo>
                  <a:pt x="16720" y="25921"/>
                </a:lnTo>
                <a:arcTo wR="4880" hR="4880" stAng="5400000" swAng="-5400000"/>
                <a:lnTo>
                  <a:pt x="21600" y="4880"/>
                </a:lnTo>
                <a:arcTo wR="4880" hR="4880" stAng="0" swAng="-5400000"/>
                <a:close/>
              </a:path>
            </a:pathLst>
          </a:cu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89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5 CuadroTexto"/>
          <p:cNvSpPr/>
          <p:nvPr/>
        </p:nvSpPr>
        <p:spPr>
          <a:xfrm>
            <a:off x="3020760" y="142884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mos curva de t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7 CuadroTexto"/>
          <p:cNvSpPr/>
          <p:nvPr/>
        </p:nvSpPr>
        <p:spPr>
          <a:xfrm>
            <a:off x="3950280" y="6000840"/>
            <a:ext cx="33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sta” tiene buena cor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2"/>
          <a:stretch/>
        </p:blipFill>
        <p:spPr>
          <a:xfrm>
            <a:off x="2579760" y="1768320"/>
            <a:ext cx="5921280" cy="416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595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5 CuadroTexto"/>
          <p:cNvSpPr/>
          <p:nvPr/>
        </p:nvSpPr>
        <p:spPr>
          <a:xfrm>
            <a:off x="3098160" y="1428840"/>
            <a:ext cx="586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si graficamos en escala semi-logarítmica (en eje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7 CuadroTexto"/>
          <p:cNvSpPr/>
          <p:nvPr/>
        </p:nvSpPr>
        <p:spPr>
          <a:xfrm>
            <a:off x="3937680" y="600084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ece 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2"/>
          <a:stretch/>
        </p:blipFill>
        <p:spPr>
          <a:xfrm>
            <a:off x="2754360" y="1857240"/>
            <a:ext cx="596088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Semi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214200" y="1857240"/>
            <a:ext cx="2225880" cy="3500640"/>
          </a:xfrm>
          <a:prstGeom prst="rect">
            <a:avLst/>
          </a:prstGeom>
          <a:ln w="0">
            <a:noFill/>
          </a:ln>
        </p:spPr>
      </p:pic>
      <p:sp>
        <p:nvSpPr>
          <p:cNvPr id="601" name="4 CuadroTexto"/>
          <p:cNvSpPr/>
          <p:nvPr/>
        </p:nvSpPr>
        <p:spPr>
          <a:xfrm>
            <a:off x="433800" y="14288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5 CuadroTexto"/>
          <p:cNvSpPr/>
          <p:nvPr/>
        </p:nvSpPr>
        <p:spPr>
          <a:xfrm>
            <a:off x="3036240" y="1428840"/>
            <a:ext cx="581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gregando línea de tendencia exponencial, obten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cuación con la que se originaron los da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2"/>
          <a:stretch/>
        </p:blipFill>
        <p:spPr>
          <a:xfrm>
            <a:off x="3071880" y="2071800"/>
            <a:ext cx="5000400" cy="3512880"/>
          </a:xfrm>
          <a:prstGeom prst="rect">
            <a:avLst/>
          </a:prstGeom>
          <a:ln w="0">
            <a:noFill/>
          </a:ln>
        </p:spPr>
      </p:pic>
      <p:sp>
        <p:nvSpPr>
          <p:cNvPr id="604" name="8 CuadroTexto"/>
          <p:cNvSpPr/>
          <p:nvPr/>
        </p:nvSpPr>
        <p:spPr>
          <a:xfrm>
            <a:off x="1785960" y="564372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ciona en general para datos con la forma y=a·b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9 CuadroTexto"/>
          <p:cNvSpPr/>
          <p:nvPr/>
        </p:nvSpPr>
        <p:spPr>
          <a:xfrm>
            <a:off x="1857240" y="62118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scala log-log es aplicar esto a ambos ejes y funciona con datos de la forma y=a·x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cala log-l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9 CuadroTexto"/>
          <p:cNvSpPr/>
          <p:nvPr/>
        </p:nvSpPr>
        <p:spPr>
          <a:xfrm>
            <a:off x="857160" y="1643040"/>
            <a:ext cx="714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escala log-log es análogo a lo anterior pero aplicando escala logarítmica a ambos ejes y funciona con datos de la forma y=a·x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3" descr=""/>
          <p:cNvPicPr/>
          <p:nvPr/>
        </p:nvPicPr>
        <p:blipFill>
          <a:blip r:embed="rId1"/>
          <a:stretch/>
        </p:blipFill>
        <p:spPr>
          <a:xfrm>
            <a:off x="2714760" y="2500200"/>
            <a:ext cx="568296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resentación de Información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Cap.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238572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te muy importante en un proyecto→ no descuid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vertir” tiempo en comunicar correct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entar la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er al lector pensar en sustancia más que en metodología o en diseño gráf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orsionar  el mensaje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imular al ojo para que compare distintas partes de la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presentación Gráfica</a:t>
            </a:r>
            <a:br>
              <a:rPr sz="40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Objetivos (</a:t>
            </a:r>
            <a:r>
              <a:rPr b="1" i="1" lang="es-ES" sz="2800" spc="-1" strike="noStrike">
                <a:solidFill>
                  <a:srgbClr val="000000"/>
                </a:solidFill>
                <a:latin typeface="Times New Roman"/>
              </a:rPr>
              <a:t>Tufte, 1983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velar niveles de información, desde una mirada general a una f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ner un propósito claro (por ejemplo descripción, comparación, explor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grarlo con otras descripciones de inform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tribucione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echones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857240" y="2428920"/>
            <a:ext cx="649944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1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537760" cy="4143600"/>
          </a:xfrm>
          <a:prstGeom prst="rect">
            <a:avLst/>
          </a:prstGeom>
          <a:ln w="0">
            <a:noFill/>
          </a:ln>
        </p:spPr>
      </p:pic>
      <p:sp>
        <p:nvSpPr>
          <p:cNvPr id="556" name="1 Título"/>
          <p:cNvSpPr/>
          <p:nvPr/>
        </p:nvSpPr>
        <p:spPr>
          <a:xfrm>
            <a:off x="428760" y="142920"/>
            <a:ext cx="8501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istribuciones  Comparadas de Da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43040" y="5572080"/>
            <a:ext cx="714384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2060"/>
                </a:solidFill>
                <a:latin typeface="Arial"/>
              </a:rPr>
              <a:t>Comparación distribución en la educación media y en Ingeniería de la U.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ción de Valores para Distintas Categorí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0" y="2786040"/>
            <a:ext cx="4519440" cy="2714760"/>
          </a:xfrm>
          <a:prstGeom prst="rect">
            <a:avLst/>
          </a:prstGeom>
          <a:ln w="0">
            <a:noFill/>
          </a:ln>
        </p:spPr>
      </p:pic>
      <p:sp>
        <p:nvSpPr>
          <p:cNvPr id="560" name="6 CuadroTexto"/>
          <p:cNvSpPr/>
          <p:nvPr/>
        </p:nvSpPr>
        <p:spPr>
          <a:xfrm>
            <a:off x="5940360" y="200016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jo con escala 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2"/>
          <a:stretch/>
        </p:blipFill>
        <p:spPr>
          <a:xfrm>
            <a:off x="4549680" y="2786040"/>
            <a:ext cx="4594320" cy="275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5" descr=""/>
          <p:cNvPicPr/>
          <p:nvPr/>
        </p:nvPicPr>
        <p:blipFill>
          <a:blip r:embed="rId1"/>
          <a:stretch/>
        </p:blipFill>
        <p:spPr>
          <a:xfrm>
            <a:off x="2714760" y="1785960"/>
            <a:ext cx="6373800" cy="383688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ries de Tiempo (Tendenci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3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2270160" cy="4078080"/>
          </a:xfrm>
          <a:prstGeom prst="rect">
            <a:avLst/>
          </a:prstGeom>
          <a:ln w="0">
            <a:noFill/>
          </a:ln>
        </p:spPr>
      </p:pic>
      <p:sp>
        <p:nvSpPr>
          <p:cNvPr id="565" name="8 CuadroTexto"/>
          <p:cNvSpPr/>
          <p:nvPr/>
        </p:nvSpPr>
        <p:spPr>
          <a:xfrm>
            <a:off x="3435120" y="570240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9 Flecha doblada hacia arriba"/>
          <p:cNvSpPr/>
          <p:nvPr/>
        </p:nvSpPr>
        <p:spPr>
          <a:xfrm>
            <a:off x="4857840" y="3071880"/>
            <a:ext cx="428400" cy="2857320"/>
          </a:xfrm>
          <a:custGeom>
            <a:avLst/>
            <a:gdLst>
              <a:gd name="textAreaLeft" fmla="*/ 0 w 428400"/>
              <a:gd name="textAreaRight" fmla="*/ 349560 w 42840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10 CuadroTexto"/>
          <p:cNvSpPr/>
          <p:nvPr/>
        </p:nvSpPr>
        <p:spPr>
          <a:xfrm>
            <a:off x="5292360" y="620244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TRO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11 Flecha doblada hacia arriba"/>
          <p:cNvSpPr/>
          <p:nvPr/>
        </p:nvSpPr>
        <p:spPr>
          <a:xfrm>
            <a:off x="6715080" y="3571920"/>
            <a:ext cx="428760" cy="2857320"/>
          </a:xfrm>
          <a:custGeom>
            <a:avLst/>
            <a:gdLst>
              <a:gd name="textAreaLeft" fmla="*/ 0 w 428760"/>
              <a:gd name="textAreaRight" fmla="*/ 349920 w 428760"/>
              <a:gd name="textAreaTop" fmla="*/ 2801160 h 2857320"/>
              <a:gd name="textAreaBottom" fmla="*/ 2857680 h 2857320"/>
            </a:gdLst>
            <a:ahLst/>
            <a:rect l="textAreaLeft" t="textAreaTop" r="textAreaRight" b="textAreaBottom"/>
            <a:pathLst>
              <a:path w="428625" h="2857500">
                <a:moveTo>
                  <a:pt x="0" y="2801144"/>
                </a:moveTo>
                <a:lnTo>
                  <a:pt x="293291" y="2801144"/>
                </a:lnTo>
                <a:lnTo>
                  <a:pt x="293291" y="183357"/>
                </a:lnTo>
                <a:lnTo>
                  <a:pt x="214313" y="183357"/>
                </a:lnTo>
                <a:lnTo>
                  <a:pt x="321469" y="0"/>
                </a:lnTo>
                <a:lnTo>
                  <a:pt x="428625" y="183357"/>
                </a:lnTo>
                <a:lnTo>
                  <a:pt x="349647" y="183357"/>
                </a:lnTo>
                <a:lnTo>
                  <a:pt x="349647" y="2857500"/>
                </a:lnTo>
                <a:lnTo>
                  <a:pt x="0" y="28575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mparar Datos Experimentales y Teó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2" descr=""/>
          <p:cNvPicPr/>
          <p:nvPr/>
        </p:nvPicPr>
        <p:blipFill>
          <a:blip r:embed="rId1"/>
          <a:stretch/>
        </p:blipFill>
        <p:spPr>
          <a:xfrm>
            <a:off x="1785960" y="1928880"/>
            <a:ext cx="6608880" cy="464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17:05:07Z</dcterms:created>
  <dc:creator>Uchile</dc:creator>
  <dc:description/>
  <dc:language>en-US</dc:language>
  <cp:lastModifiedBy> SBJ</cp:lastModifiedBy>
  <dcterms:modified xsi:type="dcterms:W3CDTF">2011-11-14T12:06:49Z</dcterms:modified>
  <cp:revision>29</cp:revision>
  <dc:subject/>
  <dc:title>Diapositiva 1</dc:title>
</cp:coreProperties>
</file>