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D1CB-715D-46BE-9C5F-93D110A15AE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A6CF-2193-4B90-8F3C-0CF1B4A0B4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2B5C-2790-4895-A56B-6F164DC290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A6AF-6649-413F-961C-FE2B4BB9CB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ADD5-0505-44B0-8C8E-71A8D45BB8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8CD8-4FDE-40A9-90AF-95C6B4C26D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A8D5-6BC0-461A-B88A-B7B7926C32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B61A-0E70-477B-8EF3-A40DFADFB5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242D-512D-4806-9617-1E102F17FA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E0EE-6206-4799-85FE-423F72E814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06FE-0321-41B6-BA14-9355A2812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D914-61C9-4828-BA46-3C855372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A19F-77B4-431F-97C4-3406FAFA0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48FE-5EBD-474B-AB35-010681F0C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4A7F-02D2-4B4C-BF35-28F555506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9534-B568-4AD6-BF48-916D2899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E380-A5FC-4CF6-8018-13D18416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10B2-5218-48BE-883F-E57D9BD5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76AA-37B3-4FC8-9ABC-0F771B8F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C2EC3-682F-49A4-BD25-6D6AE291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33ED-82A6-4A9C-B3FE-34E0E89C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5B3A-D132-473C-87C6-DC43B80F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6CDB6-30CE-4401-BD9E-322A01F2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442B-4FA7-49B7-B998-D24244A5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C34F-3823-4FC0-949E-8799A979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88AA-87C3-40B2-A194-783B44C1E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08C19-87FC-45B3-80DD-98CCFF8DB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9877-2FDB-4778-B6F8-0AE47697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70C8-BB24-4904-A9FD-F68F3BB9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5A03-A9BD-4029-87F5-1A0FB3F3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7B0C-54F1-4825-B16F-A8D88079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5ED9-B5A4-4440-B8A0-D7752C70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5E47-34C7-4316-BB53-95D3A427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FCA3-4745-4842-BC08-C0DB3242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6C41-20BB-45D6-92EF-C975DCCA935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72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720"/>
            <a:ext cx="21290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865A-1D0A-4F0D-9C9C-397B29BAF64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bastian Barrios 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Usar EPP Adecu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2 Imagen" descr="49ba5bbc849bcb2ec739fbc7192e_740.jpg"/>
          <p:cNvPicPr/>
          <p:nvPr/>
        </p:nvPicPr>
        <p:blipFill>
          <a:blip r:embed="rId1"/>
          <a:stretch/>
        </p:blipFill>
        <p:spPr>
          <a:xfrm>
            <a:off x="1952640" y="1285920"/>
            <a:ext cx="7048440" cy="528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3668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Usar EPP Adecuados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y correctam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3 Imagen" descr="sb1038-doblecasco1269375024.jpg"/>
          <p:cNvPicPr/>
          <p:nvPr/>
        </p:nvPicPr>
        <p:blipFill>
          <a:blip r:embed="rId1"/>
          <a:stretch/>
        </p:blipFill>
        <p:spPr>
          <a:xfrm>
            <a:off x="3000240" y="1643040"/>
            <a:ext cx="5715000" cy="460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3668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o sobrecargar equ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4 Imagen" descr="1768e5e0b034ad21ee28201df4d6_740.jpg"/>
          <p:cNvPicPr/>
          <p:nvPr/>
        </p:nvPicPr>
        <p:blipFill>
          <a:blip r:embed="rId1"/>
          <a:stretch/>
        </p:blipFill>
        <p:spPr>
          <a:xfrm>
            <a:off x="2548080" y="1866960"/>
            <a:ext cx="5452920" cy="420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spetar las Norm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2 Imagen" descr="sb1105-reglas1277242786.jpg"/>
          <p:cNvPicPr/>
          <p:nvPr/>
        </p:nvPicPr>
        <p:blipFill>
          <a:blip r:embed="rId1"/>
          <a:stretch/>
        </p:blipFill>
        <p:spPr>
          <a:xfrm>
            <a:off x="3714840" y="1285920"/>
            <a:ext cx="4286160" cy="526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2 Imagen" descr="29885dfebc91774bce0ace225ab6_740.jpg"/>
          <p:cNvPicPr/>
          <p:nvPr/>
        </p:nvPicPr>
        <p:blipFill>
          <a:blip r:embed="rId1"/>
          <a:stretch/>
        </p:blipFill>
        <p:spPr>
          <a:xfrm>
            <a:off x="1609560" y="1519200"/>
            <a:ext cx="6677280" cy="43052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o ser imprud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8760" y="78588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pasaría si no hubiera Seguridad Industri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¡¡Es necesaria la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Industrial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3 Elipse"/>
          <p:cNvSpPr/>
          <p:nvPr/>
        </p:nvSpPr>
        <p:spPr>
          <a:xfrm>
            <a:off x="285840" y="4214880"/>
            <a:ext cx="4357440" cy="1643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REGLA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4 Elipse"/>
          <p:cNvSpPr/>
          <p:nvPr/>
        </p:nvSpPr>
        <p:spPr>
          <a:xfrm>
            <a:off x="5286240" y="3143160"/>
            <a:ext cx="3857760" cy="1643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FISC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5 Elipse"/>
          <p:cNvSpPr/>
          <p:nvPr/>
        </p:nvSpPr>
        <p:spPr>
          <a:xfrm>
            <a:off x="1428840" y="1714680"/>
            <a:ext cx="3857400" cy="1643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UMPLIMI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Y  COMPROMI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7 Flecha curvada hacia la derecha"/>
          <p:cNvSpPr/>
          <p:nvPr/>
        </p:nvSpPr>
        <p:spPr>
          <a:xfrm rot="1021800">
            <a:off x="499680" y="2857680"/>
            <a:ext cx="500040" cy="1285560"/>
          </a:xfrm>
          <a:custGeom>
            <a:avLst/>
            <a:gdLst>
              <a:gd name="textAreaLeft" fmla="*/ 66960 w 500040"/>
              <a:gd name="textAreaRight" fmla="*/ 433080 w 500040"/>
              <a:gd name="textAreaTop" fmla="*/ 274320 h 1285560"/>
              <a:gd name="textAreaBottom" fmla="*/ 948600 h 1285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25" stAng="-5400000" swAng="-5400000"/>
                <a:lnTo>
                  <a:pt x="0" y="11325"/>
                </a:lnTo>
                <a:arcTo wR="21600" hR="9225" stAng="10800000" swAng="-3530663"/>
                <a:lnTo>
                  <a:pt x="16200" y="21307"/>
                </a:lnTo>
                <a:lnTo>
                  <a:pt x="21600" y="19500"/>
                </a:lnTo>
                <a:lnTo>
                  <a:pt x="16200" y="17107"/>
                </a:lnTo>
                <a:lnTo>
                  <a:pt x="16200" y="18157"/>
                </a:lnTo>
                <a:arcTo wR="21600" hR="9225" stAng="7269337" swAng="3362591"/>
                <a:lnTo>
                  <a:pt x="140" y="10275"/>
                </a:lnTo>
                <a:arcTo wR="21600" hR="9225" stAng="-10631928" swAng="5231928"/>
                <a:close/>
              </a:path>
              <a:path fill="darkenLess" w="21600" h="21600">
                <a:moveTo>
                  <a:pt x="21600" y="0"/>
                </a:moveTo>
                <a:arcTo wR="21600" hR="9225" stAng="-5400000" swAng="-5400000"/>
                <a:lnTo>
                  <a:pt x="0" y="9225"/>
                </a:lnTo>
                <a:arcTo wR="21600" hR="9225" stAng="10800000" swAng="-168072"/>
                <a:lnTo>
                  <a:pt x="140" y="10275"/>
                </a:lnTo>
                <a:arcTo wR="21600" hR="9225" stAng="-10631928" swAng="5231928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8 Flecha curvada hacia la derecha"/>
          <p:cNvSpPr/>
          <p:nvPr/>
        </p:nvSpPr>
        <p:spPr>
          <a:xfrm rot="15033600">
            <a:off x="5367960" y="4735800"/>
            <a:ext cx="500040" cy="1285920"/>
          </a:xfrm>
          <a:custGeom>
            <a:avLst/>
            <a:gdLst>
              <a:gd name="textAreaLeft" fmla="*/ 66960 w 500040"/>
              <a:gd name="textAreaRight" fmla="*/ 433080 w 500040"/>
              <a:gd name="textAreaTop" fmla="*/ 274320 h 1285920"/>
              <a:gd name="textAreaBottom" fmla="*/ 94896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25" stAng="-5400000" swAng="-5400000"/>
                <a:lnTo>
                  <a:pt x="0" y="11325"/>
                </a:lnTo>
                <a:arcTo wR="21600" hR="9225" stAng="10800000" swAng="-3530663"/>
                <a:lnTo>
                  <a:pt x="16200" y="21307"/>
                </a:lnTo>
                <a:lnTo>
                  <a:pt x="21600" y="19500"/>
                </a:lnTo>
                <a:lnTo>
                  <a:pt x="16200" y="17107"/>
                </a:lnTo>
                <a:lnTo>
                  <a:pt x="16200" y="18157"/>
                </a:lnTo>
                <a:arcTo wR="21600" hR="9225" stAng="7269337" swAng="3362591"/>
                <a:lnTo>
                  <a:pt x="140" y="10275"/>
                </a:lnTo>
                <a:arcTo wR="21600" hR="9225" stAng="-10631928" swAng="5231928"/>
                <a:close/>
              </a:path>
              <a:path fill="darkenLess" w="21600" h="21600">
                <a:moveTo>
                  <a:pt x="21600" y="0"/>
                </a:moveTo>
                <a:arcTo wR="21600" hR="9225" stAng="-5400000" swAng="-5400000"/>
                <a:lnTo>
                  <a:pt x="0" y="9225"/>
                </a:lnTo>
                <a:arcTo wR="21600" hR="9225" stAng="10800000" swAng="-168072"/>
                <a:lnTo>
                  <a:pt x="140" y="10275"/>
                </a:lnTo>
                <a:arcTo wR="21600" hR="9225" stAng="-10631928" swAng="5231928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9 Flecha curvada hacia la derecha"/>
          <p:cNvSpPr/>
          <p:nvPr/>
        </p:nvSpPr>
        <p:spPr>
          <a:xfrm rot="7415400">
            <a:off x="5853600" y="1778760"/>
            <a:ext cx="500040" cy="1285920"/>
          </a:xfrm>
          <a:custGeom>
            <a:avLst/>
            <a:gdLst>
              <a:gd name="textAreaLeft" fmla="*/ 66960 w 500040"/>
              <a:gd name="textAreaRight" fmla="*/ 433080 w 500040"/>
              <a:gd name="textAreaTop" fmla="*/ 274320 h 1285920"/>
              <a:gd name="textAreaBottom" fmla="*/ 94896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25" stAng="-5400000" swAng="-5400000"/>
                <a:lnTo>
                  <a:pt x="0" y="11325"/>
                </a:lnTo>
                <a:arcTo wR="21600" hR="9225" stAng="10800000" swAng="-3530663"/>
                <a:lnTo>
                  <a:pt x="16200" y="21307"/>
                </a:lnTo>
                <a:lnTo>
                  <a:pt x="21600" y="19500"/>
                </a:lnTo>
                <a:lnTo>
                  <a:pt x="16200" y="17107"/>
                </a:lnTo>
                <a:lnTo>
                  <a:pt x="16200" y="18157"/>
                </a:lnTo>
                <a:arcTo wR="21600" hR="9225" stAng="7269337" swAng="3362591"/>
                <a:lnTo>
                  <a:pt x="140" y="10275"/>
                </a:lnTo>
                <a:arcTo wR="21600" hR="9225" stAng="-10631928" swAng="5231928"/>
                <a:close/>
              </a:path>
              <a:path fill="darkenLess" w="21600" h="21600">
                <a:moveTo>
                  <a:pt x="21600" y="0"/>
                </a:moveTo>
                <a:arcTo wR="21600" hR="9225" stAng="-5400000" swAng="-5400000"/>
                <a:lnTo>
                  <a:pt x="0" y="9225"/>
                </a:lnTo>
                <a:arcTo wR="21600" hR="9225" stAng="10800000" swAng="-168072"/>
                <a:lnTo>
                  <a:pt x="140" y="10275"/>
                </a:lnTo>
                <a:arcTo wR="21600" hR="9225" stAng="-10631928" swAng="5231928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Industrial Trasciende del ámbito de la Indust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"/>
          <p:cNvSpPr/>
          <p:nvPr/>
        </p:nvSpPr>
        <p:spPr>
          <a:xfrm>
            <a:off x="500040" y="2928960"/>
            <a:ext cx="82296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 trata de SUSTENTABILIDAD 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Rol de los ingenieros en la Seguridad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71040" y="1714320"/>
            <a:ext cx="840132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.- Somos trabajadores expuestos a accidentes y enfermedades labo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ocer y respetar normativa, procedimientos, derechos y deber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acticar Auto-cuida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doptar y promover cultura preven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caso de accidentes utilizar mecanismos de  cober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Rol de los ingenieros en la Seguridad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71040" y="1500120"/>
            <a:ext cx="84013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.- Somos profesionales con responsabilidades particul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lanificar Trabajos (Quién, cómo, cuán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finir procedimientos, dimensionar ries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señar productos, equip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yor responsabilidad en empresa o proy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elar por el bienestar de las pers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fesionales con responsabilidad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616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Ingeniería y Seguridad Industr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28800" y="1643040"/>
            <a:ext cx="75009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guridad Indust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Qué es una Profesió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ponsabilidad Profe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ltura de la Preve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Y si no hubiera Seguridad Industri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Rol de los ingenieros en la Seguridad Indust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¿Qué Incluye la seguridad Industri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060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ccidentes Labo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fermedades Profes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v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¿Por qué preveni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060640"/>
            <a:ext cx="8400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itar costos: materiales, retraso en proyectos, Imagen corporativa, alzas en pólizas, deman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umentar Beneficios/util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ienestar de las perso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0" y="164304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¿Qué es una Profesión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Responsabilidad Profesion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ultura de la Preve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060640"/>
            <a:ext cx="8400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itar actitud pasiva o reac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inimizar consecu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ven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ultura de la Preve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857240"/>
            <a:ext cx="8400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doptar actitud y procedimientos proac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ar alerta, evaluar constantemente riesgos y controlarlos, informarse, preparar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algunas Industrias: no solo reporte de accidentes también de incid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ultura de la Preve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857240"/>
            <a:ext cx="8400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cedimientos deben ser: Formales, Conocidos y efic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itar la “burocratizació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itar imprudencia, actuar sin prepa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3 Imagen" descr="~Oh_dear~7.jpg"/>
          <p:cNvPicPr/>
          <p:nvPr/>
        </p:nvPicPr>
        <p:blipFill>
          <a:blip r:embed="rId1"/>
          <a:stretch/>
        </p:blipFill>
        <p:spPr>
          <a:xfrm>
            <a:off x="1714680" y="164304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antener el or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 SBJ</cp:lastModifiedBy>
  <dcterms:modified xsi:type="dcterms:W3CDTF">2011-10-17T12:09:20Z</dcterms:modified>
  <cp:revision>35</cp:revision>
  <dc:subject/>
  <dc:title>EL63A-Taller de Proyecto en Control II</dc:title>
</cp:coreProperties>
</file>