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BABE-E4E0-4167-99BD-CB8FD36B1B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D5CC-1078-4AD0-9DBA-5282BFA009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E374-B59E-4F07-AB74-A4929581BB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9D9A-9718-4AF4-BD41-3D50E0D672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4C79-EC7E-489B-9567-4563705241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90FA-8C39-4F17-B35D-0D12C46789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C37A-FCBE-4DDA-8ED7-E5D55292C1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89B1-C0C6-4408-919A-B19333247C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9FD2-C77A-4BC3-BEF3-4DE31FEF1B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8AFD-6B77-431D-9709-B4FD21755C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6A8-F9ED-4E7A-BBEF-DF10D7EF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40C-E56F-4223-AD63-862CC7AF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00F8-7EAA-4C42-8646-7C6E5775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64B-DF61-4F35-A4EF-051C29FC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CD13-E1AA-489F-A731-F66CEEE6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11EC-0C75-439D-B70D-C5334348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3897-AD17-485D-8544-B2BB2E66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556C-32C6-45A0-99D8-00B7FC88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3D35-248D-40D4-B64D-EB71F872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9516-9EE6-4434-8B71-E9EE6510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26C0-DA39-48F2-9702-C8094D30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113-42EB-45F5-BEEC-482FF192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D9B2-D218-4A7F-8203-4A4D1DCF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1F3D-B2A5-42C2-8C19-2B5168DE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6614-7BEB-4635-B28B-70E623E6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4634-8622-4DAE-A41E-77DA9479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F31A-1DC1-4EA0-B3AE-330ACBA3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EE8-C0E3-470C-A8EF-83AE0D83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AF1-7806-443C-B918-E915EB0F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C9B-7555-47D1-BB1F-53ADA463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FBC-195D-4E4E-A050-391C88CB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E99-686F-4252-9615-6DF52C52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ADC-BD1D-4471-B7C1-4CEFFFE4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9DD-B34D-4EA4-99E2-CDEFED7E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136A-7958-464D-AC96-73D419834C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F439-CD85-4C00-BCCD-F2687A05AA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ar EPP Adecu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2 Imagen" descr="49ba5bbc849bcb2ec739fbc7192e_740.jpg"/>
          <p:cNvPicPr/>
          <p:nvPr/>
        </p:nvPicPr>
        <p:blipFill>
          <a:blip r:embed="rId1"/>
          <a:stretch/>
        </p:blipFill>
        <p:spPr>
          <a:xfrm>
            <a:off x="1952640" y="128592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ar EPP Adecuados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y correct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3 Imagen" descr="sb1038-doblecasco1269375024.jpg"/>
          <p:cNvPicPr/>
          <p:nvPr/>
        </p:nvPicPr>
        <p:blipFill>
          <a:blip r:embed="rId1"/>
          <a:stretch/>
        </p:blipFill>
        <p:spPr>
          <a:xfrm>
            <a:off x="3000240" y="164304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 sobrecargar equ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4 Imagen" descr="1768e5e0b034ad21ee28201df4d6_740.jpg"/>
          <p:cNvPicPr/>
          <p:nvPr/>
        </p:nvPicPr>
        <p:blipFill>
          <a:blip r:embed="rId1"/>
          <a:stretch/>
        </p:blipFill>
        <p:spPr>
          <a:xfrm>
            <a:off x="2548080" y="1866960"/>
            <a:ext cx="5452920" cy="42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etar la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2 Imagen" descr="sb1105-reglas1277242786.jpg"/>
          <p:cNvPicPr/>
          <p:nvPr/>
        </p:nvPicPr>
        <p:blipFill>
          <a:blip r:embed="rId1"/>
          <a:stretch/>
        </p:blipFill>
        <p:spPr>
          <a:xfrm>
            <a:off x="3714840" y="1285920"/>
            <a:ext cx="4286160" cy="52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 Imagen" descr="29885dfebc91774bce0ace225ab6_740.jpg"/>
          <p:cNvPicPr/>
          <p:nvPr/>
        </p:nvPicPr>
        <p:blipFill>
          <a:blip r:embed="rId1"/>
          <a:stretch/>
        </p:blipFill>
        <p:spPr>
          <a:xfrm>
            <a:off x="1609560" y="1519200"/>
            <a:ext cx="6677280" cy="4305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 ser imprud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pasaría si no hubiera Seguridad Industr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¡¡Es necesaria la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 Elipse"/>
          <p:cNvSpPr/>
          <p:nvPr/>
        </p:nvSpPr>
        <p:spPr>
          <a:xfrm>
            <a:off x="285840" y="4214880"/>
            <a:ext cx="435744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Elipse"/>
          <p:cNvSpPr/>
          <p:nvPr/>
        </p:nvSpPr>
        <p:spPr>
          <a:xfrm>
            <a:off x="5286240" y="3143160"/>
            <a:ext cx="385776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5 Elipse"/>
          <p:cNvSpPr/>
          <p:nvPr/>
        </p:nvSpPr>
        <p:spPr>
          <a:xfrm>
            <a:off x="1428840" y="1714680"/>
            <a:ext cx="385740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MPL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 COMPR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7 Flecha curvada hacia la derecha"/>
          <p:cNvSpPr/>
          <p:nvPr/>
        </p:nvSpPr>
        <p:spPr>
          <a:xfrm rot="1021800">
            <a:off x="499680" y="2857680"/>
            <a:ext cx="500040" cy="128556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560"/>
              <a:gd name="textAreaBottom" fmla="*/ 948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Flecha curvada hacia la derecha"/>
          <p:cNvSpPr/>
          <p:nvPr/>
        </p:nvSpPr>
        <p:spPr>
          <a:xfrm rot="15033600">
            <a:off x="5367960" y="473580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9 Flecha curvada hacia la derecha"/>
          <p:cNvSpPr/>
          <p:nvPr/>
        </p:nvSpPr>
        <p:spPr>
          <a:xfrm rot="7415400">
            <a:off x="5853600" y="177876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 Trasciende del ámbito de la Ind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500040" y="2928960"/>
            <a:ext cx="82296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 trata de SUSTENTABILIDAD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1040" y="1714320"/>
            <a:ext cx="84013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- Somos trabajadores expuestos a accidentes y enfermedades lab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er y respetar normativa, procedimientos, derechos y deber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acticar Auto-cuid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optar y promover cultura preve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so de accidentes utilizar mecanismos de  cob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71040" y="1500120"/>
            <a:ext cx="84013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- Somos profesionales con responsabilidades parti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ificar Trabajos (Quién, cómo, cuán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r procedimientos, dimensionar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eñar productos, equip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yor responsabilidad en empresa o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lar por el bienestar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fesionales con responsabilidad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geniería y Seguridad Indus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28800" y="16430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es una Profes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Y si no hubiera Seguridad Industr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Rol de los ingenieros en la Seguridad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Incluye la seguridad Industr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cidentes Lab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fermedades Profes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Por qué preveni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costos: materiales, retraso en proyectos, Imagen corporativa, alzas en pólizas, deman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mentar Beneficios/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enestar de las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6430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¿Qué es una Profesió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Responsabilidad Profesi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actitud pasiva o re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nimizar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v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optar actitud y procedimientos pro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r alerta, evaluar constantemente riesgos y controlarlos, informarse, preparar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lgunas Industrias: no solo reporte de accidentes también de inci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dimientos deben ser: Formales, Conocidos y efic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la “burocratizació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imprudencia, actuar sin p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3 Imagen" descr="~Oh_dear~7.jpg"/>
          <p:cNvPicPr/>
          <p:nvPr/>
        </p:nvPicPr>
        <p:blipFill>
          <a:blip r:embed="rId1"/>
          <a:stretch/>
        </p:blipFill>
        <p:spPr>
          <a:xfrm>
            <a:off x="1714680" y="16430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tener el 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 SBJ</cp:lastModifiedBy>
  <dcterms:modified xsi:type="dcterms:W3CDTF">2011-10-17T12:09:20Z</dcterms:modified>
  <cp:revision>35</cp:revision>
  <dc:subject/>
  <dc:title>EL63A-Taller de Proyecto en Control II</dc:title>
</cp:coreProperties>
</file>