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96FB-3B9E-49D5-91B0-62386793B1C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6BE0-7235-4054-941A-9769CE138C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3092-CFC0-4A72-98A4-B9544C7905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CC62-4BED-421A-A997-BCB0BA50FA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62F7-943D-4DCD-AC39-FF9A9CEF45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55A0-FC8E-4668-B99B-1ED74F6E31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1E31-C063-4359-A9C6-26CF1EC42D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FD7E-D7DC-4A65-9587-1725E164F5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0AB8-21B0-4A01-B4D5-E2C2B25277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9BBD-6C15-48E2-AD57-F78BAA7442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28E9-26DE-4B63-BB88-41777BD9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8FBC-09B6-41C7-9B27-9D61803D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40B-5B52-4CF8-AF69-99DC2F98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4B67-F6BC-405B-901F-D35B3582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6B36-F140-41D2-B9F5-6C3776E3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E931-B23B-4194-A4D7-8AC15C68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921E-46D3-4850-A17D-44455239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AD55-CCDA-4DD9-BFD3-E33F080A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65AC-7746-49EB-95BA-754A826B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179B-38F9-4EAA-BC98-FAA7631F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3337-834A-48CB-94EE-C6F2EFAB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74DD-2D3F-4A41-9423-B1D479AE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8455-3033-47EB-9CA0-508A3C78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6D29-2803-433A-8779-1BC75BF1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EBAF-FB7A-4F98-88A2-74B11585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C2F0-EE60-4D2F-AEA9-3ED1489E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0B9A-4F80-4DDC-99BC-9119AF3B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5652-4E25-4E8D-B67F-DEFB70C6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2F8-82B8-44ED-8D35-ED78F5C4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9D68-3705-4BBE-B81E-43413219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E29E-A25D-4ED1-BB57-230D288C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AFA3-6257-4DCD-B2FD-7673171A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783D-C343-43F6-94BE-1AF960CE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8FF-165D-4A3E-A3AF-E8BFD33A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8D79-744C-4528-8352-F5623BCE20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1ACE-417B-4C06-8CE8-639705B3E5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bastia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ar EPP Adecu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2 Imagen" descr="49ba5bbc849bcb2ec739fbc7192e_740.jpg"/>
          <p:cNvPicPr/>
          <p:nvPr/>
        </p:nvPicPr>
        <p:blipFill>
          <a:blip r:embed="rId1"/>
          <a:stretch/>
        </p:blipFill>
        <p:spPr>
          <a:xfrm>
            <a:off x="1952640" y="1285920"/>
            <a:ext cx="7048440" cy="52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ar EPP Adecuados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y correct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3 Imagen" descr="sb1038-doblecasco1269375024.jpg"/>
          <p:cNvPicPr/>
          <p:nvPr/>
        </p:nvPicPr>
        <p:blipFill>
          <a:blip r:embed="rId1"/>
          <a:stretch/>
        </p:blipFill>
        <p:spPr>
          <a:xfrm>
            <a:off x="3000240" y="1643040"/>
            <a:ext cx="5715000" cy="46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o sobrecargar equ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4 Imagen" descr="1768e5e0b034ad21ee28201df4d6_740.jpg"/>
          <p:cNvPicPr/>
          <p:nvPr/>
        </p:nvPicPr>
        <p:blipFill>
          <a:blip r:embed="rId1"/>
          <a:stretch/>
        </p:blipFill>
        <p:spPr>
          <a:xfrm>
            <a:off x="2548080" y="1866960"/>
            <a:ext cx="5452920" cy="42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etar la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2 Imagen" descr="sb1105-reglas1277242786.jpg"/>
          <p:cNvPicPr/>
          <p:nvPr/>
        </p:nvPicPr>
        <p:blipFill>
          <a:blip r:embed="rId1"/>
          <a:stretch/>
        </p:blipFill>
        <p:spPr>
          <a:xfrm>
            <a:off x="3714840" y="1285920"/>
            <a:ext cx="4286160" cy="52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2 Imagen" descr="29885dfebc91774bce0ace225ab6_740.jpg"/>
          <p:cNvPicPr/>
          <p:nvPr/>
        </p:nvPicPr>
        <p:blipFill>
          <a:blip r:embed="rId1"/>
          <a:stretch/>
        </p:blipFill>
        <p:spPr>
          <a:xfrm>
            <a:off x="1609560" y="1519200"/>
            <a:ext cx="6677280" cy="4305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o ser imprud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pasaría si no hubiera Seguridad Industr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¡¡Es necesaria la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 Elipse"/>
          <p:cNvSpPr/>
          <p:nvPr/>
        </p:nvSpPr>
        <p:spPr>
          <a:xfrm>
            <a:off x="285840" y="4214880"/>
            <a:ext cx="435744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GLA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Elipse"/>
          <p:cNvSpPr/>
          <p:nvPr/>
        </p:nvSpPr>
        <p:spPr>
          <a:xfrm>
            <a:off x="5286240" y="3143160"/>
            <a:ext cx="385776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5 Elipse"/>
          <p:cNvSpPr/>
          <p:nvPr/>
        </p:nvSpPr>
        <p:spPr>
          <a:xfrm>
            <a:off x="1428840" y="1714680"/>
            <a:ext cx="385740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UMPL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Y  COMPROM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7 Flecha curvada hacia la derecha"/>
          <p:cNvSpPr/>
          <p:nvPr/>
        </p:nvSpPr>
        <p:spPr>
          <a:xfrm rot="1021800">
            <a:off x="499680" y="2857680"/>
            <a:ext cx="500040" cy="128556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560"/>
              <a:gd name="textAreaBottom" fmla="*/ 94860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Flecha curvada hacia la derecha"/>
          <p:cNvSpPr/>
          <p:nvPr/>
        </p:nvSpPr>
        <p:spPr>
          <a:xfrm rot="15033600">
            <a:off x="5367960" y="4735800"/>
            <a:ext cx="500040" cy="128592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920"/>
              <a:gd name="textAreaBottom" fmla="*/ 9489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9 Flecha curvada hacia la derecha"/>
          <p:cNvSpPr/>
          <p:nvPr/>
        </p:nvSpPr>
        <p:spPr>
          <a:xfrm rot="7415400">
            <a:off x="5853600" y="1778760"/>
            <a:ext cx="500040" cy="128592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920"/>
              <a:gd name="textAreaBottom" fmla="*/ 9489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 Trasciende del ámbito de la Ind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500040" y="2928960"/>
            <a:ext cx="82296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 trata de SUSTENTABILIDAD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1040" y="1714320"/>
            <a:ext cx="840132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- Somos trabajadores expuestos a accidentes y enfermedades lab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ocer y respetar normativa, procedimientos, derechos y deber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acticar Auto-cuid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optar y promover cultura preven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aso de accidentes utilizar mecanismos de  cob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71040" y="1500120"/>
            <a:ext cx="84013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- Somos profesionales con responsabilidades particu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ificar Trabajos (Quién, cómo, cuán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inir procedimientos, dimensionar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eñar productos, equip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yor responsabilidad en empresa o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elar por el bienestar de las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fesionales con responsabilidad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61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geniería y Seguridad Indust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28800" y="16430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es una Profes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Profe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Y si no hubiera Seguridad Industr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Rol de los ingenieros en la Seguridad 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Qué Incluye la seguridad Industr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cidentes Lab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fermedades Profes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Por qué preveni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0606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costos: materiales, retraso en proyectos, Imagen corporativa, alzas en pólizas, deman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mentar Beneficios/ut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ienestar de las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16430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¿Qué es una Profesió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Responsabilidad Profesio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0606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actitud pasiva o re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nimizar con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v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optar actitud y procedimientos pro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r alerta, evaluar constantemente riesgos y controlarlos, informarse, preparar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algunas Industrias: no solo reporte de accidentes también de inci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cedimientos deben ser: Formales, Conocidos y efic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la “burocratizació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imprudencia, actuar sin p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3 Imagen" descr="~Oh_dear~7.jpg"/>
          <p:cNvPicPr/>
          <p:nvPr/>
        </p:nvPicPr>
        <p:blipFill>
          <a:blip r:embed="rId1"/>
          <a:stretch/>
        </p:blipFill>
        <p:spPr>
          <a:xfrm>
            <a:off x="1714680" y="16430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ntener el o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 SBJ</cp:lastModifiedBy>
  <dcterms:modified xsi:type="dcterms:W3CDTF">2011-10-17T12:09:20Z</dcterms:modified>
  <cp:revision>35</cp:revision>
  <dc:subject/>
  <dc:title>EL63A-Taller de Proyecto en Control II</dc:title>
</cp:coreProperties>
</file>