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945B-D8C2-4F8E-BE84-CB02E55D9EA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59DB-8651-41F9-A199-FB97FDE083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EE05-C4DC-464E-A689-3CF962923C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484B-C040-4D8C-9866-029C228F7D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9BC3-8F32-4C82-A38C-92C33ABB7B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0F08-A3E5-4253-A305-A0D8E21682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7085-1A98-4446-8ACC-879DD09B99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017E-0943-4C20-8F2A-A5008429BE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70FD-C01C-41C7-B7DA-44810BCA39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6733-26E0-4F93-B8F0-5771EFD8D0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8ED7-7E9F-4734-A079-94AE60AFF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8F14-7D01-46F6-8157-519C7B06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151B-E3A3-40F6-98C7-E82140A7E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42D8-CFE2-497E-9449-A4147A08D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9249-C594-4D39-9A92-76AD0A237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073B-C097-446A-85B1-BFD0E887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8F84-3291-4618-9397-76D5719C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878A-74DB-4F05-A91D-197BFE02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17EB-1BE6-41FE-8E60-60326FFD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204D-C6E7-43F0-9877-E833CB29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CD8A-6C91-4AFB-A095-F519C6B4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F346-FB87-43BA-BA92-676BC52E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2BCA-839E-415E-9595-B5A5CE1A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9A62-DAC2-42B0-94EA-5AE65B24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FFE2-E94F-4F26-B5F4-659EC410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DD60-508E-442D-963F-177730BDD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E232B-6FEA-4AC1-8E87-3EDDB76AE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8EAC-E6F7-4473-8E52-79F6765B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A94A-037B-447E-B130-A20E592F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8189-C4F8-440B-B5AB-50D1EC79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C36F-4337-4290-9017-71167C3F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B995-0203-420E-A408-EFF82EE5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C959-6388-4652-B52E-7148530A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3F10-8141-4C0B-AEFF-18D00A37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29ED-8848-424E-AB4E-C40EA1D6D90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D920-A415-4E02-927C-6A5A456057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bastian Barrios 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Usar EPP Adecu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2 Imagen" descr="49ba5bbc849bcb2ec739fbc7192e_740.jpg"/>
          <p:cNvPicPr/>
          <p:nvPr/>
        </p:nvPicPr>
        <p:blipFill>
          <a:blip r:embed="rId1"/>
          <a:stretch/>
        </p:blipFill>
        <p:spPr>
          <a:xfrm>
            <a:off x="1952640" y="1285920"/>
            <a:ext cx="7048440" cy="528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3668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Usar EPP Adecuados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y correctam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3 Imagen" descr="sb1038-doblecasco1269375024.jpg"/>
          <p:cNvPicPr/>
          <p:nvPr/>
        </p:nvPicPr>
        <p:blipFill>
          <a:blip r:embed="rId1"/>
          <a:stretch/>
        </p:blipFill>
        <p:spPr>
          <a:xfrm>
            <a:off x="3000240" y="1643040"/>
            <a:ext cx="5715000" cy="460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668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o sobrecargar equ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4 Imagen" descr="1768e5e0b034ad21ee28201df4d6_740.jpg"/>
          <p:cNvPicPr/>
          <p:nvPr/>
        </p:nvPicPr>
        <p:blipFill>
          <a:blip r:embed="rId1"/>
          <a:stretch/>
        </p:blipFill>
        <p:spPr>
          <a:xfrm>
            <a:off x="2548080" y="1866960"/>
            <a:ext cx="5452920" cy="420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spetar las Norm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2 Imagen" descr="sb1105-reglas1277242786.jpg"/>
          <p:cNvPicPr/>
          <p:nvPr/>
        </p:nvPicPr>
        <p:blipFill>
          <a:blip r:embed="rId1"/>
          <a:stretch/>
        </p:blipFill>
        <p:spPr>
          <a:xfrm>
            <a:off x="3714840" y="1285920"/>
            <a:ext cx="4286160" cy="526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2 Imagen" descr="29885dfebc91774bce0ace225ab6_740.jpg"/>
          <p:cNvPicPr/>
          <p:nvPr/>
        </p:nvPicPr>
        <p:blipFill>
          <a:blip r:embed="rId1"/>
          <a:stretch/>
        </p:blipFill>
        <p:spPr>
          <a:xfrm>
            <a:off x="1609560" y="1519200"/>
            <a:ext cx="6677280" cy="43052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o ser imprud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pasaría si no hubiera Seguridad Industri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¡¡Es necesaria la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3 Elipse"/>
          <p:cNvSpPr/>
          <p:nvPr/>
        </p:nvSpPr>
        <p:spPr>
          <a:xfrm>
            <a:off x="285840" y="4214880"/>
            <a:ext cx="4357440" cy="1643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EGLA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4 Elipse"/>
          <p:cNvSpPr/>
          <p:nvPr/>
        </p:nvSpPr>
        <p:spPr>
          <a:xfrm>
            <a:off x="5286240" y="3143160"/>
            <a:ext cx="3857760" cy="1643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FISC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5 Elipse"/>
          <p:cNvSpPr/>
          <p:nvPr/>
        </p:nvSpPr>
        <p:spPr>
          <a:xfrm>
            <a:off x="1428840" y="1714680"/>
            <a:ext cx="3857400" cy="1643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UMPLIMI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Y  COMPROM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7 Flecha curvada hacia la derecha"/>
          <p:cNvSpPr/>
          <p:nvPr/>
        </p:nvSpPr>
        <p:spPr>
          <a:xfrm rot="1021800">
            <a:off x="499680" y="2857680"/>
            <a:ext cx="500040" cy="1285560"/>
          </a:xfrm>
          <a:custGeom>
            <a:avLst/>
            <a:gdLst>
              <a:gd name="textAreaLeft" fmla="*/ 66960 w 500040"/>
              <a:gd name="textAreaRight" fmla="*/ 433080 w 500040"/>
              <a:gd name="textAreaTop" fmla="*/ 274320 h 1285560"/>
              <a:gd name="textAreaBottom" fmla="*/ 948600 h 1285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25" stAng="-5400000" swAng="-5400000"/>
                <a:lnTo>
                  <a:pt x="0" y="11325"/>
                </a:lnTo>
                <a:arcTo wR="21600" hR="9225" stAng="10800000" swAng="-3530663"/>
                <a:lnTo>
                  <a:pt x="16200" y="21307"/>
                </a:lnTo>
                <a:lnTo>
                  <a:pt x="21600" y="19500"/>
                </a:lnTo>
                <a:lnTo>
                  <a:pt x="16200" y="17107"/>
                </a:lnTo>
                <a:lnTo>
                  <a:pt x="16200" y="18157"/>
                </a:lnTo>
                <a:arcTo wR="21600" hR="9225" stAng="7269337" swAng="3362591"/>
                <a:lnTo>
                  <a:pt x="140" y="10275"/>
                </a:lnTo>
                <a:arcTo wR="21600" hR="9225" stAng="-10631928" swAng="5231928"/>
                <a:close/>
              </a:path>
              <a:path fill="darkenLess" w="21600" h="21600">
                <a:moveTo>
                  <a:pt x="21600" y="0"/>
                </a:moveTo>
                <a:arcTo wR="21600" hR="9225" stAng="-5400000" swAng="-5400000"/>
                <a:lnTo>
                  <a:pt x="0" y="9225"/>
                </a:lnTo>
                <a:arcTo wR="21600" hR="9225" stAng="10800000" swAng="-168072"/>
                <a:lnTo>
                  <a:pt x="140" y="10275"/>
                </a:lnTo>
                <a:arcTo wR="21600" hR="9225" stAng="-10631928" swAng="5231928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8 Flecha curvada hacia la derecha"/>
          <p:cNvSpPr/>
          <p:nvPr/>
        </p:nvSpPr>
        <p:spPr>
          <a:xfrm rot="15033600">
            <a:off x="5367960" y="4735800"/>
            <a:ext cx="500040" cy="1285920"/>
          </a:xfrm>
          <a:custGeom>
            <a:avLst/>
            <a:gdLst>
              <a:gd name="textAreaLeft" fmla="*/ 66960 w 500040"/>
              <a:gd name="textAreaRight" fmla="*/ 433080 w 500040"/>
              <a:gd name="textAreaTop" fmla="*/ 274320 h 1285920"/>
              <a:gd name="textAreaBottom" fmla="*/ 94896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25" stAng="-5400000" swAng="-5400000"/>
                <a:lnTo>
                  <a:pt x="0" y="11325"/>
                </a:lnTo>
                <a:arcTo wR="21600" hR="9225" stAng="10800000" swAng="-3530663"/>
                <a:lnTo>
                  <a:pt x="16200" y="21307"/>
                </a:lnTo>
                <a:lnTo>
                  <a:pt x="21600" y="19500"/>
                </a:lnTo>
                <a:lnTo>
                  <a:pt x="16200" y="17107"/>
                </a:lnTo>
                <a:lnTo>
                  <a:pt x="16200" y="18157"/>
                </a:lnTo>
                <a:arcTo wR="21600" hR="9225" stAng="7269337" swAng="3362591"/>
                <a:lnTo>
                  <a:pt x="140" y="10275"/>
                </a:lnTo>
                <a:arcTo wR="21600" hR="9225" stAng="-10631928" swAng="5231928"/>
                <a:close/>
              </a:path>
              <a:path fill="darkenLess" w="21600" h="21600">
                <a:moveTo>
                  <a:pt x="21600" y="0"/>
                </a:moveTo>
                <a:arcTo wR="21600" hR="9225" stAng="-5400000" swAng="-5400000"/>
                <a:lnTo>
                  <a:pt x="0" y="9225"/>
                </a:lnTo>
                <a:arcTo wR="21600" hR="9225" stAng="10800000" swAng="-168072"/>
                <a:lnTo>
                  <a:pt x="140" y="10275"/>
                </a:lnTo>
                <a:arcTo wR="21600" hR="9225" stAng="-10631928" swAng="5231928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9 Flecha curvada hacia la derecha"/>
          <p:cNvSpPr/>
          <p:nvPr/>
        </p:nvSpPr>
        <p:spPr>
          <a:xfrm rot="7415400">
            <a:off x="5853600" y="1778760"/>
            <a:ext cx="500040" cy="1285920"/>
          </a:xfrm>
          <a:custGeom>
            <a:avLst/>
            <a:gdLst>
              <a:gd name="textAreaLeft" fmla="*/ 66960 w 500040"/>
              <a:gd name="textAreaRight" fmla="*/ 433080 w 500040"/>
              <a:gd name="textAreaTop" fmla="*/ 274320 h 1285920"/>
              <a:gd name="textAreaBottom" fmla="*/ 94896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25" stAng="-5400000" swAng="-5400000"/>
                <a:lnTo>
                  <a:pt x="0" y="11325"/>
                </a:lnTo>
                <a:arcTo wR="21600" hR="9225" stAng="10800000" swAng="-3530663"/>
                <a:lnTo>
                  <a:pt x="16200" y="21307"/>
                </a:lnTo>
                <a:lnTo>
                  <a:pt x="21600" y="19500"/>
                </a:lnTo>
                <a:lnTo>
                  <a:pt x="16200" y="17107"/>
                </a:lnTo>
                <a:lnTo>
                  <a:pt x="16200" y="18157"/>
                </a:lnTo>
                <a:arcTo wR="21600" hR="9225" stAng="7269337" swAng="3362591"/>
                <a:lnTo>
                  <a:pt x="140" y="10275"/>
                </a:lnTo>
                <a:arcTo wR="21600" hR="9225" stAng="-10631928" swAng="5231928"/>
                <a:close/>
              </a:path>
              <a:path fill="darkenLess" w="21600" h="21600">
                <a:moveTo>
                  <a:pt x="21600" y="0"/>
                </a:moveTo>
                <a:arcTo wR="21600" hR="9225" stAng="-5400000" swAng="-5400000"/>
                <a:lnTo>
                  <a:pt x="0" y="9225"/>
                </a:lnTo>
                <a:arcTo wR="21600" hR="9225" stAng="10800000" swAng="-168072"/>
                <a:lnTo>
                  <a:pt x="140" y="10275"/>
                </a:lnTo>
                <a:arcTo wR="21600" hR="9225" stAng="-10631928" swAng="5231928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 Trasciende del ámbito de la Indust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500040" y="2928960"/>
            <a:ext cx="82296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 trata de SUSTENTABILIDAD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Rol de los ingenieros en la 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71040" y="1714320"/>
            <a:ext cx="840132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.- Somos trabajadores expuestos a accidentes y enfermedades labo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ocer y respetar normativa, procedimientos, derechos y deber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acticar Auto-cuida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doptar y promover cultura preven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caso de accidentes utilizar mecanismos de  cober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Rol de los ingenieros en la 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71040" y="1500120"/>
            <a:ext cx="84013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.- Somos profesionales con responsabilidades particul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lanificar Trabajos (Quién, cómo, cuán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finir procedimientos, dimensionar ries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señar productos, equip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yor responsabilidad en empresa o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elar por el bienestar de las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fesionales con responsabilidad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616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Ingeniería y Seguridad Industr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28800" y="1643040"/>
            <a:ext cx="75009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uridad Indus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Qué es una Profesió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ponsabilidad Profe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ltura de la Prev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Y si no hubiera Seguridad Industri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Rol de los ingenieros en la Seguridad Indus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¿Qué Incluye la seguridad Industri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060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ccidentes Labo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fermedades Profes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v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¿Por qué preveni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0606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itar costos: materiales, retraso en proyectos, Imagen corporativa, alzas en pólizas, deman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umentar Beneficios/util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ienestar de las pers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0" y="164304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¿Qué es una Profesión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Responsabilidad Profesion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ultura de la Preve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0606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itar actitud pasiva o reac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inimizar consecu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ven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ultura de la Preve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8572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doptar actitud y procedimientos proa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ar alerta, evaluar constantemente riesgos y controlarlos, informarse, preparar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algunas Industrias: no solo reporte de accidentes también de incid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ultura de la Preve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8572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cedimientos deben ser: Formales, Conocidos y efic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itar la “burocratizació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itar imprudencia, actuar sin prepa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3 Imagen" descr="~Oh_dear~7.jpg"/>
          <p:cNvPicPr/>
          <p:nvPr/>
        </p:nvPicPr>
        <p:blipFill>
          <a:blip r:embed="rId1"/>
          <a:stretch/>
        </p:blipFill>
        <p:spPr>
          <a:xfrm>
            <a:off x="1714680" y="164304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antener el or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 SBJ</cp:lastModifiedBy>
  <dcterms:modified xsi:type="dcterms:W3CDTF">2011-10-17T12:09:20Z</dcterms:modified>
  <cp:revision>35</cp:revision>
  <dc:subject/>
  <dc:title>EL63A-Taller de Proyecto en Control II</dc:title>
</cp:coreProperties>
</file>