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4246-5D97-43D9-80FA-69D72E3F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C713-6870-4423-899E-F4CCBB1D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CEF0-BDED-46B9-B9AF-298479D2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DB2B-254F-4C81-8087-781E4B2A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0A63-69B5-4576-AD0E-5F54E4BF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7421-8E3C-4953-B046-D615A491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5CC1-71C7-4C29-800A-039C12B5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4599-823D-436A-B837-00D1CB2E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482D-F905-4E94-82B1-79E4C0DC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6495-E483-42D3-9665-72840F0A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8E2C-FBC0-4F7D-84F2-3BFC62A3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7918-0726-4998-AA10-EAA88327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130E-D532-43E0-8D39-43791C9F279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bastián Barrios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Diseñar Para … (DPx)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ver 7.4 lib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755640" y="1268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siderar la mayor cantidad de aspectos posi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900000" y="2349360"/>
            <a:ext cx="302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Funcio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nsamb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Man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bien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995640" y="2360520"/>
            <a:ext cx="3961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r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r econó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r amigable con el med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¿Qué hace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0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3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4" descr=""/>
          <p:cNvPicPr/>
          <p:nvPr/>
        </p:nvPicPr>
        <p:blipFill>
          <a:blip r:embed="rId2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24000" y="1960560"/>
            <a:ext cx="3024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3276720" y="2492280"/>
            <a:ext cx="142920" cy="1368360"/>
          </a:xfrm>
          <a:custGeom>
            <a:avLst/>
            <a:gdLst>
              <a:gd name="textAreaLeft" fmla="*/ 0 w 142920"/>
              <a:gd name="textAreaRight" fmla="*/ 514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495600" y="2909880"/>
            <a:ext cx="21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Proyec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(Estructu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5796000" y="2492280"/>
            <a:ext cx="217440" cy="2087640"/>
          </a:xfrm>
          <a:custGeom>
            <a:avLst/>
            <a:gdLst>
              <a:gd name="textAreaLeft" fmla="*/ 0 w 217440"/>
              <a:gd name="textAreaRight" fmla="*/ 78480 w 2174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6014880" y="328464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Proyec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(Brazo H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403280" y="4653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ara 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 flipV="1">
            <a:off x="2987640" y="3933360"/>
            <a:ext cx="129708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716360" y="5445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ara o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 flipV="1">
            <a:off x="6443640" y="4292640"/>
            <a:ext cx="36036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981000"/>
            <a:ext cx="302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3527280" y="13413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Para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3528000" y="226224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3530160" y="2987640"/>
            <a:ext cx="44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Con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En qué condicion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3529080" y="4149720"/>
            <a:ext cx="23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Cuá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31"/>
          <p:cNvSpPr/>
          <p:nvPr/>
        </p:nvSpPr>
        <p:spPr>
          <a:xfrm>
            <a:off x="688320" y="1773360"/>
            <a:ext cx="645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DIO en un Proceso 11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cíclico (proceso iter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00440" y="1268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313920" y="2133720"/>
            <a:ext cx="694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20% Nota de clases (Asistencia, Tar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428040" y="2781360"/>
            <a:ext cx="40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80% Nota de Proyec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1432080" y="3989520"/>
            <a:ext cx="723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Ingeniería -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1047960" y="5157720"/>
            <a:ext cx="30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Co-eval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900000" y="1773360"/>
          <a:ext cx="7417080" cy="359712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8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, a las presentaciones y a </a:t>
                      </a:r>
                      <a:r>
                        <a:rPr b="0" lang="es-MX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lgunas cátedras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95280" y="1052640"/>
          <a:ext cx="8424720" cy="474012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474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6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, 2 atrasos se consideraran como una inasistencia. Retirarse antes del fin del taller sin autorización puede significar  una inasistencia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39640" y="333360"/>
          <a:ext cx="8569440" cy="570384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 SBJ</cp:lastModifiedBy>
  <dcterms:modified xsi:type="dcterms:W3CDTF">2011-10-14T18:07:21Z</dcterms:modified>
  <cp:revision>33</cp:revision>
  <dc:subject/>
  <dc:title>EL63A-Taller de Proyecto en Control II</dc:title>
</cp:coreProperties>
</file>