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3F-661B-492B-9452-80474F0F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628-36E3-47DB-903C-1D7355AB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F98-8C71-468E-BB2D-248D2251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DD9-E283-4DB0-94A7-FA28855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28E-EC77-4BBE-80E8-BDB579F9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5F6-E8AB-40CA-880B-7DBC54CA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1E8-C5E1-40EA-9174-D2DD2C5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A5B-8F7D-48D1-A6B5-BCA3DB17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A5B-F93E-46F7-B6F7-E265371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229-D088-4A09-97C6-8F18D8B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236-5501-4EFE-BAB8-01B99FD3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F25-8E1C-474B-9BC0-0270DBA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4752-BABD-4D04-ABCE-2012AADBDC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1"/>
          <p:cNvSpPr/>
          <p:nvPr/>
        </p:nvSpPr>
        <p:spPr>
          <a:xfrm>
            <a:off x="688320" y="177336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1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28040" y="278136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432080" y="3989520"/>
            <a:ext cx="72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8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4T18:07:21Z</dcterms:modified>
  <cp:revision>33</cp:revision>
  <dc:subject/>
  <dc:title>EL63A-Taller de Proyecto en Control II</dc:title>
</cp:coreProperties>
</file>