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E85-EC3A-49F6-AA51-D1EA56B1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45F-2AB0-4211-B459-061E5439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030-1CED-47C6-8674-E8DF65B3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8C7-957A-43C8-86EC-93E6BE37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9B0-3A6F-475F-A0D7-F591F27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94A-DE2F-450C-BBFE-D487C070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F40-2309-445A-A245-C8F72802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D30-435A-4D7B-81C9-ECCB1F89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5B0-6291-4BE8-BF28-C681D3CA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C73-326D-4276-9645-FD969632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9E7-6E85-4DD1-9C86-276AAE40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155-5A8B-431D-9137-C167994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3191-184D-490E-A3DF-6ECD543E79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2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1"/>
          <p:cNvSpPr/>
          <p:nvPr/>
        </p:nvSpPr>
        <p:spPr>
          <a:xfrm>
            <a:off x="688320" y="177336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1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28040" y="2781360"/>
            <a:ext cx="40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432080" y="3989520"/>
            <a:ext cx="72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8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4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4T18:07:21Z</dcterms:modified>
  <cp:revision>33</cp:revision>
  <dc:subject/>
  <dc:title>EL63A-Taller de Proyecto en Control II</dc:title>
</cp:coreProperties>
</file>